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288588" cy="7239000"/>
  <p:notesSz cx="9752013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D5A-3D21-4209-AFFB-B2443F89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35924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2FC-3AF0-48CE-BF36-BE9DF849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605-A46F-43B0-A021-1F7CE189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A64-7284-4A4F-84F0-E11869B3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6E9-73EA-418C-B32B-95381284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4E7-6730-4C88-AF73-FA711A47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CFE-414D-4909-8D0A-27E66FD6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8B5-003C-4D0D-9212-69347BD5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42600"/>
            <a:ext cx="87440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29B-EC6C-4C48-AD13-A348C065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B63-98C5-4910-88D8-A24F432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572-B266-405B-A9C7-5B878D2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273-2D51-4772-BFA7-43D3FA4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Angsana New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1" marL="776160" indent="-298440">
              <a:spcBef>
                <a:spcPts val="825"/>
              </a:spcBef>
              <a:buClr>
                <a:srgbClr val="000000"/>
              </a:buClr>
              <a:buFont typeface="Angsana New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2" marL="119556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3" marL="167328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4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5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6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78B62CF-2F7E-43CF-A223-58A580B576E7}" type="slidenum">
              <a:rPr b="0" lang="en-US" sz="27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080" y="338040"/>
            <a:ext cx="9407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</a:t>
            </a:r>
            <a:endParaRPr b="0" lang="en-US" sz="4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ระดับประถมศึกษา  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ป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๑ 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๖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4213080" y="4008600"/>
            <a:ext cx="1820880" cy="185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4371840" y="194328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7048440" y="468648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1735200" y="476244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6" name=""/>
          <p:cNvCxnSpPr>
            <a:stCxn id="43" idx="4"/>
            <a:endCxn id="42" idx="0"/>
          </p:cNvCxnSpPr>
          <p:nvPr/>
        </p:nvCxnSpPr>
        <p:spPr>
          <a:xfrm flipH="1">
            <a:off x="5123520" y="3454560"/>
            <a:ext cx="4320" cy="554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5" idx="6"/>
            <a:endCxn id="42" idx="2"/>
          </p:cNvCxnSpPr>
          <p:nvPr/>
        </p:nvCxnSpPr>
        <p:spPr>
          <a:xfrm flipV="1">
            <a:off x="3246480" y="4934160"/>
            <a:ext cx="966960" cy="584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4" idx="2"/>
            <a:endCxn id="42" idx="6"/>
          </p:cNvCxnSpPr>
          <p:nvPr/>
        </p:nvCxnSpPr>
        <p:spPr>
          <a:xfrm flipH="1" flipV="1">
            <a:off x="6033960" y="4934160"/>
            <a:ext cx="1014840" cy="508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9317520" y="190440"/>
            <a:ext cx="4147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"/>
          <p:cNvSpPr/>
          <p:nvPr/>
        </p:nvSpPr>
        <p:spPr>
          <a:xfrm>
            <a:off x="9314640" y="190440"/>
            <a:ext cx="4222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๒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478880" y="182520"/>
            <a:ext cx="7329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สงฆ์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77640" y="1028880"/>
            <a:ext cx="9609480" cy="5750640"/>
            <a:chOff x="377640" y="1028880"/>
            <a:chExt cx="9609480" cy="5750640"/>
          </a:xfrm>
        </p:grpSpPr>
        <p:sp>
          <p:nvSpPr>
            <p:cNvPr id="546" name=""/>
            <p:cNvSpPr/>
            <p:nvPr/>
          </p:nvSpPr>
          <p:spPr>
            <a:xfrm>
              <a:off x="4941720" y="2629080"/>
              <a:ext cx="1322640" cy="132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</a:rPr>
                <a:t>พระสงฆ์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84640" y="2441520"/>
              <a:ext cx="944640" cy="87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หน้าที่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3160" y="2503440"/>
              <a:ext cx="915840" cy="89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ศาสนพิธ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43680" y="1028880"/>
              <a:ext cx="914400" cy="89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ุทธ</a:t>
              </a: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สาว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19840" y="4457880"/>
              <a:ext cx="963720" cy="909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ตัวอย่า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13840" y="1301760"/>
              <a:ext cx="14205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สามเณรบัณฑิต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76840" y="5829480"/>
              <a:ext cx="17035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พระบาทสมเด็จพระเจ้าอยู่หัว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ภูมิพลอดุลยเดช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78840" y="5830920"/>
              <a:ext cx="2055600" cy="9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เจ้าพระยาสุธรรมมนตรี 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( </a:t>
              </a: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หนูพร้อม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( </a:t>
              </a: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อานิสงส์ของการสวดมนต์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37280" y="2882880"/>
              <a:ext cx="204984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</a:rPr>
                <a:t>การปฏิบัติตนต่อ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</a:rPr>
                <a:t>ศาสนวัตถุ   ศาสนสถา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75440" y="2517840"/>
              <a:ext cx="18212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การบูชาพระรัตนตรัย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67160" y="4403880"/>
              <a:ext cx="914400" cy="89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มรรยาท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47680" y="4398840"/>
              <a:ext cx="10717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พนมมือ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03440" y="5253120"/>
              <a:ext cx="723960" cy="484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ฝึกปฏิบัติ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97000" y="2330280"/>
              <a:ext cx="1708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รู้อานิสงส์การสวดมนต์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81160" y="2712960"/>
              <a:ext cx="18000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การช่วยเหลือบำรุงรักษาวั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7200" y="3051000"/>
              <a:ext cx="2417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การแสดงตนเป็นพุทธมามกะ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0480" y="5680080"/>
              <a:ext cx="17971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มรรยาทในการสนทนา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10840" y="4599000"/>
              <a:ext cx="7408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ไหว้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7640" y="5967360"/>
              <a:ext cx="19663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มรรยาทในการปฏิบัติตน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98200" y="5398920"/>
              <a:ext cx="13597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ลุกขึ้นยืนรับ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66" name=""/>
            <p:cNvCxnSpPr>
              <a:stCxn id="547" idx="2"/>
              <a:endCxn id="559" idx="3"/>
            </p:cNvCxnSpPr>
            <p:nvPr/>
          </p:nvCxnSpPr>
          <p:spPr>
            <a:xfrm rot="10800000">
              <a:off x="2904480" y="2499480"/>
              <a:ext cx="361080" cy="381960"/>
            </a:xfrm>
            <a:prstGeom prst="bentConnector3">
              <a:avLst>
                <a:gd name="adj1" fmla="val 471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7" name=""/>
            <p:cNvCxnSpPr>
              <a:stCxn id="547" idx="2"/>
              <a:endCxn id="561" idx="3"/>
            </p:cNvCxnSpPr>
            <p:nvPr/>
          </p:nvCxnSpPr>
          <p:spPr>
            <a:xfrm flipV="1" rot="10800000">
              <a:off x="2901240" y="2880360"/>
              <a:ext cx="364320" cy="340200"/>
            </a:xfrm>
            <a:prstGeom prst="bentConnector3">
              <a:avLst>
                <a:gd name="adj1" fmla="val 470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8" name=""/>
            <p:cNvCxnSpPr>
              <a:stCxn id="547" idx="2"/>
              <a:endCxn id="560" idx="3"/>
            </p:cNvCxnSpPr>
            <p:nvPr/>
          </p:nvCxnSpPr>
          <p:spPr>
            <a:xfrm flipV="1" rot="10800000">
              <a:off x="2980440" y="2881080"/>
              <a:ext cx="285120" cy="2160"/>
            </a:xfrm>
            <a:prstGeom prst="bentConnector3">
              <a:avLst>
                <a:gd name="adj1" fmla="val 4627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9" name=""/>
            <p:cNvCxnSpPr>
              <a:stCxn id="558" idx="1"/>
              <a:endCxn id="557" idx="3"/>
            </p:cNvCxnSpPr>
            <p:nvPr/>
          </p:nvCxnSpPr>
          <p:spPr>
            <a:xfrm rot="10800000">
              <a:off x="2080440" y="4560120"/>
              <a:ext cx="423000" cy="843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0" name=""/>
            <p:cNvCxnSpPr>
              <a:stCxn id="558" idx="1"/>
              <a:endCxn id="565" idx="3"/>
            </p:cNvCxnSpPr>
            <p:nvPr/>
          </p:nvCxnSpPr>
          <p:spPr>
            <a:xfrm flipV="1" rot="10800000">
              <a:off x="2079000" y="5403600"/>
              <a:ext cx="424440" cy="157680"/>
            </a:xfrm>
            <a:prstGeom prst="bentConnector3">
              <a:avLst>
                <a:gd name="adj1" fmla="val 497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1" name=""/>
            <p:cNvCxnSpPr>
              <a:stCxn id="558" idx="1"/>
              <a:endCxn id="562" idx="3"/>
            </p:cNvCxnSpPr>
            <p:nvPr/>
          </p:nvCxnSpPr>
          <p:spPr>
            <a:xfrm flipV="1" rot="10800000">
              <a:off x="2080440" y="5402880"/>
              <a:ext cx="423000" cy="438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2" name=""/>
            <p:cNvCxnSpPr>
              <a:stCxn id="558" idx="1"/>
              <a:endCxn id="564" idx="3"/>
            </p:cNvCxnSpPr>
            <p:nvPr/>
          </p:nvCxnSpPr>
          <p:spPr>
            <a:xfrm flipV="1" rot="10800000">
              <a:off x="2079000" y="5402880"/>
              <a:ext cx="424440" cy="726120"/>
            </a:xfrm>
            <a:prstGeom prst="bentConnector3">
              <a:avLst>
                <a:gd name="adj1" fmla="val 497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3" name=""/>
            <p:cNvCxnSpPr>
              <a:stCxn id="556" idx="4"/>
              <a:endCxn id="558" idx="3"/>
            </p:cNvCxnSpPr>
            <p:nvPr/>
          </p:nvCxnSpPr>
          <p:spPr>
            <a:xfrm rot="5400000">
              <a:off x="3530880" y="5010840"/>
              <a:ext cx="89640" cy="69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4" name=""/>
            <p:cNvCxnSpPr>
              <a:stCxn id="548" idx="6"/>
              <a:endCxn id="555" idx="1"/>
            </p:cNvCxnSpPr>
            <p:nvPr/>
          </p:nvCxnSpPr>
          <p:spPr>
            <a:xfrm flipV="1">
              <a:off x="7857720" y="2687400"/>
              <a:ext cx="361080" cy="265680"/>
            </a:xfrm>
            <a:prstGeom prst="bentConnector3">
              <a:avLst>
                <a:gd name="adj1" fmla="val 471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5" name=""/>
            <p:cNvCxnSpPr>
              <a:stCxn id="548" idx="6"/>
              <a:endCxn id="554" idx="1"/>
            </p:cNvCxnSpPr>
            <p:nvPr/>
          </p:nvCxnSpPr>
          <p:spPr>
            <a:xfrm>
              <a:off x="7857720" y="2952360"/>
              <a:ext cx="361080" cy="222840"/>
            </a:xfrm>
            <a:prstGeom prst="bentConnector3">
              <a:avLst>
                <a:gd name="adj1" fmla="val 471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6" name=""/>
            <p:cNvCxnSpPr>
              <a:stCxn id="550" idx="4"/>
              <a:endCxn id="552" idx="0"/>
            </p:cNvCxnSpPr>
            <p:nvPr/>
          </p:nvCxnSpPr>
          <p:spPr>
            <a:xfrm rot="5400000">
              <a:off x="6693840" y="5221080"/>
              <a:ext cx="443880" cy="774000"/>
            </a:xfrm>
            <a:prstGeom prst="bentConnector3">
              <a:avLst>
                <a:gd name="adj1" fmla="val 476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7" name=""/>
            <p:cNvCxnSpPr>
              <a:stCxn id="550" idx="4"/>
              <a:endCxn id="553" idx="0"/>
            </p:cNvCxnSpPr>
            <p:nvPr/>
          </p:nvCxnSpPr>
          <p:spPr>
            <a:xfrm flipH="1" rot="16200000">
              <a:off x="7581600" y="5105880"/>
              <a:ext cx="445320" cy="1005480"/>
            </a:xfrm>
            <a:prstGeom prst="bentConnector3">
              <a:avLst>
                <a:gd name="adj1" fmla="val 478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8" name=""/>
            <p:cNvCxnSpPr>
              <a:stCxn id="549" idx="2"/>
              <a:endCxn id="551" idx="3"/>
            </p:cNvCxnSpPr>
            <p:nvPr/>
          </p:nvCxnSpPr>
          <p:spPr>
            <a:xfrm flipH="1" flipV="1">
              <a:off x="4134960" y="1470960"/>
              <a:ext cx="9900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9" name=""/>
            <p:cNvCxnSpPr>
              <a:stCxn id="563" idx="3"/>
              <a:endCxn id="558" idx="1"/>
            </p:cNvCxnSpPr>
            <p:nvPr/>
          </p:nvCxnSpPr>
          <p:spPr>
            <a:xfrm>
              <a:off x="2084400" y="4761000"/>
              <a:ext cx="419760" cy="64332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0" name=""/>
            <p:cNvSpPr/>
            <p:nvPr/>
          </p:nvSpPr>
          <p:spPr>
            <a:xfrm>
              <a:off x="1308960" y="4840200"/>
              <a:ext cx="8780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กราบ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81" name=""/>
            <p:cNvCxnSpPr>
              <a:stCxn id="558" idx="1"/>
              <a:endCxn id="580" idx="3"/>
            </p:cNvCxnSpPr>
            <p:nvPr/>
          </p:nvCxnSpPr>
          <p:spPr>
            <a:xfrm rot="10800000">
              <a:off x="2080440" y="5001480"/>
              <a:ext cx="423000" cy="402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2" name=""/>
            <p:cNvSpPr/>
            <p:nvPr/>
          </p:nvSpPr>
          <p:spPr>
            <a:xfrm>
              <a:off x="1466280" y="5081760"/>
              <a:ext cx="6966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นั่ง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83" name=""/>
            <p:cNvCxnSpPr>
              <a:stCxn id="582" idx="3"/>
              <a:endCxn id="558" idx="1"/>
            </p:cNvCxnSpPr>
            <p:nvPr/>
          </p:nvCxnSpPr>
          <p:spPr>
            <a:xfrm>
              <a:off x="2080800" y="5243400"/>
              <a:ext cx="423000" cy="161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4" name=""/>
            <p:cNvCxnSpPr>
              <a:stCxn id="546" idx="0"/>
              <a:endCxn id="549" idx="4"/>
            </p:cNvCxnSpPr>
            <p:nvPr/>
          </p:nvCxnSpPr>
          <p:spPr>
            <a:xfrm flipH="1" flipV="1">
              <a:off x="5600520" y="1944720"/>
              <a:ext cx="3600" cy="665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5" name=""/>
            <p:cNvCxnSpPr>
              <a:stCxn id="546" idx="2"/>
              <a:endCxn id="547" idx="6"/>
            </p:cNvCxnSpPr>
            <p:nvPr/>
          </p:nvCxnSpPr>
          <p:spPr>
            <a:xfrm flipH="1" flipV="1">
              <a:off x="4247280" y="2880720"/>
              <a:ext cx="675720" cy="408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6" name=""/>
            <p:cNvCxnSpPr>
              <a:stCxn id="546" idx="6"/>
              <a:endCxn id="548" idx="2"/>
            </p:cNvCxnSpPr>
            <p:nvPr/>
          </p:nvCxnSpPr>
          <p:spPr>
            <a:xfrm flipV="1">
              <a:off x="6283440" y="2952000"/>
              <a:ext cx="621000" cy="337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7" name=""/>
            <p:cNvCxnSpPr>
              <a:stCxn id="550" idx="1"/>
              <a:endCxn id="546" idx="5"/>
            </p:cNvCxnSpPr>
            <p:nvPr/>
          </p:nvCxnSpPr>
          <p:spPr>
            <a:xfrm flipH="1" flipV="1">
              <a:off x="6070320" y="3774600"/>
              <a:ext cx="891360" cy="797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8" name=""/>
            <p:cNvCxnSpPr>
              <a:stCxn id="556" idx="7"/>
              <a:endCxn id="546" idx="3"/>
            </p:cNvCxnSpPr>
            <p:nvPr/>
          </p:nvCxnSpPr>
          <p:spPr>
            <a:xfrm flipV="1">
              <a:off x="4247640" y="3774240"/>
              <a:ext cx="888120" cy="740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89" name=""/>
          <p:cNvSpPr/>
          <p:nvPr/>
        </p:nvSpPr>
        <p:spPr>
          <a:xfrm>
            <a:off x="9320760" y="190440"/>
            <a:ext cx="4100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"/>
          <p:cNvSpPr/>
          <p:nvPr/>
        </p:nvSpPr>
        <p:spPr>
          <a:xfrm>
            <a:off x="932220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476440" y="3086280"/>
            <a:ext cx="126684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"/>
          <p:cNvSpPr/>
          <p:nvPr/>
        </p:nvSpPr>
        <p:spPr>
          <a:xfrm>
            <a:off x="4076640" y="3009960"/>
            <a:ext cx="1371600" cy="827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3848040"/>
            <a:ext cx="800280" cy="69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พระไตรปิฎ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"/>
          <p:cNvSpPr/>
          <p:nvPr/>
        </p:nvSpPr>
        <p:spPr>
          <a:xfrm>
            <a:off x="5128560" y="5057640"/>
            <a:ext cx="14954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แนะนำ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7" name=""/>
          <p:cNvSpPr/>
          <p:nvPr/>
        </p:nvSpPr>
        <p:spPr>
          <a:xfrm>
            <a:off x="5038200" y="5421240"/>
            <a:ext cx="1923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"/>
          <p:cNvSpPr/>
          <p:nvPr/>
        </p:nvSpPr>
        <p:spPr>
          <a:xfrm>
            <a:off x="6515280" y="5149800"/>
            <a:ext cx="77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อริย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"/>
          <p:cNvSpPr/>
          <p:nvPr/>
        </p:nvSpPr>
        <p:spPr>
          <a:xfrm>
            <a:off x="6591240" y="4838760"/>
            <a:ext cx="63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ผู้วิเศษ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0" name=""/>
          <p:cNvSpPr/>
          <p:nvPr/>
        </p:nvSpPr>
        <p:spPr>
          <a:xfrm>
            <a:off x="3238560" y="3848040"/>
            <a:ext cx="81432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พุทธศาส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สุภาษ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1" name=""/>
          <p:cNvSpPr/>
          <p:nvPr/>
        </p:nvSpPr>
        <p:spPr>
          <a:xfrm>
            <a:off x="5972040" y="3848040"/>
            <a:ext cx="1000440" cy="8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2" name=""/>
          <p:cNvSpPr/>
          <p:nvPr/>
        </p:nvSpPr>
        <p:spPr>
          <a:xfrm>
            <a:off x="3467160" y="4838760"/>
            <a:ext cx="18288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 New"/>
              </a:rPr>
              <a:t>นิมิตฺตํ  สาธุรูปานํ  </a:t>
            </a: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กตญฺญูกตเวทิต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ความกตัญญูกตเวท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เป็นเครื่องหมายของคนด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5448240"/>
            <a:ext cx="169056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ฺรหฺมาติ  มาตาปิตโ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มารดา  บิดาเป็นพรหมของบุ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4" name=""/>
          <p:cNvSpPr/>
          <p:nvPr/>
        </p:nvSpPr>
        <p:spPr>
          <a:xfrm>
            <a:off x="99360" y="5230800"/>
            <a:ext cx="774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5" name=""/>
          <p:cNvSpPr/>
          <p:nvPr/>
        </p:nvSpPr>
        <p:spPr>
          <a:xfrm>
            <a:off x="129240" y="4686480"/>
            <a:ext cx="72396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6" name=""/>
          <p:cNvSpPr/>
          <p:nvPr/>
        </p:nvSpPr>
        <p:spPr>
          <a:xfrm>
            <a:off x="1080000" y="4686480"/>
            <a:ext cx="86436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7" name=""/>
          <p:cNvSpPr/>
          <p:nvPr/>
        </p:nvSpPr>
        <p:spPr>
          <a:xfrm>
            <a:off x="2034720" y="4686480"/>
            <a:ext cx="124092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ำจิต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8" name=""/>
          <p:cNvSpPr/>
          <p:nvPr/>
        </p:nvSpPr>
        <p:spPr>
          <a:xfrm>
            <a:off x="2724120" y="600084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สวดมนต์ไหว้พระและแผ่เมตต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9" name=""/>
          <p:cNvSpPr/>
          <p:nvPr/>
        </p:nvSpPr>
        <p:spPr>
          <a:xfrm>
            <a:off x="2714760" y="6200640"/>
            <a:ext cx="2038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ู้ความหมายและประโยชน์ของสติและ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มาธ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0" name=""/>
          <p:cNvSpPr/>
          <p:nvPr/>
        </p:nvSpPr>
        <p:spPr>
          <a:xfrm>
            <a:off x="2558520" y="6419880"/>
            <a:ext cx="12042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สมาธิเบื้องต้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1" name=""/>
          <p:cNvSpPr/>
          <p:nvPr/>
        </p:nvSpPr>
        <p:spPr>
          <a:xfrm>
            <a:off x="2724120" y="6630840"/>
            <a:ext cx="27399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สมาธิเบื้องต้นด้วยกิจกรรมการเคลื่อนไหวอย่างมีสต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2" name=""/>
          <p:cNvSpPr/>
          <p:nvPr/>
        </p:nvSpPr>
        <p:spPr>
          <a:xfrm>
            <a:off x="2724120" y="6840360"/>
            <a:ext cx="3273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ให้มีสมาธิในการฟัง การอ่าน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คิด การถามและการเขีย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3" name=""/>
          <p:cNvSpPr/>
          <p:nvPr/>
        </p:nvSpPr>
        <p:spPr>
          <a:xfrm>
            <a:off x="723960" y="3848040"/>
            <a:ext cx="7920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2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โอวาท 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1028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 ชั้นประถมศึกษาปีที่  ๒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5" name=""/>
          <p:cNvSpPr/>
          <p:nvPr/>
        </p:nvSpPr>
        <p:spPr>
          <a:xfrm>
            <a:off x="925560" y="5143680"/>
            <a:ext cx="9284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บญจ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6" name=""/>
          <p:cNvSpPr/>
          <p:nvPr/>
        </p:nvSpPr>
        <p:spPr>
          <a:xfrm>
            <a:off x="934200" y="5611680"/>
            <a:ext cx="9878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สังคหวัตถุ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7" name=""/>
          <p:cNvSpPr/>
          <p:nvPr/>
        </p:nvSpPr>
        <p:spPr>
          <a:xfrm>
            <a:off x="921960" y="5859360"/>
            <a:ext cx="11646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ฆราวาสธรรม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8" name=""/>
          <p:cNvSpPr/>
          <p:nvPr/>
        </p:nvSpPr>
        <p:spPr>
          <a:xfrm>
            <a:off x="981720" y="5981760"/>
            <a:ext cx="8035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 u="sng">
                <a:solidFill>
                  <a:srgbClr val="000000"/>
                </a:solidFill>
                <a:uFillTx/>
                <a:latin typeface="Angsana New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9" name=""/>
          <p:cNvSpPr/>
          <p:nvPr/>
        </p:nvSpPr>
        <p:spPr>
          <a:xfrm>
            <a:off x="1347840" y="6210360"/>
            <a:ext cx="6922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ตัญญู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0" name=""/>
          <p:cNvSpPr/>
          <p:nvPr/>
        </p:nvSpPr>
        <p:spPr>
          <a:xfrm>
            <a:off x="1438200" y="6429240"/>
            <a:ext cx="1295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งเคราะห์ญาติพี่น้อง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1" name=""/>
          <p:cNvSpPr/>
          <p:nvPr/>
        </p:nvSpPr>
        <p:spPr>
          <a:xfrm>
            <a:off x="928800" y="5376960"/>
            <a:ext cx="11174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หิริ 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โอตตัปป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2" name=""/>
          <p:cNvSpPr/>
          <p:nvPr/>
        </p:nvSpPr>
        <p:spPr>
          <a:xfrm>
            <a:off x="-89280" y="5981760"/>
            <a:ext cx="11264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ตัญญูกตเวท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่อครู อาจารย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และโรงเรีย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"/>
          <p:cNvSpPr/>
          <p:nvPr/>
        </p:nvSpPr>
        <p:spPr>
          <a:xfrm>
            <a:off x="5849280" y="5676840"/>
            <a:ext cx="14954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วิธีปฏิบัติเมื่อถูกว่าร้า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24" name=""/>
          <p:cNvCxnSpPr>
            <a:stCxn id="593" idx="4"/>
            <a:endCxn id="613" idx="0"/>
          </p:cNvCxnSpPr>
          <p:nvPr/>
        </p:nvCxnSpPr>
        <p:spPr>
          <a:xfrm rot="5400000">
            <a:off x="1984680" y="2723040"/>
            <a:ext cx="261000" cy="199008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593" idx="4"/>
            <a:endCxn id="600" idx="0"/>
          </p:cNvCxnSpPr>
          <p:nvPr/>
        </p:nvCxnSpPr>
        <p:spPr>
          <a:xfrm flipH="1" rot="16200000">
            <a:off x="3247920" y="3449520"/>
            <a:ext cx="261000" cy="53676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593" idx="4"/>
            <a:endCxn id="595" idx="0"/>
          </p:cNvCxnSpPr>
          <p:nvPr/>
        </p:nvCxnSpPr>
        <p:spPr>
          <a:xfrm flipH="1" rot="16200000">
            <a:off x="4024080" y="2672280"/>
            <a:ext cx="261000" cy="209124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593" idx="4"/>
            <a:endCxn id="601" idx="0"/>
          </p:cNvCxnSpPr>
          <p:nvPr/>
        </p:nvCxnSpPr>
        <p:spPr>
          <a:xfrm flipH="1" rot="16200000">
            <a:off x="4659840" y="2036520"/>
            <a:ext cx="261000" cy="336276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8" name=""/>
          <p:cNvSpPr/>
          <p:nvPr/>
        </p:nvSpPr>
        <p:spPr>
          <a:xfrm>
            <a:off x="2124000" y="5219640"/>
            <a:ext cx="1067040" cy="53352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29" name=""/>
          <p:cNvCxnSpPr>
            <a:stCxn id="613" idx="4"/>
            <a:endCxn id="605" idx="0"/>
          </p:cNvCxnSpPr>
          <p:nvPr/>
        </p:nvCxnSpPr>
        <p:spPr>
          <a:xfrm rot="5400000">
            <a:off x="691560" y="4257720"/>
            <a:ext cx="229320" cy="62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0" name=""/>
          <p:cNvCxnSpPr>
            <a:stCxn id="613" idx="4"/>
            <a:endCxn id="606" idx="0"/>
          </p:cNvCxnSpPr>
          <p:nvPr/>
        </p:nvCxnSpPr>
        <p:spPr>
          <a:xfrm flipH="1" rot="16200000">
            <a:off x="1201320" y="4375800"/>
            <a:ext cx="229320" cy="392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1" name=""/>
          <p:cNvCxnSpPr>
            <a:stCxn id="613" idx="4"/>
            <a:endCxn id="607" idx="0"/>
          </p:cNvCxnSpPr>
          <p:nvPr/>
        </p:nvCxnSpPr>
        <p:spPr>
          <a:xfrm flipH="1" rot="16200000">
            <a:off x="1773720" y="3804120"/>
            <a:ext cx="229320" cy="153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2" name=""/>
          <p:cNvCxnSpPr>
            <a:stCxn id="605" idx="2"/>
            <a:endCxn id="604" idx="0"/>
          </p:cNvCxnSpPr>
          <p:nvPr/>
        </p:nvCxnSpPr>
        <p:spPr>
          <a:xfrm flipH="1">
            <a:off x="486720" y="5003280"/>
            <a:ext cx="540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952560" y="52959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"/>
          <p:cNvSpPr/>
          <p:nvPr/>
        </p:nvSpPr>
        <p:spPr>
          <a:xfrm>
            <a:off x="952560" y="61340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"/>
          <p:cNvSpPr/>
          <p:nvPr/>
        </p:nvSpPr>
        <p:spPr>
          <a:xfrm>
            <a:off x="876240" y="61340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"/>
          <p:cNvSpPr/>
          <p:nvPr/>
        </p:nvSpPr>
        <p:spPr>
          <a:xfrm>
            <a:off x="95256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"/>
          <p:cNvSpPr/>
          <p:nvPr/>
        </p:nvSpPr>
        <p:spPr>
          <a:xfrm>
            <a:off x="952560" y="5753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8" name=""/>
          <p:cNvSpPr/>
          <p:nvPr/>
        </p:nvSpPr>
        <p:spPr>
          <a:xfrm>
            <a:off x="952560" y="5524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9" name=""/>
          <p:cNvSpPr/>
          <p:nvPr/>
        </p:nvSpPr>
        <p:spPr>
          <a:xfrm>
            <a:off x="952560" y="52959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40" name=""/>
          <p:cNvCxnSpPr>
            <a:stCxn id="606" idx="1"/>
            <a:endCxn id="633" idx="0"/>
          </p:cNvCxnSpPr>
          <p:nvPr/>
        </p:nvCxnSpPr>
        <p:spPr>
          <a:xfrm flipV="1" rot="10800000">
            <a:off x="951840" y="4843800"/>
            <a:ext cx="229320" cy="4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18" idx="2"/>
            <a:endCxn id="619" idx="1"/>
          </p:cNvCxnSpPr>
          <p:nvPr/>
        </p:nvCxnSpPr>
        <p:spPr>
          <a:xfrm flipH="1" rot="16200000">
            <a:off x="1373760" y="6285240"/>
            <a:ext cx="83160" cy="62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2" name=""/>
          <p:cNvCxnSpPr/>
          <p:nvPr/>
        </p:nvCxnSpPr>
        <p:spPr>
          <a:xfrm flipH="1" rot="16200000">
            <a:off x="1258920" y="6399000"/>
            <a:ext cx="311760" cy="6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3" name=""/>
          <p:cNvGrpSpPr/>
          <p:nvPr/>
        </p:nvGrpSpPr>
        <p:grpSpPr>
          <a:xfrm>
            <a:off x="2657520" y="6134040"/>
            <a:ext cx="76320" cy="838440"/>
            <a:chOff x="2657520" y="6134040"/>
            <a:chExt cx="76320" cy="838440"/>
          </a:xfrm>
        </p:grpSpPr>
        <p:sp>
          <p:nvSpPr>
            <p:cNvPr id="644" name=""/>
            <p:cNvSpPr/>
            <p:nvPr/>
          </p:nvSpPr>
          <p:spPr>
            <a:xfrm>
              <a:off x="2657520" y="6134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57520" y="6972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57520" y="6762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57520" y="6553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657520" y="6334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57520" y="6134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650" name=""/>
          <p:cNvCxnSpPr>
            <a:stCxn id="628" idx="2"/>
            <a:endCxn id="644" idx="0"/>
          </p:cNvCxnSpPr>
          <p:nvPr/>
        </p:nvCxnSpPr>
        <p:spPr>
          <a:xfrm flipV="1" rot="10800000">
            <a:off x="2656800" y="575280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07" idx="2"/>
            <a:endCxn id="628" idx="0"/>
          </p:cNvCxnSpPr>
          <p:nvPr/>
        </p:nvCxnSpPr>
        <p:spPr>
          <a:xfrm>
            <a:off x="2655360" y="5003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>
            <a:stCxn id="600" idx="3"/>
            <a:endCxn id="602" idx="1"/>
          </p:cNvCxnSpPr>
          <p:nvPr/>
        </p:nvCxnSpPr>
        <p:spPr>
          <a:xfrm flipH="1" rot="16200000">
            <a:off x="3067200" y="4755960"/>
            <a:ext cx="691200" cy="110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00" idx="3"/>
            <a:endCxn id="603" idx="1"/>
          </p:cNvCxnSpPr>
          <p:nvPr/>
        </p:nvCxnSpPr>
        <p:spPr>
          <a:xfrm flipH="1" rot="16200000">
            <a:off x="2806920" y="5016240"/>
            <a:ext cx="1211760" cy="110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595" idx="4"/>
            <a:endCxn id="596" idx="1"/>
          </p:cNvCxnSpPr>
          <p:nvPr/>
        </p:nvCxnSpPr>
        <p:spPr>
          <a:xfrm flipH="1" rot="16200000">
            <a:off x="4914720" y="4831200"/>
            <a:ext cx="66564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/>
          <p:nvPr/>
        </p:nvCxnSpPr>
        <p:spPr>
          <a:xfrm flipH="1" rot="16200000">
            <a:off x="4732920" y="5038560"/>
            <a:ext cx="102960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597" idx="2"/>
            <a:endCxn id="623" idx="1"/>
          </p:cNvCxnSpPr>
          <p:nvPr/>
        </p:nvCxnSpPr>
        <p:spPr>
          <a:xfrm flipH="1" rot="16200000">
            <a:off x="5985000" y="5744160"/>
            <a:ext cx="87840" cy="57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01" idx="4"/>
            <a:endCxn id="599" idx="1"/>
          </p:cNvCxnSpPr>
          <p:nvPr/>
        </p:nvCxnSpPr>
        <p:spPr>
          <a:xfrm flipH="1" rot="16200000">
            <a:off x="6368760" y="4754880"/>
            <a:ext cx="3243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8" name=""/>
          <p:cNvCxnSpPr>
            <a:stCxn id="601" idx="4"/>
            <a:endCxn id="598" idx="1"/>
          </p:cNvCxnSpPr>
          <p:nvPr/>
        </p:nvCxnSpPr>
        <p:spPr>
          <a:xfrm flipH="1" rot="16200000">
            <a:off x="6213240" y="4910760"/>
            <a:ext cx="6357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9" name=""/>
          <p:cNvSpPr/>
          <p:nvPr/>
        </p:nvSpPr>
        <p:spPr>
          <a:xfrm>
            <a:off x="5788080" y="3009960"/>
            <a:ext cx="110808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0" name=""/>
          <p:cNvSpPr/>
          <p:nvPr/>
        </p:nvSpPr>
        <p:spPr>
          <a:xfrm>
            <a:off x="7277040" y="1179360"/>
            <a:ext cx="635040" cy="61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หน้าที่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1" name=""/>
          <p:cNvSpPr/>
          <p:nvPr/>
        </p:nvSpPr>
        <p:spPr>
          <a:xfrm>
            <a:off x="7277040" y="3848040"/>
            <a:ext cx="6192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ศาสนพิธ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2" name=""/>
          <p:cNvSpPr/>
          <p:nvPr/>
        </p:nvSpPr>
        <p:spPr>
          <a:xfrm>
            <a:off x="7277040" y="419040"/>
            <a:ext cx="63360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3" name=""/>
          <p:cNvSpPr/>
          <p:nvPr/>
        </p:nvSpPr>
        <p:spPr>
          <a:xfrm>
            <a:off x="7277040" y="2781360"/>
            <a:ext cx="631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ตัวอย่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552600"/>
            <a:ext cx="80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สามเณรราหุ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5" name=""/>
          <p:cNvSpPr/>
          <p:nvPr/>
        </p:nvSpPr>
        <p:spPr>
          <a:xfrm>
            <a:off x="8445600" y="4324320"/>
            <a:ext cx="11174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สมเด็จพระญาณสังว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ศุข   ไก่เถื่อน 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6" name=""/>
          <p:cNvSpPr/>
          <p:nvPr/>
        </p:nvSpPr>
        <p:spPr>
          <a:xfrm>
            <a:off x="8119080" y="4756320"/>
            <a:ext cx="2432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มเด็จพระญาณสังว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มเด็จพระสังฆราช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เจริญ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ุวฑฺฒโน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7" name=""/>
          <p:cNvSpPr/>
          <p:nvPr/>
        </p:nvSpPr>
        <p:spPr>
          <a:xfrm>
            <a:off x="7639200" y="5133960"/>
            <a:ext cx="1380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ระเบียบพิธีการ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8" name=""/>
          <p:cNvSpPr/>
          <p:nvPr/>
        </p:nvSpPr>
        <p:spPr>
          <a:xfrm>
            <a:off x="7615080" y="5499000"/>
            <a:ext cx="14115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ทำบุญตักบา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9" name=""/>
          <p:cNvSpPr/>
          <p:nvPr/>
        </p:nvSpPr>
        <p:spPr>
          <a:xfrm>
            <a:off x="7277040" y="2011320"/>
            <a:ext cx="630360" cy="569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มรรยาท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0" name=""/>
          <p:cNvSpPr/>
          <p:nvPr/>
        </p:nvSpPr>
        <p:spPr>
          <a:xfrm>
            <a:off x="8420040" y="800280"/>
            <a:ext cx="160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ปฏิบัติตนอย่างเหมาะส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่อ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1" name=""/>
          <p:cNvSpPr/>
          <p:nvPr/>
        </p:nvSpPr>
        <p:spPr>
          <a:xfrm>
            <a:off x="8421840" y="1181160"/>
            <a:ext cx="12873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ทำบุญให้ท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2" name=""/>
          <p:cNvSpPr/>
          <p:nvPr/>
        </p:nvSpPr>
        <p:spPr>
          <a:xfrm>
            <a:off x="8420040" y="1409760"/>
            <a:ext cx="1751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รู้จักสนทนาและการปฏิบัติตนต่อพระภิกษ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3" name=""/>
          <p:cNvSpPr/>
          <p:nvPr/>
        </p:nvSpPr>
        <p:spPr>
          <a:xfrm>
            <a:off x="8648280" y="3540240"/>
            <a:ext cx="173304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ปฏิบัติตนเมื่ออยู่ในวัด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และพุทธสถ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4" name=""/>
          <p:cNvSpPr/>
          <p:nvPr/>
        </p:nvSpPr>
        <p:spPr>
          <a:xfrm>
            <a:off x="8420040" y="1790640"/>
            <a:ext cx="1676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5" name=""/>
          <p:cNvSpPr/>
          <p:nvPr/>
        </p:nvSpPr>
        <p:spPr>
          <a:xfrm>
            <a:off x="7601400" y="5721480"/>
            <a:ext cx="1612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การปฏิบัติตนต่อ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ศาสนวัตถุ ศาสนสถ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8767800" y="2400480"/>
            <a:ext cx="8931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พนมมือ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8742600" y="3352680"/>
            <a:ext cx="10958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สำรวมระวั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8822880" y="2600280"/>
            <a:ext cx="6310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ไหว้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8719920" y="3160800"/>
            <a:ext cx="11448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ยืน  การเดิ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8791560" y="2793960"/>
            <a:ext cx="7408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กราบ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8811000" y="2981160"/>
            <a:ext cx="5961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นั่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8647920" y="3905280"/>
            <a:ext cx="1682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ร่วมพิธีกรรมเบื้องต้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3" name=""/>
          <p:cNvSpPr/>
          <p:nvPr/>
        </p:nvSpPr>
        <p:spPr>
          <a:xfrm>
            <a:off x="8175600" y="2144880"/>
            <a:ext cx="800280" cy="294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ฝึ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809200" y="2533680"/>
            <a:ext cx="75960" cy="1523880"/>
            <a:chOff x="8809200" y="2533680"/>
            <a:chExt cx="75960" cy="1523880"/>
          </a:xfrm>
        </p:grpSpPr>
        <p:sp>
          <p:nvSpPr>
            <p:cNvPr id="685" name=""/>
            <p:cNvSpPr/>
            <p:nvPr/>
          </p:nvSpPr>
          <p:spPr>
            <a:xfrm>
              <a:off x="8809200" y="25336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809200" y="4057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809200" y="3676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809200" y="348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09200" y="32954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80920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809200" y="2933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09200" y="2733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809200" y="2533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694" name=""/>
          <p:cNvCxnSpPr>
            <a:stCxn id="659" idx="6"/>
            <a:endCxn id="662" idx="2"/>
          </p:cNvCxnSpPr>
          <p:nvPr/>
        </p:nvCxnSpPr>
        <p:spPr>
          <a:xfrm flipV="1">
            <a:off x="6914880" y="701280"/>
            <a:ext cx="362520" cy="255024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5" name=""/>
          <p:cNvCxnSpPr>
            <a:stCxn id="659" idx="6"/>
            <a:endCxn id="660" idx="2"/>
          </p:cNvCxnSpPr>
          <p:nvPr/>
        </p:nvCxnSpPr>
        <p:spPr>
          <a:xfrm flipV="1">
            <a:off x="6914880" y="1488240"/>
            <a:ext cx="362520" cy="176292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59" idx="6"/>
            <a:endCxn id="669" idx="2"/>
          </p:cNvCxnSpPr>
          <p:nvPr/>
        </p:nvCxnSpPr>
        <p:spPr>
          <a:xfrm flipV="1">
            <a:off x="6914880" y="2296800"/>
            <a:ext cx="362520" cy="95472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59" idx="6"/>
            <a:endCxn id="663" idx="2"/>
          </p:cNvCxnSpPr>
          <p:nvPr/>
        </p:nvCxnSpPr>
        <p:spPr>
          <a:xfrm flipV="1">
            <a:off x="6914880" y="3085920"/>
            <a:ext cx="362520" cy="16560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59" idx="6"/>
            <a:endCxn id="661" idx="2"/>
          </p:cNvCxnSpPr>
          <p:nvPr/>
        </p:nvCxnSpPr>
        <p:spPr>
          <a:xfrm>
            <a:off x="6914880" y="3251160"/>
            <a:ext cx="362520" cy="89280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69" idx="6"/>
            <a:endCxn id="683" idx="1"/>
          </p:cNvCxnSpPr>
          <p:nvPr/>
        </p:nvCxnSpPr>
        <p:spPr>
          <a:xfrm>
            <a:off x="7907040" y="2296800"/>
            <a:ext cx="36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0" name=""/>
          <p:cNvCxnSpPr>
            <a:stCxn id="663" idx="6"/>
            <a:endCxn id="665" idx="1"/>
          </p:cNvCxnSpPr>
          <p:nvPr/>
        </p:nvCxnSpPr>
        <p:spPr>
          <a:xfrm>
            <a:off x="7908480" y="3085920"/>
            <a:ext cx="537480" cy="143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1" name=""/>
          <p:cNvCxnSpPr>
            <a:stCxn id="663" idx="6"/>
            <a:endCxn id="666" idx="1"/>
          </p:cNvCxnSpPr>
          <p:nvPr/>
        </p:nvCxnSpPr>
        <p:spPr>
          <a:xfrm>
            <a:off x="7908480" y="3085920"/>
            <a:ext cx="545400" cy="1864440"/>
          </a:xfrm>
          <a:prstGeom prst="bentConnector3">
            <a:avLst>
              <a:gd name="adj1" fmla="val 498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661" idx="4"/>
            <a:endCxn id="667" idx="1"/>
          </p:cNvCxnSpPr>
          <p:nvPr/>
        </p:nvCxnSpPr>
        <p:spPr>
          <a:xfrm flipH="1" rot="16200000">
            <a:off x="7246800" y="4776120"/>
            <a:ext cx="90396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3" name=""/>
          <p:cNvCxnSpPr>
            <a:stCxn id="661" idx="4"/>
            <a:endCxn id="675" idx="1"/>
          </p:cNvCxnSpPr>
          <p:nvPr/>
        </p:nvCxnSpPr>
        <p:spPr>
          <a:xfrm flipH="1" rot="16200000">
            <a:off x="6953040" y="5069880"/>
            <a:ext cx="149148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61" idx="4"/>
            <a:endCxn id="668" idx="1"/>
          </p:cNvCxnSpPr>
          <p:nvPr/>
        </p:nvCxnSpPr>
        <p:spPr>
          <a:xfrm flipH="1" rot="16200000">
            <a:off x="7103880" y="4919040"/>
            <a:ext cx="118980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5" name=""/>
          <p:cNvSpPr/>
          <p:nvPr/>
        </p:nvSpPr>
        <p:spPr>
          <a:xfrm>
            <a:off x="2247840" y="876240"/>
            <a:ext cx="7128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6" name=""/>
          <p:cNvSpPr/>
          <p:nvPr/>
        </p:nvSpPr>
        <p:spPr>
          <a:xfrm>
            <a:off x="4124160" y="1943280"/>
            <a:ext cx="126684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7" name=""/>
          <p:cNvSpPr/>
          <p:nvPr/>
        </p:nvSpPr>
        <p:spPr>
          <a:xfrm>
            <a:off x="2247840" y="1657440"/>
            <a:ext cx="712800" cy="58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8" name=""/>
          <p:cNvSpPr/>
          <p:nvPr/>
        </p:nvSpPr>
        <p:spPr>
          <a:xfrm>
            <a:off x="1169640" y="1801800"/>
            <a:ext cx="8611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รุณ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9" name=""/>
          <p:cNvSpPr/>
          <p:nvPr/>
        </p:nvSpPr>
        <p:spPr>
          <a:xfrm>
            <a:off x="951120" y="2019240"/>
            <a:ext cx="10807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านรินท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0" name=""/>
          <p:cNvSpPr/>
          <p:nvPr/>
        </p:nvSpPr>
        <p:spPr>
          <a:xfrm>
            <a:off x="410760" y="390600"/>
            <a:ext cx="624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เหตุการณ์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หลังประสู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11" name=""/>
          <p:cNvCxnSpPr>
            <a:stCxn id="706" idx="2"/>
            <a:endCxn id="707" idx="6"/>
          </p:cNvCxnSpPr>
          <p:nvPr/>
        </p:nvCxnSpPr>
        <p:spPr>
          <a:xfrm rot="10800000">
            <a:off x="2959920" y="1950480"/>
            <a:ext cx="1145520" cy="234000"/>
          </a:xfrm>
          <a:prstGeom prst="bentConnector3">
            <a:avLst>
              <a:gd name="adj1" fmla="val 490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2" name=""/>
          <p:cNvCxnSpPr>
            <a:stCxn id="707" idx="2"/>
            <a:endCxn id="708" idx="3"/>
          </p:cNvCxnSpPr>
          <p:nvPr/>
        </p:nvCxnSpPr>
        <p:spPr>
          <a:xfrm rot="10800000">
            <a:off x="1920240" y="1948680"/>
            <a:ext cx="327600" cy="252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07" idx="2"/>
            <a:endCxn id="709" idx="3"/>
          </p:cNvCxnSpPr>
          <p:nvPr/>
        </p:nvCxnSpPr>
        <p:spPr>
          <a:xfrm flipV="1" rot="10800000">
            <a:off x="1904400" y="1950120"/>
            <a:ext cx="343440" cy="21636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4" name=""/>
          <p:cNvSpPr/>
          <p:nvPr/>
        </p:nvSpPr>
        <p:spPr>
          <a:xfrm>
            <a:off x="3772080" y="723960"/>
            <a:ext cx="949320" cy="88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ป็นเอกลักษณ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ของชาติไทย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15" name=""/>
          <p:cNvCxnSpPr>
            <a:stCxn id="706" idx="2"/>
            <a:endCxn id="705" idx="6"/>
          </p:cNvCxnSpPr>
          <p:nvPr/>
        </p:nvCxnSpPr>
        <p:spPr>
          <a:xfrm rot="10800000">
            <a:off x="2959920" y="1164600"/>
            <a:ext cx="1145520" cy="1019880"/>
          </a:xfrm>
          <a:prstGeom prst="bentConnector3">
            <a:avLst>
              <a:gd name="adj1" fmla="val 490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6" name=""/>
          <p:cNvCxnSpPr>
            <a:stCxn id="717" idx="1"/>
            <a:endCxn id="710" idx="3"/>
          </p:cNvCxnSpPr>
          <p:nvPr/>
        </p:nvCxnSpPr>
        <p:spPr>
          <a:xfrm flipH="1">
            <a:off x="951840" y="56628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2193840" y="2390760"/>
            <a:ext cx="777960" cy="6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างพระ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19" name=""/>
          <p:cNvCxnSpPr>
            <a:stCxn id="706" idx="2"/>
            <a:endCxn id="718" idx="6"/>
          </p:cNvCxnSpPr>
          <p:nvPr/>
        </p:nvCxnSpPr>
        <p:spPr>
          <a:xfrm flipV="1" rot="10800000">
            <a:off x="2971080" y="2184120"/>
            <a:ext cx="1134360" cy="550080"/>
          </a:xfrm>
          <a:prstGeom prst="bentConnector3">
            <a:avLst>
              <a:gd name="adj1" fmla="val 4914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0" name=""/>
          <p:cNvSpPr/>
          <p:nvPr/>
        </p:nvSpPr>
        <p:spPr>
          <a:xfrm>
            <a:off x="816840" y="2482920"/>
            <a:ext cx="1454040" cy="49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ระวัติเบื้องต้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21" name=""/>
          <p:cNvCxnSpPr>
            <a:stCxn id="718" idx="2"/>
            <a:endCxn id="720" idx="3"/>
          </p:cNvCxnSpPr>
          <p:nvPr/>
        </p:nvCxnSpPr>
        <p:spPr>
          <a:xfrm flipH="1">
            <a:off x="2077560" y="2733480"/>
            <a:ext cx="116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2" name=""/>
          <p:cNvSpPr/>
          <p:nvPr/>
        </p:nvSpPr>
        <p:spPr>
          <a:xfrm>
            <a:off x="1225800" y="876240"/>
            <a:ext cx="8139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ศึกษ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3" name=""/>
          <p:cNvSpPr/>
          <p:nvPr/>
        </p:nvSpPr>
        <p:spPr>
          <a:xfrm>
            <a:off x="1244520" y="1333440"/>
            <a:ext cx="7592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เทวทูต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4" name=""/>
          <p:cNvSpPr/>
          <p:nvPr/>
        </p:nvSpPr>
        <p:spPr>
          <a:xfrm>
            <a:off x="968400" y="1562040"/>
            <a:ext cx="1105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อกผนวช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25" name=""/>
          <p:cNvCxnSpPr>
            <a:stCxn id="705" idx="2"/>
            <a:endCxn id="722" idx="3"/>
          </p:cNvCxnSpPr>
          <p:nvPr/>
        </p:nvCxnSpPr>
        <p:spPr>
          <a:xfrm rot="10800000">
            <a:off x="1937520" y="1023120"/>
            <a:ext cx="310320" cy="14220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6" name=""/>
          <p:cNvCxnSpPr>
            <a:stCxn id="705" idx="2"/>
            <a:endCxn id="723" idx="3"/>
          </p:cNvCxnSpPr>
          <p:nvPr/>
        </p:nvCxnSpPr>
        <p:spPr>
          <a:xfrm flipV="1" rot="10800000">
            <a:off x="1924920" y="1165320"/>
            <a:ext cx="322920" cy="295560"/>
          </a:xfrm>
          <a:prstGeom prst="bentConnector3">
            <a:avLst>
              <a:gd name="adj1" fmla="val 496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05" idx="2"/>
            <a:endCxn id="724" idx="3"/>
          </p:cNvCxnSpPr>
          <p:nvPr/>
        </p:nvCxnSpPr>
        <p:spPr>
          <a:xfrm flipV="1" rot="10800000">
            <a:off x="1931400" y="1164960"/>
            <a:ext cx="316440" cy="545040"/>
          </a:xfrm>
          <a:prstGeom prst="bentConnector3">
            <a:avLst>
              <a:gd name="adj1" fmla="val 496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115560" y="2247840"/>
            <a:ext cx="896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9" name=""/>
          <p:cNvSpPr/>
          <p:nvPr/>
        </p:nvSpPr>
        <p:spPr>
          <a:xfrm>
            <a:off x="57240" y="2473200"/>
            <a:ext cx="9619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0" name=""/>
          <p:cNvSpPr/>
          <p:nvPr/>
        </p:nvSpPr>
        <p:spPr>
          <a:xfrm>
            <a:off x="20160" y="2671920"/>
            <a:ext cx="1013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1" name=""/>
          <p:cNvSpPr/>
          <p:nvPr/>
        </p:nvSpPr>
        <p:spPr>
          <a:xfrm>
            <a:off x="-110160" y="2874960"/>
            <a:ext cx="11584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32" name=""/>
          <p:cNvCxnSpPr>
            <a:stCxn id="720" idx="1"/>
            <a:endCxn id="728" idx="3"/>
          </p:cNvCxnSpPr>
          <p:nvPr/>
        </p:nvCxnSpPr>
        <p:spPr>
          <a:xfrm rot="10800000">
            <a:off x="918360" y="2394720"/>
            <a:ext cx="91440" cy="339120"/>
          </a:xfrm>
          <a:prstGeom prst="bentConnector3">
            <a:avLst>
              <a:gd name="adj1" fmla="val 4901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0" idx="1"/>
            <a:endCxn id="729" idx="3"/>
          </p:cNvCxnSpPr>
          <p:nvPr/>
        </p:nvCxnSpPr>
        <p:spPr>
          <a:xfrm rot="10800000">
            <a:off x="916920" y="2620080"/>
            <a:ext cx="92880" cy="113760"/>
          </a:xfrm>
          <a:prstGeom prst="bentConnector3">
            <a:avLst>
              <a:gd name="adj1" fmla="val 498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20" idx="1"/>
            <a:endCxn id="730" idx="3"/>
          </p:cNvCxnSpPr>
          <p:nvPr/>
        </p:nvCxnSpPr>
        <p:spPr>
          <a:xfrm flipV="1" rot="10800000">
            <a:off x="916920" y="2733480"/>
            <a:ext cx="92880" cy="86400"/>
          </a:xfrm>
          <a:prstGeom prst="bentConnector3">
            <a:avLst>
              <a:gd name="adj1" fmla="val 498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5" name=""/>
          <p:cNvCxnSpPr>
            <a:stCxn id="720" idx="1"/>
            <a:endCxn id="731" idx="3"/>
          </p:cNvCxnSpPr>
          <p:nvPr/>
        </p:nvCxnSpPr>
        <p:spPr>
          <a:xfrm flipV="1" rot="10800000">
            <a:off x="918360" y="2733480"/>
            <a:ext cx="91440" cy="289440"/>
          </a:xfrm>
          <a:prstGeom prst="bentConnector3">
            <a:avLst>
              <a:gd name="adj1" fmla="val 4901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7" name=""/>
          <p:cNvSpPr/>
          <p:nvPr/>
        </p:nvSpPr>
        <p:spPr>
          <a:xfrm>
            <a:off x="1359360" y="419040"/>
            <a:ext cx="628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 u="sng">
                <a:solidFill>
                  <a:srgbClr val="000000"/>
                </a:solidFill>
                <a:uFillTx/>
                <a:latin typeface="Angsana New"/>
              </a:rPr>
              <a:t>ประสู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36" name=""/>
          <p:cNvCxnSpPr>
            <a:stCxn id="717" idx="3"/>
            <a:endCxn id="705" idx="2"/>
          </p:cNvCxnSpPr>
          <p:nvPr/>
        </p:nvCxnSpPr>
        <p:spPr>
          <a:xfrm>
            <a:off x="1933200" y="566280"/>
            <a:ext cx="315000" cy="599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839880" y="1116000"/>
            <a:ext cx="12560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ภิเษกสมรส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647640"/>
            <a:ext cx="9525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รกนาขวัญ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39" name=""/>
          <p:cNvCxnSpPr>
            <a:stCxn id="705" idx="2"/>
            <a:endCxn id="738" idx="3"/>
          </p:cNvCxnSpPr>
          <p:nvPr/>
        </p:nvCxnSpPr>
        <p:spPr>
          <a:xfrm rot="10800000">
            <a:off x="1928160" y="794520"/>
            <a:ext cx="319680" cy="37080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0" name=""/>
          <p:cNvCxnSpPr>
            <a:stCxn id="705" idx="2"/>
            <a:endCxn id="737" idx="3"/>
          </p:cNvCxnSpPr>
          <p:nvPr/>
        </p:nvCxnSpPr>
        <p:spPr>
          <a:xfrm flipV="1" rot="10800000">
            <a:off x="1932840" y="1164240"/>
            <a:ext cx="315000" cy="99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05" idx="2"/>
            <a:endCxn id="742" idx="3"/>
          </p:cNvCxnSpPr>
          <p:nvPr/>
        </p:nvCxnSpPr>
        <p:spPr>
          <a:xfrm rot="10800000">
            <a:off x="1939320" y="348480"/>
            <a:ext cx="30852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880560" y="201600"/>
            <a:ext cx="1193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รุปพุทธประว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43" name=""/>
          <p:cNvCxnSpPr>
            <a:stCxn id="706" idx="4"/>
            <a:endCxn id="594" idx="0"/>
          </p:cNvCxnSpPr>
          <p:nvPr/>
        </p:nvCxnSpPr>
        <p:spPr>
          <a:xfrm>
            <a:off x="4757400" y="2444760"/>
            <a:ext cx="5400" cy="53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593" idx="6"/>
            <a:endCxn id="594" idx="1"/>
          </p:cNvCxnSpPr>
          <p:nvPr/>
        </p:nvCxnSpPr>
        <p:spPr>
          <a:xfrm flipV="1">
            <a:off x="3762360" y="3268080"/>
            <a:ext cx="286560" cy="5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659" idx="2"/>
            <a:endCxn id="594" idx="3"/>
          </p:cNvCxnSpPr>
          <p:nvPr/>
        </p:nvCxnSpPr>
        <p:spPr>
          <a:xfrm flipH="1">
            <a:off x="5476320" y="3250800"/>
            <a:ext cx="292680" cy="1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683" idx="2"/>
            <a:endCxn id="685" idx="0"/>
          </p:cNvCxnSpPr>
          <p:nvPr/>
        </p:nvCxnSpPr>
        <p:spPr>
          <a:xfrm flipH="1" rot="16200000">
            <a:off x="8648640" y="2373840"/>
            <a:ext cx="86400" cy="234360"/>
          </a:xfrm>
          <a:prstGeom prst="bentConnector3">
            <a:avLst>
              <a:gd name="adj1" fmla="val 49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792468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8" name=""/>
          <p:cNvSpPr/>
          <p:nvPr/>
        </p:nvSpPr>
        <p:spPr>
          <a:xfrm>
            <a:off x="8381880" y="91440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9" name=""/>
          <p:cNvSpPr/>
          <p:nvPr/>
        </p:nvSpPr>
        <p:spPr>
          <a:xfrm>
            <a:off x="8381880" y="914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0" name=""/>
          <p:cNvSpPr/>
          <p:nvPr/>
        </p:nvSpPr>
        <p:spPr>
          <a:xfrm>
            <a:off x="8381880" y="1314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2" name=""/>
          <p:cNvSpPr/>
          <p:nvPr/>
        </p:nvSpPr>
        <p:spPr>
          <a:xfrm>
            <a:off x="8388360" y="1555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3" name=""/>
          <p:cNvSpPr/>
          <p:nvPr/>
        </p:nvSpPr>
        <p:spPr>
          <a:xfrm>
            <a:off x="8388360" y="1936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4" name=""/>
          <p:cNvSpPr/>
          <p:nvPr/>
        </p:nvSpPr>
        <p:spPr>
          <a:xfrm>
            <a:off x="932220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55" name=""/>
          <p:cNvCxnSpPr>
            <a:stCxn id="714" idx="2"/>
            <a:endCxn id="706" idx="2"/>
          </p:cNvCxnSpPr>
          <p:nvPr/>
        </p:nvCxnSpPr>
        <p:spPr>
          <a:xfrm flipH="1" flipV="1" rot="10800000">
            <a:off x="3771720" y="1165680"/>
            <a:ext cx="334080" cy="1018440"/>
          </a:xfrm>
          <a:prstGeom prst="bentConnector3">
            <a:avLst>
              <a:gd name="adj1" fmla="val -685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8" name=""/>
          <p:cNvSpPr/>
          <p:nvPr/>
        </p:nvSpPr>
        <p:spPr>
          <a:xfrm>
            <a:off x="9325440" y="190440"/>
            <a:ext cx="4024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057400" y="76212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0" name=""/>
          <p:cNvSpPr/>
          <p:nvPr/>
        </p:nvSpPr>
        <p:spPr>
          <a:xfrm>
            <a:off x="4389480" y="280044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1" name=""/>
          <p:cNvSpPr/>
          <p:nvPr/>
        </p:nvSpPr>
        <p:spPr>
          <a:xfrm>
            <a:off x="4492800" y="876240"/>
            <a:ext cx="1260360" cy="1273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2" name=""/>
          <p:cNvSpPr/>
          <p:nvPr/>
        </p:nvSpPr>
        <p:spPr>
          <a:xfrm>
            <a:off x="4438800" y="4991040"/>
            <a:ext cx="1371600" cy="13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น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สำคัญ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63" name=""/>
          <p:cNvCxnSpPr>
            <a:stCxn id="762" idx="0"/>
            <a:endCxn id="760" idx="4"/>
          </p:cNvCxnSpPr>
          <p:nvPr/>
        </p:nvCxnSpPr>
        <p:spPr>
          <a:xfrm flipH="1" flipV="1">
            <a:off x="5120640" y="4317120"/>
            <a:ext cx="3960" cy="654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61" idx="4"/>
            <a:endCxn id="760" idx="0"/>
          </p:cNvCxnSpPr>
          <p:nvPr/>
        </p:nvCxnSpPr>
        <p:spPr>
          <a:xfrm flipH="1">
            <a:off x="5121000" y="2168280"/>
            <a:ext cx="2160" cy="60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5" name=""/>
          <p:cNvSpPr/>
          <p:nvPr/>
        </p:nvSpPr>
        <p:spPr>
          <a:xfrm>
            <a:off x="1444680" y="182520"/>
            <a:ext cx="739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  ชั้นประถมศึกษาปีที่ ๒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6" name=""/>
          <p:cNvSpPr/>
          <p:nvPr/>
        </p:nvSpPr>
        <p:spPr>
          <a:xfrm>
            <a:off x="2095560" y="2886120"/>
            <a:ext cx="1371600" cy="1324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67" name=""/>
          <p:cNvCxnSpPr>
            <a:stCxn id="766" idx="6"/>
            <a:endCxn id="760" idx="2"/>
          </p:cNvCxnSpPr>
          <p:nvPr/>
        </p:nvCxnSpPr>
        <p:spPr>
          <a:xfrm flipV="1">
            <a:off x="3486240" y="3544200"/>
            <a:ext cx="875520" cy="3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"/>
          <p:cNvSpPr/>
          <p:nvPr/>
        </p:nvSpPr>
        <p:spPr>
          <a:xfrm>
            <a:off x="8458200" y="5143680"/>
            <a:ext cx="1060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9" name=""/>
          <p:cNvSpPr/>
          <p:nvPr/>
        </p:nvSpPr>
        <p:spPr>
          <a:xfrm>
            <a:off x="8447040" y="5353200"/>
            <a:ext cx="114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0" name=""/>
          <p:cNvSpPr/>
          <p:nvPr/>
        </p:nvSpPr>
        <p:spPr>
          <a:xfrm>
            <a:off x="8427960" y="5562720"/>
            <a:ext cx="1205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วันอั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ฏ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ฐมี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1" name=""/>
          <p:cNvSpPr/>
          <p:nvPr/>
        </p:nvSpPr>
        <p:spPr>
          <a:xfrm>
            <a:off x="8412480" y="5772240"/>
            <a:ext cx="1382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2" name=""/>
          <p:cNvSpPr/>
          <p:nvPr/>
        </p:nvSpPr>
        <p:spPr>
          <a:xfrm>
            <a:off x="6067080" y="5197320"/>
            <a:ext cx="2120040" cy="826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ระวัติหลักเบื้องต้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และพิธีกรรมที่เกี่ยวเนื่อ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73" name=""/>
          <p:cNvCxnSpPr>
            <a:stCxn id="768" idx="1"/>
            <a:endCxn id="772" idx="3"/>
          </p:cNvCxnSpPr>
          <p:nvPr/>
        </p:nvCxnSpPr>
        <p:spPr>
          <a:xfrm flipV="1" rot="10800000">
            <a:off x="7890840" y="5312160"/>
            <a:ext cx="681840" cy="30420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69" idx="1"/>
            <a:endCxn id="772" idx="3"/>
          </p:cNvCxnSpPr>
          <p:nvPr/>
        </p:nvCxnSpPr>
        <p:spPr>
          <a:xfrm flipV="1" rot="10800000">
            <a:off x="7890840" y="5521680"/>
            <a:ext cx="681840" cy="9468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5" name=""/>
          <p:cNvCxnSpPr>
            <a:stCxn id="770" idx="1"/>
            <a:endCxn id="772" idx="3"/>
          </p:cNvCxnSpPr>
          <p:nvPr/>
        </p:nvCxnSpPr>
        <p:spPr>
          <a:xfrm rot="10800000">
            <a:off x="7890840" y="5616000"/>
            <a:ext cx="681840" cy="11664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stCxn id="771" idx="1"/>
            <a:endCxn id="772" idx="3"/>
          </p:cNvCxnSpPr>
          <p:nvPr/>
        </p:nvCxnSpPr>
        <p:spPr>
          <a:xfrm rot="10800000">
            <a:off x="7890840" y="5616000"/>
            <a:ext cx="681840" cy="32616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430920" y="3532320"/>
            <a:ext cx="1286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านรินท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8" name=""/>
          <p:cNvSpPr/>
          <p:nvPr/>
        </p:nvSpPr>
        <p:spPr>
          <a:xfrm>
            <a:off x="681480" y="3151080"/>
            <a:ext cx="1015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รุณ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79" name=""/>
          <p:cNvCxnSpPr>
            <a:stCxn id="766" idx="2"/>
            <a:endCxn id="778" idx="3"/>
          </p:cNvCxnSpPr>
          <p:nvPr/>
        </p:nvCxnSpPr>
        <p:spPr>
          <a:xfrm rot="10800000">
            <a:off x="1559880" y="3320280"/>
            <a:ext cx="516600" cy="227880"/>
          </a:xfrm>
          <a:prstGeom prst="bentConnector3">
            <a:avLst>
              <a:gd name="adj1" fmla="val 479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0" name=""/>
          <p:cNvCxnSpPr>
            <a:stCxn id="766" idx="2"/>
            <a:endCxn id="777" idx="3"/>
          </p:cNvCxnSpPr>
          <p:nvPr/>
        </p:nvCxnSpPr>
        <p:spPr>
          <a:xfrm flipV="1" rot="10800000">
            <a:off x="1559880" y="3547080"/>
            <a:ext cx="516600" cy="154440"/>
          </a:xfrm>
          <a:prstGeom prst="bentConnector3">
            <a:avLst>
              <a:gd name="adj1" fmla="val 479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62" idx="6"/>
            <a:endCxn id="772" idx="1"/>
          </p:cNvCxnSpPr>
          <p:nvPr/>
        </p:nvCxnSpPr>
        <p:spPr>
          <a:xfrm flipV="1">
            <a:off x="5829120" y="5616360"/>
            <a:ext cx="533880" cy="40320"/>
          </a:xfrm>
          <a:prstGeom prst="bentConnector3">
            <a:avLst>
              <a:gd name="adj1" fmla="val 481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1924200" y="793800"/>
            <a:ext cx="9334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เหตุการณ์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หลังประสู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3" name=""/>
          <p:cNvSpPr/>
          <p:nvPr/>
        </p:nvSpPr>
        <p:spPr>
          <a:xfrm>
            <a:off x="2915280" y="1360440"/>
            <a:ext cx="911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ศึกษ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4" name=""/>
          <p:cNvSpPr/>
          <p:nvPr/>
        </p:nvSpPr>
        <p:spPr>
          <a:xfrm>
            <a:off x="2951280" y="1822320"/>
            <a:ext cx="8492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เทวทูต ๔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5" name=""/>
          <p:cNvSpPr/>
          <p:nvPr/>
        </p:nvSpPr>
        <p:spPr>
          <a:xfrm>
            <a:off x="2614680" y="2046240"/>
            <a:ext cx="12513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ออกผนวช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6" name=""/>
          <p:cNvSpPr/>
          <p:nvPr/>
        </p:nvSpPr>
        <p:spPr>
          <a:xfrm>
            <a:off x="3086280" y="903240"/>
            <a:ext cx="6966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ะสู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7" name=""/>
          <p:cNvSpPr/>
          <p:nvPr/>
        </p:nvSpPr>
        <p:spPr>
          <a:xfrm>
            <a:off x="2464920" y="1600200"/>
            <a:ext cx="14238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อภิเษกสมรส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8" name=""/>
          <p:cNvSpPr/>
          <p:nvPr/>
        </p:nvSpPr>
        <p:spPr>
          <a:xfrm>
            <a:off x="2777400" y="1131840"/>
            <a:ext cx="10746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รกนาขวัญ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9" name=""/>
          <p:cNvSpPr/>
          <p:nvPr/>
        </p:nvSpPr>
        <p:spPr>
          <a:xfrm>
            <a:off x="2527560" y="685800"/>
            <a:ext cx="13521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สรุปพุทธประวั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90" name=""/>
          <p:cNvCxnSpPr>
            <a:stCxn id="761" idx="2"/>
            <a:endCxn id="789" idx="3"/>
          </p:cNvCxnSpPr>
          <p:nvPr/>
        </p:nvCxnSpPr>
        <p:spPr>
          <a:xfrm rot="10800000">
            <a:off x="3720240" y="847080"/>
            <a:ext cx="753480" cy="665640"/>
          </a:xfrm>
          <a:prstGeom prst="bentConnector3">
            <a:avLst>
              <a:gd name="adj1" fmla="val 487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1" name=""/>
          <p:cNvCxnSpPr>
            <a:stCxn id="761" idx="2"/>
            <a:endCxn id="786" idx="3"/>
          </p:cNvCxnSpPr>
          <p:nvPr/>
        </p:nvCxnSpPr>
        <p:spPr>
          <a:xfrm rot="10800000">
            <a:off x="3718800" y="1064520"/>
            <a:ext cx="754920" cy="448200"/>
          </a:xfrm>
          <a:prstGeom prst="bentConnector3">
            <a:avLst>
              <a:gd name="adj1" fmla="val 48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2" name=""/>
          <p:cNvCxnSpPr>
            <a:stCxn id="761" idx="2"/>
            <a:endCxn id="788" idx="3"/>
          </p:cNvCxnSpPr>
          <p:nvPr/>
        </p:nvCxnSpPr>
        <p:spPr>
          <a:xfrm rot="10800000">
            <a:off x="3707640" y="1293120"/>
            <a:ext cx="766080" cy="219600"/>
          </a:xfrm>
          <a:prstGeom prst="bentConnector3">
            <a:avLst>
              <a:gd name="adj1" fmla="val 48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"/>
          <p:cNvCxnSpPr>
            <a:stCxn id="761" idx="2"/>
            <a:endCxn id="783" idx="3"/>
          </p:cNvCxnSpPr>
          <p:nvPr/>
        </p:nvCxnSpPr>
        <p:spPr>
          <a:xfrm flipV="1" rot="10800000">
            <a:off x="3707640" y="1511640"/>
            <a:ext cx="766080" cy="10440"/>
          </a:xfrm>
          <a:prstGeom prst="bentConnector3">
            <a:avLst>
              <a:gd name="adj1" fmla="val 48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61" idx="2"/>
            <a:endCxn id="787" idx="3"/>
          </p:cNvCxnSpPr>
          <p:nvPr/>
        </p:nvCxnSpPr>
        <p:spPr>
          <a:xfrm flipV="1" rot="10800000">
            <a:off x="3698280" y="1511640"/>
            <a:ext cx="775440" cy="250200"/>
          </a:xfrm>
          <a:prstGeom prst="bentConnector3">
            <a:avLst>
              <a:gd name="adj1" fmla="val 487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61" idx="2"/>
            <a:endCxn id="784" idx="3"/>
          </p:cNvCxnSpPr>
          <p:nvPr/>
        </p:nvCxnSpPr>
        <p:spPr>
          <a:xfrm flipV="1" rot="10800000">
            <a:off x="3707640" y="1512360"/>
            <a:ext cx="766080" cy="450000"/>
          </a:xfrm>
          <a:prstGeom prst="bentConnector3">
            <a:avLst>
              <a:gd name="adj1" fmla="val 48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61" idx="2"/>
            <a:endCxn id="785" idx="3"/>
          </p:cNvCxnSpPr>
          <p:nvPr/>
        </p:nvCxnSpPr>
        <p:spPr>
          <a:xfrm flipV="1" rot="10800000">
            <a:off x="3698280" y="1512360"/>
            <a:ext cx="775440" cy="696240"/>
          </a:xfrm>
          <a:prstGeom prst="bentConnector3">
            <a:avLst>
              <a:gd name="adj1" fmla="val 487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97" name=""/>
          <p:cNvSpPr/>
          <p:nvPr/>
        </p:nvSpPr>
        <p:spPr>
          <a:xfrm>
            <a:off x="2743200" y="109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8" name=""/>
          <p:cNvSpPr/>
          <p:nvPr/>
        </p:nvSpPr>
        <p:spPr>
          <a:xfrm>
            <a:off x="9303840" y="190440"/>
            <a:ext cx="4438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9" name=""/>
          <p:cNvSpPr/>
          <p:nvPr/>
        </p:nvSpPr>
        <p:spPr>
          <a:xfrm>
            <a:off x="6743880" y="2895480"/>
            <a:ext cx="129528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เป็นเอกลักษณ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ของชาติไท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00" name=""/>
          <p:cNvCxnSpPr>
            <a:stCxn id="799" idx="2"/>
            <a:endCxn id="760" idx="6"/>
          </p:cNvCxnSpPr>
          <p:nvPr/>
        </p:nvCxnSpPr>
        <p:spPr>
          <a:xfrm flipH="1">
            <a:off x="5881320" y="3543480"/>
            <a:ext cx="8438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3" name=""/>
          <p:cNvSpPr/>
          <p:nvPr/>
        </p:nvSpPr>
        <p:spPr>
          <a:xfrm>
            <a:off x="9320040" y="190440"/>
            <a:ext cx="4118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250920" y="182520"/>
            <a:ext cx="9938160" cy="6565680"/>
            <a:chOff x="250920" y="182520"/>
            <a:chExt cx="9938160" cy="6565680"/>
          </a:xfrm>
        </p:grpSpPr>
        <p:sp>
          <p:nvSpPr>
            <p:cNvPr id="805" name=""/>
            <p:cNvSpPr/>
            <p:nvPr/>
          </p:nvSpPr>
          <p:spPr>
            <a:xfrm>
              <a:off x="3924360" y="2905200"/>
              <a:ext cx="1346040" cy="1338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</a:rPr>
                <a:t>พระธรรม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46400" y="4762440"/>
              <a:ext cx="109728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ไตรปิฎ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2280" y="6149880"/>
              <a:ext cx="167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แนะนำ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97160" y="6134040"/>
              <a:ext cx="21567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เรื่องน่ารู้จาก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24160" y="3022560"/>
              <a:ext cx="109692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พุทธศาสน</a:t>
              </a: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สุภาษิต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10" name=""/>
            <p:cNvCxnSpPr>
              <a:stCxn id="809" idx="4"/>
              <a:endCxn id="811" idx="3"/>
            </p:cNvCxnSpPr>
            <p:nvPr/>
          </p:nvCxnSpPr>
          <p:spPr>
            <a:xfrm rot="5400000">
              <a:off x="2512440" y="4314600"/>
              <a:ext cx="53748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2" name=""/>
            <p:cNvCxnSpPr>
              <a:stCxn id="809" idx="4"/>
              <a:endCxn id="813" idx="3"/>
            </p:cNvCxnSpPr>
            <p:nvPr/>
          </p:nvCxnSpPr>
          <p:spPr>
            <a:xfrm rot="5400000">
              <a:off x="2280600" y="4562280"/>
              <a:ext cx="1016640" cy="16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4" name=""/>
            <p:cNvSpPr/>
            <p:nvPr/>
          </p:nvSpPr>
          <p:spPr>
            <a:xfrm>
              <a:off x="1396080" y="182520"/>
              <a:ext cx="74952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</a:rPr>
                <a:t>ผังมโนทัศน์สาระการเรียนรู้พระธรรม  ชั้นประถมศึกษาปีที่ ๒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15" name=""/>
            <p:cNvCxnSpPr>
              <a:stCxn id="806" idx="0"/>
              <a:endCxn id="805" idx="4"/>
            </p:cNvCxnSpPr>
            <p:nvPr/>
          </p:nvCxnSpPr>
          <p:spPr>
            <a:xfrm flipV="1">
              <a:off x="4595400" y="4271400"/>
              <a:ext cx="2520" cy="471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6" name=""/>
            <p:cNvCxnSpPr>
              <a:stCxn id="805" idx="2"/>
              <a:endCxn id="809" idx="6"/>
            </p:cNvCxnSpPr>
            <p:nvPr/>
          </p:nvCxnSpPr>
          <p:spPr>
            <a:xfrm flipH="1" flipV="1">
              <a:off x="3439440" y="3571200"/>
              <a:ext cx="456120" cy="3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6422040" y="4533840"/>
              <a:ext cx="7088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ผู้วิเศษ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427800" y="4933800"/>
              <a:ext cx="8611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ะอริยะ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53160" y="3022560"/>
              <a:ext cx="109692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ศัพท์ทา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พุทธศาสนา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20" name=""/>
            <p:cNvCxnSpPr>
              <a:stCxn id="805" idx="6"/>
              <a:endCxn id="819" idx="2"/>
            </p:cNvCxnSpPr>
            <p:nvPr/>
          </p:nvCxnSpPr>
          <p:spPr>
            <a:xfrm flipV="1">
              <a:off x="5299200" y="3571200"/>
              <a:ext cx="435600" cy="3960"/>
            </a:xfrm>
            <a:prstGeom prst="bentConnector3">
              <a:avLst>
                <a:gd name="adj1" fmla="val 48883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821" name=""/>
            <p:cNvCxnSpPr>
              <a:stCxn id="819" idx="4"/>
              <a:endCxn id="818" idx="1"/>
            </p:cNvCxnSpPr>
            <p:nvPr/>
          </p:nvCxnSpPr>
          <p:spPr>
            <a:xfrm flipH="1" rot="16200000">
              <a:off x="5940360" y="4499280"/>
              <a:ext cx="935640" cy="213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9" idx="4"/>
              <a:endCxn id="817" idx="1"/>
            </p:cNvCxnSpPr>
            <p:nvPr/>
          </p:nvCxnSpPr>
          <p:spPr>
            <a:xfrm flipH="1" rot="16200000">
              <a:off x="6140520" y="4299480"/>
              <a:ext cx="535680" cy="213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3" name=""/>
            <p:cNvSpPr/>
            <p:nvPr/>
          </p:nvSpPr>
          <p:spPr>
            <a:xfrm>
              <a:off x="4046400" y="1257480"/>
              <a:ext cx="109728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โอวาท ๓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24" name=""/>
            <p:cNvCxnSpPr>
              <a:stCxn id="805" idx="0"/>
              <a:endCxn id="823" idx="4"/>
            </p:cNvCxnSpPr>
            <p:nvPr/>
          </p:nvCxnSpPr>
          <p:spPr>
            <a:xfrm flipH="1" flipV="1">
              <a:off x="4595040" y="2372760"/>
              <a:ext cx="2520" cy="503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25" name=""/>
            <p:cNvSpPr/>
            <p:nvPr/>
          </p:nvSpPr>
          <p:spPr>
            <a:xfrm>
              <a:off x="5050080" y="6438960"/>
              <a:ext cx="1720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วิธีปฏิบัติเมื่อถูกว่าร้าย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478280" y="685800"/>
              <a:ext cx="7743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บญจศีล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27" name=""/>
            <p:cNvCxnSpPr>
              <a:stCxn id="826" idx="1"/>
              <a:endCxn id="828" idx="3"/>
            </p:cNvCxnSpPr>
            <p:nvPr/>
          </p:nvCxnSpPr>
          <p:spPr>
            <a:xfrm flipH="1">
              <a:off x="7070400" y="833040"/>
              <a:ext cx="51192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9" name=""/>
            <p:cNvSpPr/>
            <p:nvPr/>
          </p:nvSpPr>
          <p:spPr>
            <a:xfrm>
              <a:off x="7459920" y="952560"/>
              <a:ext cx="9284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บญจธ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68200" y="1332000"/>
              <a:ext cx="9878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สังคหวัตถุ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55960" y="1584360"/>
              <a:ext cx="1164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ฆราวาสธรรม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98440" y="1928880"/>
              <a:ext cx="8035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มงคล ๓๘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56440" y="647640"/>
              <a:ext cx="920880" cy="370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</a:rPr>
                <a:t>ไม่ทำชั่ว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33" name=""/>
            <p:cNvCxnSpPr>
              <a:stCxn id="823" idx="6"/>
              <a:endCxn id="834" idx="1"/>
            </p:cNvCxnSpPr>
            <p:nvPr/>
          </p:nvCxnSpPr>
          <p:spPr>
            <a:xfrm flipV="1">
              <a:off x="5162400" y="1447920"/>
              <a:ext cx="1200960" cy="358920"/>
            </a:xfrm>
            <a:prstGeom prst="bentConnector3">
              <a:avLst>
                <a:gd name="adj1" fmla="val 4920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6215040" y="1257480"/>
              <a:ext cx="1095840" cy="370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</a:rPr>
                <a:t>ทำความดี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35" name=""/>
            <p:cNvCxnSpPr>
              <a:stCxn id="834" idx="3"/>
              <a:endCxn id="829" idx="1"/>
            </p:cNvCxnSpPr>
            <p:nvPr/>
          </p:nvCxnSpPr>
          <p:spPr>
            <a:xfrm flipV="1">
              <a:off x="7162920" y="1099800"/>
              <a:ext cx="419760" cy="34848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6" name=""/>
            <p:cNvCxnSpPr>
              <a:stCxn id="834" idx="3"/>
              <a:endCxn id="830" idx="1"/>
            </p:cNvCxnSpPr>
            <p:nvPr/>
          </p:nvCxnSpPr>
          <p:spPr>
            <a:xfrm>
              <a:off x="7162920" y="1447920"/>
              <a:ext cx="419760" cy="3240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7" name=""/>
            <p:cNvCxnSpPr>
              <a:stCxn id="834" idx="3"/>
              <a:endCxn id="831" idx="1"/>
            </p:cNvCxnSpPr>
            <p:nvPr/>
          </p:nvCxnSpPr>
          <p:spPr>
            <a:xfrm>
              <a:off x="7162920" y="1447920"/>
              <a:ext cx="419760" cy="26424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8" name=""/>
            <p:cNvCxnSpPr>
              <a:stCxn id="834" idx="3"/>
              <a:endCxn id="832" idx="1"/>
            </p:cNvCxnSpPr>
            <p:nvPr/>
          </p:nvCxnSpPr>
          <p:spPr>
            <a:xfrm>
              <a:off x="7162920" y="1447920"/>
              <a:ext cx="419760" cy="62928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9" name=""/>
            <p:cNvSpPr/>
            <p:nvPr/>
          </p:nvSpPr>
          <p:spPr>
            <a:xfrm>
              <a:off x="7940880" y="2220840"/>
              <a:ext cx="692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ตัญญู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43040" y="2249640"/>
              <a:ext cx="1612440" cy="370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</a:rPr>
                <a:t>ทำจิตให้บริสุทธิ์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41" name=""/>
            <p:cNvCxnSpPr>
              <a:stCxn id="823" idx="6"/>
              <a:endCxn id="840" idx="1"/>
            </p:cNvCxnSpPr>
            <p:nvPr/>
          </p:nvCxnSpPr>
          <p:spPr>
            <a:xfrm>
              <a:off x="5162400" y="1806480"/>
              <a:ext cx="1200960" cy="634320"/>
            </a:xfrm>
            <a:prstGeom prst="bentConnector3">
              <a:avLst>
                <a:gd name="adj1" fmla="val 492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23" idx="6"/>
              <a:endCxn id="828" idx="1"/>
            </p:cNvCxnSpPr>
            <p:nvPr/>
          </p:nvCxnSpPr>
          <p:spPr>
            <a:xfrm flipV="1">
              <a:off x="5162400" y="837720"/>
              <a:ext cx="1200960" cy="969120"/>
            </a:xfrm>
            <a:prstGeom prst="bentConnector3">
              <a:avLst>
                <a:gd name="adj1" fmla="val 4920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3" name=""/>
            <p:cNvSpPr/>
            <p:nvPr/>
          </p:nvSpPr>
          <p:spPr>
            <a:xfrm>
              <a:off x="7826760" y="2411280"/>
              <a:ext cx="15440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สงเคราะห์ญาติพี่น้อง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44" name=""/>
            <p:cNvCxnSpPr>
              <a:stCxn id="832" idx="2"/>
              <a:endCxn id="839" idx="1"/>
            </p:cNvCxnSpPr>
            <p:nvPr/>
          </p:nvCxnSpPr>
          <p:spPr>
            <a:xfrm flipH="1" rot="16200000">
              <a:off x="7896960" y="2225880"/>
              <a:ext cx="14652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32" idx="2"/>
              <a:endCxn id="843" idx="1"/>
            </p:cNvCxnSpPr>
            <p:nvPr/>
          </p:nvCxnSpPr>
          <p:spPr>
            <a:xfrm flipH="1" rot="16200000">
              <a:off x="7801920" y="2321280"/>
              <a:ext cx="33660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8035920" y="3249720"/>
              <a:ext cx="2153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วดมนต์ไหว้พระและแผ่เมตต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33480" y="3527280"/>
              <a:ext cx="16243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รู้ความหมายและประโยชน์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ของสติและสมาธ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72000" y="4003560"/>
              <a:ext cx="1109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มาธิเบื้องต้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35920" y="4281480"/>
              <a:ext cx="19368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มาธิเบื้องต้นด้วยกิจก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เคลื่อนไหวอย่างมี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68320" y="4757760"/>
              <a:ext cx="19645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ให้มีสมาธิในการฟัง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อ่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คิด การถาม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และ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เขีย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51" name=""/>
            <p:cNvCxnSpPr>
              <a:stCxn id="852" idx="3"/>
              <a:endCxn id="846" idx="1"/>
            </p:cNvCxnSpPr>
            <p:nvPr/>
          </p:nvCxnSpPr>
          <p:spPr>
            <a:xfrm flipV="1">
              <a:off x="8016480" y="3357360"/>
              <a:ext cx="329040" cy="403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52" idx="3"/>
              <a:endCxn id="847" idx="1"/>
            </p:cNvCxnSpPr>
            <p:nvPr/>
          </p:nvCxnSpPr>
          <p:spPr>
            <a:xfrm>
              <a:off x="8016480" y="3396960"/>
              <a:ext cx="329040" cy="3373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52" idx="3"/>
              <a:endCxn id="848" idx="1"/>
            </p:cNvCxnSpPr>
            <p:nvPr/>
          </p:nvCxnSpPr>
          <p:spPr>
            <a:xfrm>
              <a:off x="8016480" y="3397320"/>
              <a:ext cx="329040" cy="71496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52" idx="3"/>
              <a:endCxn id="849" idx="1"/>
            </p:cNvCxnSpPr>
            <p:nvPr/>
          </p:nvCxnSpPr>
          <p:spPr>
            <a:xfrm>
              <a:off x="8016480" y="3396960"/>
              <a:ext cx="329040" cy="109116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57" idx="3"/>
              <a:endCxn id="850" idx="1"/>
            </p:cNvCxnSpPr>
            <p:nvPr/>
          </p:nvCxnSpPr>
          <p:spPr>
            <a:xfrm>
              <a:off x="8038800" y="3398760"/>
              <a:ext cx="306720" cy="156600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8" name=""/>
            <p:cNvSpPr/>
            <p:nvPr/>
          </p:nvSpPr>
          <p:spPr>
            <a:xfrm>
              <a:off x="7463160" y="1122480"/>
              <a:ext cx="11174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หิริ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โอตตัปป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59" name=""/>
            <p:cNvCxnSpPr>
              <a:stCxn id="834" idx="3"/>
              <a:endCxn id="858" idx="1"/>
            </p:cNvCxnSpPr>
            <p:nvPr/>
          </p:nvCxnSpPr>
          <p:spPr>
            <a:xfrm flipV="1">
              <a:off x="7162920" y="1270080"/>
              <a:ext cx="419760" cy="17820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0" name=""/>
            <p:cNvSpPr/>
            <p:nvPr/>
          </p:nvSpPr>
          <p:spPr>
            <a:xfrm>
              <a:off x="7134840" y="1766880"/>
              <a:ext cx="29203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ตัญญูกตเวทีต่อครู อาจารย์  และโรงเรีย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61" name=""/>
            <p:cNvCxnSpPr>
              <a:stCxn id="834" idx="3"/>
              <a:endCxn id="860" idx="1"/>
            </p:cNvCxnSpPr>
            <p:nvPr/>
          </p:nvCxnSpPr>
          <p:spPr>
            <a:xfrm>
              <a:off x="7162920" y="1447920"/>
              <a:ext cx="419760" cy="46728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1" name=""/>
            <p:cNvSpPr/>
            <p:nvPr/>
          </p:nvSpPr>
          <p:spPr>
            <a:xfrm>
              <a:off x="250920" y="4435560"/>
              <a:ext cx="243828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นิมิตฺตํ  สาธุรูปานํ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กตญฺญูกตเวทิต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</a:rPr>
                <a:t>ความกตัญญูกตเวที  เป็นเครื่องหมายของคนดี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12680" y="4915080"/>
              <a:ext cx="16923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พฺรหฺมาติ  มาตาปิตโร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</a:rPr>
                <a:t>มารดาบิดาเป็นพรหมของบุตร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7025760" y="3094200"/>
              <a:ext cx="1123560" cy="609480"/>
              <a:chOff x="7025760" y="3094200"/>
              <a:chExt cx="1123560" cy="60948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5760" y="3137040"/>
                <a:ext cx="112356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7880" bIns="47880" anchor="t">
                <a:spAutoFit/>
              </a:bodyPr>
              <a:p>
                <a:pPr algn="ctr">
                  <a:tabLst>
                    <a:tab algn="l" pos="0"/>
                    <a:tab algn="l" pos="955800"/>
                    <a:tab algn="l" pos="1911240"/>
                    <a:tab algn="l" pos="2867040"/>
                    <a:tab algn="l" pos="3822840"/>
                    <a:tab algn="l" pos="4778280"/>
                    <a:tab algn="l" pos="5734080"/>
                    <a:tab algn="l" pos="6689880"/>
                    <a:tab algn="l" pos="7645320"/>
                    <a:tab algn="l" pos="8601120"/>
                    <a:tab algn="l" pos="9556920"/>
                    <a:tab algn="l" pos="10512360"/>
                  </a:tabLst>
                </a:pPr>
                <a:r>
                  <a:rPr b="0" lang="hi-IN" sz="1400" spc="-1" strike="noStrike">
                    <a:solidFill>
                      <a:srgbClr val="000000"/>
                    </a:solidFill>
                    <a:latin typeface="Angsana New"/>
                  </a:rPr>
                  <a:t>บริหารจิตและ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55800"/>
                    <a:tab algn="l" pos="1911240"/>
                    <a:tab algn="l" pos="2867040"/>
                    <a:tab algn="l" pos="3822840"/>
                    <a:tab algn="l" pos="4778280"/>
                    <a:tab algn="l" pos="5734080"/>
                    <a:tab algn="l" pos="6689880"/>
                    <a:tab algn="l" pos="7645320"/>
                    <a:tab algn="l" pos="8601120"/>
                    <a:tab algn="l" pos="9556920"/>
                    <a:tab algn="l" pos="10512360"/>
                  </a:tabLst>
                </a:pPr>
                <a:r>
                  <a:rPr b="0" lang="hi-IN" sz="1400" spc="-1" strike="noStrike">
                    <a:solidFill>
                      <a:srgbClr val="000000"/>
                    </a:solidFill>
                    <a:latin typeface="Angsana New"/>
                  </a:rPr>
                  <a:t>เจริญปัญญา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48440" y="3094200"/>
                <a:ext cx="990720" cy="609480"/>
              </a:xfrm>
              <a:prstGeom prst="hexagon">
                <a:avLst>
                  <a:gd name="adj" fmla="val 40638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cxnSp>
          <p:nvCxnSpPr>
            <p:cNvPr id="863" name=""/>
            <p:cNvCxnSpPr>
              <a:stCxn id="806" idx="4"/>
              <a:endCxn id="807" idx="0"/>
            </p:cNvCxnSpPr>
            <p:nvPr/>
          </p:nvCxnSpPr>
          <p:spPr>
            <a:xfrm rot="5400000">
              <a:off x="3915360" y="5470200"/>
              <a:ext cx="272160" cy="1088280"/>
            </a:xfrm>
            <a:prstGeom prst="bentConnector3">
              <a:avLst>
                <a:gd name="adj1" fmla="val 4609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06" idx="4"/>
              <a:endCxn id="808" idx="0"/>
            </p:cNvCxnSpPr>
            <p:nvPr/>
          </p:nvCxnSpPr>
          <p:spPr>
            <a:xfrm flipH="1" rot="16200000">
              <a:off x="4757760" y="5716080"/>
              <a:ext cx="255960" cy="580320"/>
            </a:xfrm>
            <a:prstGeom prst="bentConnector3">
              <a:avLst>
                <a:gd name="adj1" fmla="val 459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08" idx="2"/>
              <a:endCxn id="825" idx="1"/>
            </p:cNvCxnSpPr>
            <p:nvPr/>
          </p:nvCxnSpPr>
          <p:spPr>
            <a:xfrm flipH="1" rot="16200000">
              <a:off x="5175000" y="6472800"/>
              <a:ext cx="119880" cy="12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6" name=""/>
            <p:cNvCxnSpPr>
              <a:stCxn id="840" idx="2"/>
              <a:endCxn id="857" idx="0"/>
            </p:cNvCxnSpPr>
            <p:nvPr/>
          </p:nvCxnSpPr>
          <p:spPr>
            <a:xfrm flipH="1" rot="16200000">
              <a:off x="7013520" y="2564640"/>
              <a:ext cx="465840" cy="594360"/>
            </a:xfrm>
            <a:prstGeom prst="bentConnector3">
              <a:avLst>
                <a:gd name="adj1" fmla="val 498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7" name=""/>
            <p:cNvSpPr/>
            <p:nvPr/>
          </p:nvSpPr>
          <p:spPr>
            <a:xfrm>
              <a:off x="9324720" y="190440"/>
              <a:ext cx="39960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๖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0" name=""/>
          <p:cNvSpPr/>
          <p:nvPr/>
        </p:nvSpPr>
        <p:spPr>
          <a:xfrm>
            <a:off x="9298800" y="190440"/>
            <a:ext cx="4543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๐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4491000" y="291636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2" name=""/>
          <p:cNvSpPr/>
          <p:nvPr/>
        </p:nvSpPr>
        <p:spPr>
          <a:xfrm>
            <a:off x="1463040" y="193680"/>
            <a:ext cx="7362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สงฆ์  ชั้นประถมศึกษาปีที่ ๒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3" name=""/>
          <p:cNvSpPr/>
          <p:nvPr/>
        </p:nvSpPr>
        <p:spPr>
          <a:xfrm>
            <a:off x="2857680" y="28576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4" name=""/>
          <p:cNvSpPr/>
          <p:nvPr/>
        </p:nvSpPr>
        <p:spPr>
          <a:xfrm>
            <a:off x="6667560" y="27813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5" name=""/>
          <p:cNvSpPr/>
          <p:nvPr/>
        </p:nvSpPr>
        <p:spPr>
          <a:xfrm>
            <a:off x="4686480" y="133344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6" name=""/>
          <p:cNvSpPr/>
          <p:nvPr/>
        </p:nvSpPr>
        <p:spPr>
          <a:xfrm>
            <a:off x="6286680" y="453384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7" name=""/>
          <p:cNvSpPr/>
          <p:nvPr/>
        </p:nvSpPr>
        <p:spPr>
          <a:xfrm>
            <a:off x="5852520" y="1111320"/>
            <a:ext cx="10717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ราหุ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8" name=""/>
          <p:cNvSpPr/>
          <p:nvPr/>
        </p:nvSpPr>
        <p:spPr>
          <a:xfrm>
            <a:off x="7626240" y="5372280"/>
            <a:ext cx="111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ศุข   ไก่เถื่อน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9" name=""/>
          <p:cNvSpPr/>
          <p:nvPr/>
        </p:nvSpPr>
        <p:spPr>
          <a:xfrm>
            <a:off x="7268760" y="5850000"/>
            <a:ext cx="265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สังฆราช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ริญ  สุวฑฺฒโน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0" name=""/>
          <p:cNvSpPr/>
          <p:nvPr/>
        </p:nvSpPr>
        <p:spPr>
          <a:xfrm>
            <a:off x="7792200" y="1036800"/>
            <a:ext cx="1380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การ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1" name=""/>
          <p:cNvSpPr/>
          <p:nvPr/>
        </p:nvSpPr>
        <p:spPr>
          <a:xfrm>
            <a:off x="7777800" y="1533600"/>
            <a:ext cx="14115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ตักบา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2" name=""/>
          <p:cNvSpPr/>
          <p:nvPr/>
        </p:nvSpPr>
        <p:spPr>
          <a:xfrm>
            <a:off x="3314880" y="46864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3" name=""/>
          <p:cNvSpPr/>
          <p:nvPr/>
        </p:nvSpPr>
        <p:spPr>
          <a:xfrm>
            <a:off x="1026360" y="4527720"/>
            <a:ext cx="8366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พนมมือ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4" name=""/>
          <p:cNvSpPr/>
          <p:nvPr/>
        </p:nvSpPr>
        <p:spPr>
          <a:xfrm>
            <a:off x="506520" y="2552760"/>
            <a:ext cx="21096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อย่างเหมาะส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ระรัตนตรัย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5" name=""/>
          <p:cNvSpPr/>
          <p:nvPr/>
        </p:nvSpPr>
        <p:spPr>
          <a:xfrm>
            <a:off x="1142640" y="3022560"/>
            <a:ext cx="1358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ให้ท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6" name=""/>
          <p:cNvSpPr/>
          <p:nvPr/>
        </p:nvSpPr>
        <p:spPr>
          <a:xfrm>
            <a:off x="667440" y="3335400"/>
            <a:ext cx="1934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ู้จักสนทนา แล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7" name=""/>
          <p:cNvSpPr/>
          <p:nvPr/>
        </p:nvSpPr>
        <p:spPr>
          <a:xfrm>
            <a:off x="818640" y="5784840"/>
            <a:ext cx="10742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สำรวมระวั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8" name=""/>
          <p:cNvSpPr/>
          <p:nvPr/>
        </p:nvSpPr>
        <p:spPr>
          <a:xfrm>
            <a:off x="1279800" y="4778280"/>
            <a:ext cx="530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9" name=""/>
          <p:cNvSpPr/>
          <p:nvPr/>
        </p:nvSpPr>
        <p:spPr>
          <a:xfrm>
            <a:off x="186480" y="6037200"/>
            <a:ext cx="1819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เมื่ออยู่ในวัด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พุทธสถ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0" name=""/>
          <p:cNvSpPr/>
          <p:nvPr/>
        </p:nvSpPr>
        <p:spPr>
          <a:xfrm>
            <a:off x="780120" y="5533920"/>
            <a:ext cx="11275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ืน  การเดิ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1" name=""/>
          <p:cNvSpPr/>
          <p:nvPr/>
        </p:nvSpPr>
        <p:spPr>
          <a:xfrm>
            <a:off x="486000" y="3807000"/>
            <a:ext cx="2150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2" name=""/>
          <p:cNvSpPr/>
          <p:nvPr/>
        </p:nvSpPr>
        <p:spPr>
          <a:xfrm>
            <a:off x="7754400" y="1841400"/>
            <a:ext cx="1612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วัตถุ ศาสนสถ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3" name=""/>
          <p:cNvSpPr/>
          <p:nvPr/>
        </p:nvSpPr>
        <p:spPr>
          <a:xfrm>
            <a:off x="1175040" y="5030640"/>
            <a:ext cx="6566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4" name=""/>
          <p:cNvSpPr/>
          <p:nvPr/>
        </p:nvSpPr>
        <p:spPr>
          <a:xfrm>
            <a:off x="1327320" y="5281560"/>
            <a:ext cx="4874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นั่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95" name=""/>
          <p:cNvCxnSpPr>
            <a:stCxn id="873" idx="2"/>
            <a:endCxn id="884" idx="3"/>
          </p:cNvCxnSpPr>
          <p:nvPr/>
        </p:nvCxnSpPr>
        <p:spPr>
          <a:xfrm rot="10800000">
            <a:off x="2342520" y="2769480"/>
            <a:ext cx="496080" cy="54540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73" idx="2"/>
            <a:endCxn id="885" idx="3"/>
          </p:cNvCxnSpPr>
          <p:nvPr/>
        </p:nvCxnSpPr>
        <p:spPr>
          <a:xfrm rot="10800000">
            <a:off x="2342520" y="3155400"/>
            <a:ext cx="496080" cy="15948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7" name=""/>
          <p:cNvCxnSpPr>
            <a:stCxn id="873" idx="2"/>
            <a:endCxn id="886" idx="3"/>
          </p:cNvCxnSpPr>
          <p:nvPr/>
        </p:nvCxnSpPr>
        <p:spPr>
          <a:xfrm flipV="1" rot="10800000">
            <a:off x="2342520" y="3313800"/>
            <a:ext cx="496080" cy="23868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8" name=""/>
          <p:cNvCxnSpPr>
            <a:stCxn id="873" idx="2"/>
            <a:endCxn id="891" idx="3"/>
          </p:cNvCxnSpPr>
          <p:nvPr/>
        </p:nvCxnSpPr>
        <p:spPr>
          <a:xfrm flipV="1" rot="10800000">
            <a:off x="2342520" y="3313800"/>
            <a:ext cx="496080" cy="62604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1945080" y="5153040"/>
            <a:ext cx="94212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00" name=""/>
          <p:cNvCxnSpPr>
            <a:stCxn id="882" idx="2"/>
            <a:endCxn id="899" idx="3"/>
          </p:cNvCxnSpPr>
          <p:nvPr/>
        </p:nvCxnSpPr>
        <p:spPr>
          <a:xfrm flipV="1" rot="10800000">
            <a:off x="2774160" y="5142600"/>
            <a:ext cx="521640" cy="184680"/>
          </a:xfrm>
          <a:prstGeom prst="bentConnector3">
            <a:avLst>
              <a:gd name="adj1" fmla="val 481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1" name=""/>
          <p:cNvCxnSpPr>
            <a:stCxn id="883" idx="3"/>
            <a:endCxn id="899" idx="1"/>
          </p:cNvCxnSpPr>
          <p:nvPr/>
        </p:nvCxnSpPr>
        <p:spPr>
          <a:xfrm>
            <a:off x="1738440" y="4641480"/>
            <a:ext cx="319680" cy="68652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8" idx="3"/>
            <a:endCxn id="899" idx="1"/>
          </p:cNvCxnSpPr>
          <p:nvPr/>
        </p:nvCxnSpPr>
        <p:spPr>
          <a:xfrm>
            <a:off x="1738440" y="4892760"/>
            <a:ext cx="319680" cy="43560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893" idx="3"/>
            <a:endCxn id="899" idx="1"/>
          </p:cNvCxnSpPr>
          <p:nvPr/>
        </p:nvCxnSpPr>
        <p:spPr>
          <a:xfrm>
            <a:off x="1738440" y="5144760"/>
            <a:ext cx="319680" cy="18324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4" name=""/>
          <p:cNvCxnSpPr>
            <a:stCxn id="899" idx="1"/>
            <a:endCxn id="894" idx="3"/>
          </p:cNvCxnSpPr>
          <p:nvPr/>
        </p:nvCxnSpPr>
        <p:spPr>
          <a:xfrm flipV="1" rot="10800000">
            <a:off x="1737720" y="5327280"/>
            <a:ext cx="319680" cy="6912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9" idx="1"/>
            <a:endCxn id="890" idx="3"/>
          </p:cNvCxnSpPr>
          <p:nvPr/>
        </p:nvCxnSpPr>
        <p:spPr>
          <a:xfrm flipV="1" rot="10800000">
            <a:off x="1737720" y="5326560"/>
            <a:ext cx="319680" cy="32148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6" name=""/>
          <p:cNvCxnSpPr>
            <a:stCxn id="899" idx="1"/>
            <a:endCxn id="887" idx="3"/>
          </p:cNvCxnSpPr>
          <p:nvPr/>
        </p:nvCxnSpPr>
        <p:spPr>
          <a:xfrm flipV="1" rot="10800000">
            <a:off x="1737720" y="5327280"/>
            <a:ext cx="319680" cy="57240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899" idx="1"/>
            <a:endCxn id="889" idx="3"/>
          </p:cNvCxnSpPr>
          <p:nvPr/>
        </p:nvCxnSpPr>
        <p:spPr>
          <a:xfrm flipV="1" rot="10800000">
            <a:off x="1737720" y="5327280"/>
            <a:ext cx="319680" cy="89928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8" name=""/>
          <p:cNvCxnSpPr>
            <a:stCxn id="909" idx="3"/>
            <a:endCxn id="899" idx="1"/>
          </p:cNvCxnSpPr>
          <p:nvPr/>
        </p:nvCxnSpPr>
        <p:spPr>
          <a:xfrm flipV="1">
            <a:off x="1738440" y="5327280"/>
            <a:ext cx="319680" cy="122616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0" name=""/>
          <p:cNvCxnSpPr>
            <a:stCxn id="874" idx="6"/>
            <a:endCxn id="892" idx="1"/>
          </p:cNvCxnSpPr>
          <p:nvPr/>
        </p:nvCxnSpPr>
        <p:spPr>
          <a:xfrm flipV="1">
            <a:off x="7601040" y="2047320"/>
            <a:ext cx="358920" cy="1191240"/>
          </a:xfrm>
          <a:prstGeom prst="bentConnector3">
            <a:avLst>
              <a:gd name="adj1" fmla="val 473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874" idx="6"/>
            <a:endCxn id="881" idx="1"/>
          </p:cNvCxnSpPr>
          <p:nvPr/>
        </p:nvCxnSpPr>
        <p:spPr>
          <a:xfrm flipV="1">
            <a:off x="7601040" y="1659960"/>
            <a:ext cx="358920" cy="1578600"/>
          </a:xfrm>
          <a:prstGeom prst="bentConnector3">
            <a:avLst>
              <a:gd name="adj1" fmla="val 473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874" idx="6"/>
            <a:endCxn id="880" idx="1"/>
          </p:cNvCxnSpPr>
          <p:nvPr/>
        </p:nvCxnSpPr>
        <p:spPr>
          <a:xfrm flipV="1">
            <a:off x="7601040" y="1242360"/>
            <a:ext cx="358920" cy="1996200"/>
          </a:xfrm>
          <a:prstGeom prst="bentConnector3">
            <a:avLst>
              <a:gd name="adj1" fmla="val 473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876" idx="6"/>
            <a:endCxn id="878" idx="1"/>
          </p:cNvCxnSpPr>
          <p:nvPr/>
        </p:nvCxnSpPr>
        <p:spPr>
          <a:xfrm>
            <a:off x="7219440" y="4991040"/>
            <a:ext cx="407160" cy="575280"/>
          </a:xfrm>
          <a:prstGeom prst="bentConnector3">
            <a:avLst>
              <a:gd name="adj1" fmla="val 476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stCxn id="876" idx="6"/>
            <a:endCxn id="879" idx="1"/>
          </p:cNvCxnSpPr>
          <p:nvPr/>
        </p:nvCxnSpPr>
        <p:spPr>
          <a:xfrm>
            <a:off x="7219440" y="4990680"/>
            <a:ext cx="407160" cy="1065960"/>
          </a:xfrm>
          <a:prstGeom prst="bentConnector3">
            <a:avLst>
              <a:gd name="adj1" fmla="val 476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5" name=""/>
          <p:cNvCxnSpPr>
            <a:stCxn id="871" idx="5"/>
            <a:endCxn id="876" idx="2"/>
          </p:cNvCxnSpPr>
          <p:nvPr/>
        </p:nvCxnSpPr>
        <p:spPr>
          <a:xfrm>
            <a:off x="5660640" y="4105440"/>
            <a:ext cx="60732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6" name=""/>
          <p:cNvCxnSpPr>
            <a:stCxn id="871" idx="0"/>
            <a:endCxn id="875" idx="4"/>
          </p:cNvCxnSpPr>
          <p:nvPr/>
        </p:nvCxnSpPr>
        <p:spPr>
          <a:xfrm flipH="1" flipV="1">
            <a:off x="5143320" y="2266200"/>
            <a:ext cx="33840" cy="63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7" name=""/>
          <p:cNvCxnSpPr>
            <a:stCxn id="871" idx="2"/>
            <a:endCxn id="873" idx="6"/>
          </p:cNvCxnSpPr>
          <p:nvPr/>
        </p:nvCxnSpPr>
        <p:spPr>
          <a:xfrm flipH="1" flipV="1">
            <a:off x="3790440" y="3314520"/>
            <a:ext cx="68184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8" name=""/>
          <p:cNvCxnSpPr>
            <a:stCxn id="871" idx="6"/>
            <a:endCxn id="874" idx="2"/>
          </p:cNvCxnSpPr>
          <p:nvPr/>
        </p:nvCxnSpPr>
        <p:spPr>
          <a:xfrm flipV="1">
            <a:off x="5881680" y="3238200"/>
            <a:ext cx="767520" cy="364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9" name=""/>
          <p:cNvCxnSpPr>
            <a:stCxn id="871" idx="3"/>
            <a:endCxn id="882" idx="7"/>
          </p:cNvCxnSpPr>
          <p:nvPr/>
        </p:nvCxnSpPr>
        <p:spPr>
          <a:xfrm flipH="1">
            <a:off x="4095360" y="4105080"/>
            <a:ext cx="597600" cy="69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262440" y="6438960"/>
            <a:ext cx="1760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่วมพิธีกรรมเบื้องต้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0" name=""/>
          <p:cNvSpPr/>
          <p:nvPr/>
        </p:nvSpPr>
        <p:spPr>
          <a:xfrm>
            <a:off x="930024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๑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21" name=""/>
          <p:cNvCxnSpPr>
            <a:stCxn id="875" idx="0"/>
            <a:endCxn id="877" idx="1"/>
          </p:cNvCxnSpPr>
          <p:nvPr/>
        </p:nvCxnSpPr>
        <p:spPr>
          <a:xfrm flipH="1" flipV="1" rot="5400000">
            <a:off x="5519520" y="852120"/>
            <a:ext cx="8640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9318960" y="190440"/>
            <a:ext cx="4118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4" name=""/>
          <p:cNvSpPr/>
          <p:nvPr/>
        </p:nvSpPr>
        <p:spPr>
          <a:xfrm>
            <a:off x="9293040" y="190440"/>
            <a:ext cx="4636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๒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797280" y="3162240"/>
            <a:ext cx="1265400" cy="4827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6" name=""/>
          <p:cNvSpPr/>
          <p:nvPr/>
        </p:nvSpPr>
        <p:spPr>
          <a:xfrm>
            <a:off x="3772080" y="1638360"/>
            <a:ext cx="126504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7" name=""/>
          <p:cNvSpPr/>
          <p:nvPr/>
        </p:nvSpPr>
        <p:spPr>
          <a:xfrm>
            <a:off x="3668760" y="2419200"/>
            <a:ext cx="1521000" cy="40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28" name=""/>
          <p:cNvCxnSpPr>
            <a:stCxn id="927" idx="2"/>
            <a:endCxn id="925" idx="0"/>
          </p:cNvCxnSpPr>
          <p:nvPr/>
        </p:nvCxnSpPr>
        <p:spPr>
          <a:xfrm flipH="1" rot="16200000">
            <a:off x="4309920" y="3022920"/>
            <a:ext cx="238680" cy="2520"/>
          </a:xfrm>
          <a:prstGeom prst="bentConnector3">
            <a:avLst>
              <a:gd name="adj1" fmla="val 47885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9" name=""/>
          <p:cNvCxnSpPr>
            <a:stCxn id="927" idx="3"/>
            <a:endCxn id="930" idx="2"/>
          </p:cNvCxnSpPr>
          <p:nvPr/>
        </p:nvCxnSpPr>
        <p:spPr>
          <a:xfrm flipV="1">
            <a:off x="5033520" y="2640960"/>
            <a:ext cx="167040" cy="6840"/>
          </a:xfrm>
          <a:prstGeom prst="bentConnector3">
            <a:avLst>
              <a:gd name="adj1" fmla="val 4665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1" name=""/>
          <p:cNvCxnSpPr>
            <a:stCxn id="927" idx="0"/>
            <a:endCxn id="926" idx="4"/>
          </p:cNvCxnSpPr>
          <p:nvPr/>
        </p:nvCxnSpPr>
        <p:spPr>
          <a:xfrm flipV="1" rot="16200000">
            <a:off x="4291200" y="2252520"/>
            <a:ext cx="251640" cy="24480"/>
          </a:xfrm>
          <a:prstGeom prst="bentConnector3">
            <a:avLst>
              <a:gd name="adj1" fmla="val 47994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4381560" y="4076640"/>
            <a:ext cx="731880" cy="57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พระไตรปิฎก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3" name=""/>
          <p:cNvSpPr/>
          <p:nvPr/>
        </p:nvSpPr>
        <p:spPr>
          <a:xfrm>
            <a:off x="5325480" y="5913360"/>
            <a:ext cx="14954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แนะนำ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4" name=""/>
          <p:cNvSpPr/>
          <p:nvPr/>
        </p:nvSpPr>
        <p:spPr>
          <a:xfrm>
            <a:off x="5235120" y="6276960"/>
            <a:ext cx="1923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5" name=""/>
          <p:cNvSpPr/>
          <p:nvPr/>
        </p:nvSpPr>
        <p:spPr>
          <a:xfrm>
            <a:off x="6067440" y="5499000"/>
            <a:ext cx="10983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อนุพุทธ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6" name=""/>
          <p:cNvSpPr/>
          <p:nvPr/>
        </p:nvSpPr>
        <p:spPr>
          <a:xfrm>
            <a:off x="6067440" y="5207040"/>
            <a:ext cx="1098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ปัจเจกพุทธ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7" name=""/>
          <p:cNvSpPr/>
          <p:nvPr/>
        </p:nvSpPr>
        <p:spPr>
          <a:xfrm>
            <a:off x="3390840" y="4076640"/>
            <a:ext cx="731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พุทธศาสน</a:t>
            </a: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สุภาษิต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8" name=""/>
          <p:cNvSpPr/>
          <p:nvPr/>
        </p:nvSpPr>
        <p:spPr>
          <a:xfrm>
            <a:off x="5524560" y="4076640"/>
            <a:ext cx="731880" cy="73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ศัพท์ทางพร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พุทธศาสน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39" name=""/>
          <p:cNvCxnSpPr>
            <a:stCxn id="938" idx="4"/>
            <a:endCxn id="936" idx="1"/>
          </p:cNvCxnSpPr>
          <p:nvPr/>
        </p:nvCxnSpPr>
        <p:spPr>
          <a:xfrm flipH="1" rot="16200000">
            <a:off x="5721120" y="4977720"/>
            <a:ext cx="516600" cy="17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8" idx="4"/>
            <a:endCxn id="935" idx="1"/>
          </p:cNvCxnSpPr>
          <p:nvPr/>
        </p:nvCxnSpPr>
        <p:spPr>
          <a:xfrm flipH="1" rot="16200000">
            <a:off x="5570280" y="5128560"/>
            <a:ext cx="818280" cy="17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41" name=""/>
          <p:cNvSpPr/>
          <p:nvPr/>
        </p:nvSpPr>
        <p:spPr>
          <a:xfrm>
            <a:off x="3238560" y="4762440"/>
            <a:ext cx="17319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ททมาโน  ปิโย  โห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ู้ให้ย่อมเป็นที่รั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2" name=""/>
          <p:cNvSpPr/>
          <p:nvPr/>
        </p:nvSpPr>
        <p:spPr>
          <a:xfrm>
            <a:off x="3238560" y="5219640"/>
            <a:ext cx="1905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โมกฺโข  กลฺยาณิยา  สาธ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ล่งวาจาไพเราะให้สำเร็จประโยชน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3" name=""/>
          <p:cNvSpPr/>
          <p:nvPr/>
        </p:nvSpPr>
        <p:spPr>
          <a:xfrm>
            <a:off x="6128640" y="6591240"/>
            <a:ext cx="13093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ักสนุกจะทุกข์ถนัด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4" name=""/>
          <p:cNvSpPr/>
          <p:nvPr/>
        </p:nvSpPr>
        <p:spPr>
          <a:xfrm>
            <a:off x="152640" y="3390840"/>
            <a:ext cx="823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บญจศีล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5" name=""/>
          <p:cNvSpPr/>
          <p:nvPr/>
        </p:nvSpPr>
        <p:spPr>
          <a:xfrm>
            <a:off x="1500120" y="3390840"/>
            <a:ext cx="595440" cy="522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6" name=""/>
          <p:cNvSpPr/>
          <p:nvPr/>
        </p:nvSpPr>
        <p:spPr>
          <a:xfrm>
            <a:off x="1313280" y="3924360"/>
            <a:ext cx="89784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7" name=""/>
          <p:cNvSpPr/>
          <p:nvPr/>
        </p:nvSpPr>
        <p:spPr>
          <a:xfrm>
            <a:off x="1567080" y="4381560"/>
            <a:ext cx="129852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ทำจิต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8" name=""/>
          <p:cNvSpPr/>
          <p:nvPr/>
        </p:nvSpPr>
        <p:spPr>
          <a:xfrm>
            <a:off x="2705040" y="5676840"/>
            <a:ext cx="24386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สวดมนต์ไหว้พระสรรเสริญคุณพระรัตนตรัยและแผ่เมตตา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9" name=""/>
          <p:cNvSpPr/>
          <p:nvPr/>
        </p:nvSpPr>
        <p:spPr>
          <a:xfrm>
            <a:off x="2705040" y="5905440"/>
            <a:ext cx="22100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รู้ความหมายและประโยชน์ของสติสัมปชัญญะ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0" name=""/>
          <p:cNvSpPr/>
          <p:nvPr/>
        </p:nvSpPr>
        <p:spPr>
          <a:xfrm>
            <a:off x="2505960" y="6134040"/>
            <a:ext cx="153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รู้ประโยชน์ของการฝึก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1" name=""/>
          <p:cNvSpPr/>
          <p:nvPr/>
        </p:nvSpPr>
        <p:spPr>
          <a:xfrm>
            <a:off x="2381760" y="6362640"/>
            <a:ext cx="2246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สมาธิเบื้องต้นด้วยการนับลมหายใจ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2" name=""/>
          <p:cNvSpPr/>
          <p:nvPr/>
        </p:nvSpPr>
        <p:spPr>
          <a:xfrm>
            <a:off x="2705040" y="6819840"/>
            <a:ext cx="251460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ฝึกให้มีสมาธิในการฟัง  การอ่าน</a:t>
            </a:r>
            <a:r>
              <a:rPr b="0" lang="en-US" sz="11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การคิด การถาม</a:t>
            </a:r>
            <a:r>
              <a:rPr b="0" lang="en-US" sz="11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และการเขีย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3" name=""/>
          <p:cNvSpPr/>
          <p:nvPr/>
        </p:nvSpPr>
        <p:spPr>
          <a:xfrm>
            <a:off x="2324160" y="3573360"/>
            <a:ext cx="731880" cy="57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โอวาท ๓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4" name=""/>
          <p:cNvSpPr/>
          <p:nvPr/>
        </p:nvSpPr>
        <p:spPr>
          <a:xfrm>
            <a:off x="6058080" y="4905360"/>
            <a:ext cx="116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พระสัมมาสัมพุทธเจ้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55" name=""/>
          <p:cNvCxnSpPr>
            <a:stCxn id="954" idx="1"/>
            <a:endCxn id="938" idx="4"/>
          </p:cNvCxnSpPr>
          <p:nvPr/>
        </p:nvCxnSpPr>
        <p:spPr>
          <a:xfrm rot="10800000">
            <a:off x="5890320" y="4807800"/>
            <a:ext cx="16776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2705040" y="6591240"/>
            <a:ext cx="211932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การยืน การเดิน การนั่ง และการนอนอย่างมี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-25560"/>
            <a:ext cx="1028700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ชั้นประถมศึกษาปีที่ 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8" name=""/>
          <p:cNvSpPr/>
          <p:nvPr/>
        </p:nvSpPr>
        <p:spPr>
          <a:xfrm>
            <a:off x="2424240" y="647640"/>
            <a:ext cx="7128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9" name=""/>
          <p:cNvSpPr/>
          <p:nvPr/>
        </p:nvSpPr>
        <p:spPr>
          <a:xfrm>
            <a:off x="2425680" y="1638360"/>
            <a:ext cx="711360" cy="58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0" name=""/>
          <p:cNvCxnSpPr>
            <a:stCxn id="926" idx="2"/>
            <a:endCxn id="959" idx="6"/>
          </p:cNvCxnSpPr>
          <p:nvPr/>
        </p:nvCxnSpPr>
        <p:spPr>
          <a:xfrm flipV="1" rot="10800000">
            <a:off x="3136320" y="1879200"/>
            <a:ext cx="616680" cy="53280"/>
          </a:xfrm>
          <a:prstGeom prst="bentConnector3">
            <a:avLst>
              <a:gd name="adj1" fmla="val 484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4838760" y="723960"/>
            <a:ext cx="1028520" cy="10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ป็นรากฐา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ของวัฒนธรรมไทย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2" name=""/>
          <p:cNvCxnSpPr>
            <a:stCxn id="926" idx="2"/>
            <a:endCxn id="958" idx="6"/>
          </p:cNvCxnSpPr>
          <p:nvPr/>
        </p:nvCxnSpPr>
        <p:spPr>
          <a:xfrm rot="10800000">
            <a:off x="3136320" y="936000"/>
            <a:ext cx="616680" cy="943560"/>
          </a:xfrm>
          <a:prstGeom prst="bentConnector3">
            <a:avLst>
              <a:gd name="adj1" fmla="val 484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2359080" y="2403360"/>
            <a:ext cx="777960" cy="68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างพระ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4" name=""/>
          <p:cNvCxnSpPr>
            <a:stCxn id="926" idx="2"/>
            <a:endCxn id="963" idx="6"/>
          </p:cNvCxnSpPr>
          <p:nvPr/>
        </p:nvCxnSpPr>
        <p:spPr>
          <a:xfrm flipV="1" rot="10800000">
            <a:off x="3136320" y="1878480"/>
            <a:ext cx="616680" cy="865800"/>
          </a:xfrm>
          <a:prstGeom prst="bentConnector3">
            <a:avLst>
              <a:gd name="adj1" fmla="val 484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65" name=""/>
          <p:cNvSpPr/>
          <p:nvPr/>
        </p:nvSpPr>
        <p:spPr>
          <a:xfrm>
            <a:off x="971640" y="2484360"/>
            <a:ext cx="1196640" cy="49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ความสำคัญแล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หลั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6" name=""/>
          <p:cNvCxnSpPr>
            <a:stCxn id="963" idx="2"/>
            <a:endCxn id="965" idx="3"/>
          </p:cNvCxnSpPr>
          <p:nvPr/>
        </p:nvCxnSpPr>
        <p:spPr>
          <a:xfrm flipH="1" flipV="1">
            <a:off x="2019240" y="2734920"/>
            <a:ext cx="34020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1027440" y="723960"/>
            <a:ext cx="7837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ผจญม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8" name=""/>
          <p:cNvSpPr/>
          <p:nvPr/>
        </p:nvSpPr>
        <p:spPr>
          <a:xfrm>
            <a:off x="911520" y="1181160"/>
            <a:ext cx="90252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ฐมเทศ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9" name=""/>
          <p:cNvSpPr/>
          <p:nvPr/>
        </p:nvSpPr>
        <p:spPr>
          <a:xfrm>
            <a:off x="934560" y="1409760"/>
            <a:ext cx="8690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รินิพพ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70" name=""/>
          <p:cNvCxnSpPr>
            <a:stCxn id="958" idx="2"/>
            <a:endCxn id="967" idx="3"/>
          </p:cNvCxnSpPr>
          <p:nvPr/>
        </p:nvCxnSpPr>
        <p:spPr>
          <a:xfrm rot="10800000">
            <a:off x="1705680" y="870840"/>
            <a:ext cx="718560" cy="6552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1" name=""/>
          <p:cNvCxnSpPr>
            <a:stCxn id="958" idx="2"/>
            <a:endCxn id="968" idx="3"/>
          </p:cNvCxnSpPr>
          <p:nvPr/>
        </p:nvCxnSpPr>
        <p:spPr>
          <a:xfrm flipV="1" rot="10800000">
            <a:off x="1705680" y="936360"/>
            <a:ext cx="718560" cy="37224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2" name=""/>
          <p:cNvCxnSpPr>
            <a:stCxn id="958" idx="2"/>
            <a:endCxn id="969" idx="3"/>
          </p:cNvCxnSpPr>
          <p:nvPr/>
        </p:nvCxnSpPr>
        <p:spPr>
          <a:xfrm flipV="1" rot="10800000">
            <a:off x="1705680" y="936720"/>
            <a:ext cx="718560" cy="62100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3" name=""/>
          <p:cNvSpPr/>
          <p:nvPr/>
        </p:nvSpPr>
        <p:spPr>
          <a:xfrm>
            <a:off x="248400" y="2247840"/>
            <a:ext cx="71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4" name=""/>
          <p:cNvSpPr/>
          <p:nvPr/>
        </p:nvSpPr>
        <p:spPr>
          <a:xfrm>
            <a:off x="191880" y="2475000"/>
            <a:ext cx="78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5" name=""/>
          <p:cNvSpPr/>
          <p:nvPr/>
        </p:nvSpPr>
        <p:spPr>
          <a:xfrm>
            <a:off x="154800" y="2671920"/>
            <a:ext cx="83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6" name=""/>
          <p:cNvSpPr/>
          <p:nvPr/>
        </p:nvSpPr>
        <p:spPr>
          <a:xfrm>
            <a:off x="23040" y="2876400"/>
            <a:ext cx="98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77" name=""/>
          <p:cNvCxnSpPr>
            <a:stCxn id="965" idx="1"/>
            <a:endCxn id="973" idx="3"/>
          </p:cNvCxnSpPr>
          <p:nvPr/>
        </p:nvCxnSpPr>
        <p:spPr>
          <a:xfrm rot="10800000">
            <a:off x="875520" y="2355120"/>
            <a:ext cx="244800" cy="38016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8" name=""/>
          <p:cNvCxnSpPr>
            <a:stCxn id="965" idx="1"/>
            <a:endCxn id="974" idx="3"/>
          </p:cNvCxnSpPr>
          <p:nvPr/>
        </p:nvCxnSpPr>
        <p:spPr>
          <a:xfrm rot="10800000">
            <a:off x="875520" y="2582280"/>
            <a:ext cx="244800" cy="153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65" idx="1"/>
            <a:endCxn id="975" idx="3"/>
          </p:cNvCxnSpPr>
          <p:nvPr/>
        </p:nvCxnSpPr>
        <p:spPr>
          <a:xfrm flipV="1" rot="10800000">
            <a:off x="875520" y="2734200"/>
            <a:ext cx="244800" cy="45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65" idx="1"/>
            <a:endCxn id="976" idx="3"/>
          </p:cNvCxnSpPr>
          <p:nvPr/>
        </p:nvCxnSpPr>
        <p:spPr>
          <a:xfrm flipV="1" rot="10800000">
            <a:off x="875520" y="2734920"/>
            <a:ext cx="244800" cy="24984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1" name=""/>
          <p:cNvSpPr/>
          <p:nvPr/>
        </p:nvSpPr>
        <p:spPr>
          <a:xfrm>
            <a:off x="651960" y="266760"/>
            <a:ext cx="1193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รุป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ระว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82" name=""/>
          <p:cNvCxnSpPr>
            <a:stCxn id="981" idx="3"/>
            <a:endCxn id="958" idx="2"/>
          </p:cNvCxnSpPr>
          <p:nvPr/>
        </p:nvCxnSpPr>
        <p:spPr>
          <a:xfrm>
            <a:off x="1711440" y="414000"/>
            <a:ext cx="713520" cy="523080"/>
          </a:xfrm>
          <a:prstGeom prst="bentConnector3">
            <a:avLst>
              <a:gd name="adj1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3" name=""/>
          <p:cNvSpPr/>
          <p:nvPr/>
        </p:nvSpPr>
        <p:spPr>
          <a:xfrm>
            <a:off x="1201320" y="952560"/>
            <a:ext cx="5533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4" name=""/>
          <p:cNvSpPr/>
          <p:nvPr/>
        </p:nvSpPr>
        <p:spPr>
          <a:xfrm>
            <a:off x="637560" y="495360"/>
            <a:ext cx="12589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บำเพ็ญเพีย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85" name=""/>
          <p:cNvCxnSpPr>
            <a:stCxn id="958" idx="2"/>
            <a:endCxn id="984" idx="3"/>
          </p:cNvCxnSpPr>
          <p:nvPr/>
        </p:nvCxnSpPr>
        <p:spPr>
          <a:xfrm rot="10800000">
            <a:off x="1710720" y="642240"/>
            <a:ext cx="713520" cy="294480"/>
          </a:xfrm>
          <a:prstGeom prst="bentConnector3">
            <a:avLst>
              <a:gd name="adj1" fmla="val 498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stCxn id="958" idx="2"/>
            <a:endCxn id="983" idx="3"/>
          </p:cNvCxnSpPr>
          <p:nvPr/>
        </p:nvCxnSpPr>
        <p:spPr>
          <a:xfrm flipV="1" rot="10800000">
            <a:off x="1699560" y="936360"/>
            <a:ext cx="724680" cy="16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882720" y="1689120"/>
            <a:ext cx="12546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อารามทูสก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8" name=""/>
          <p:cNvSpPr/>
          <p:nvPr/>
        </p:nvSpPr>
        <p:spPr>
          <a:xfrm>
            <a:off x="930960" y="1943280"/>
            <a:ext cx="12009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มหาวาณิช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89" name=""/>
          <p:cNvCxnSpPr>
            <a:stCxn id="959" idx="2"/>
            <a:endCxn id="987" idx="3"/>
          </p:cNvCxnSpPr>
          <p:nvPr/>
        </p:nvCxnSpPr>
        <p:spPr>
          <a:xfrm rot="10800000">
            <a:off x="1977480" y="1815480"/>
            <a:ext cx="448200" cy="116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0" name=""/>
          <p:cNvCxnSpPr>
            <a:stCxn id="959" idx="2"/>
            <a:endCxn id="988" idx="3"/>
          </p:cNvCxnSpPr>
          <p:nvPr/>
        </p:nvCxnSpPr>
        <p:spPr>
          <a:xfrm flipV="1" rot="10800000">
            <a:off x="1977480" y="1931040"/>
            <a:ext cx="448200" cy="159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91" name=""/>
          <p:cNvSpPr/>
          <p:nvPr/>
        </p:nvSpPr>
        <p:spPr>
          <a:xfrm>
            <a:off x="283320" y="3772080"/>
            <a:ext cx="9907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2" name=""/>
          <p:cNvSpPr/>
          <p:nvPr/>
        </p:nvSpPr>
        <p:spPr>
          <a:xfrm>
            <a:off x="253080" y="4229280"/>
            <a:ext cx="10548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ังคหวัตถุ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3" name=""/>
          <p:cNvSpPr/>
          <p:nvPr/>
        </p:nvSpPr>
        <p:spPr>
          <a:xfrm>
            <a:off x="77760" y="4497480"/>
            <a:ext cx="1245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ฆราวาสธรรม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4" name=""/>
          <p:cNvSpPr/>
          <p:nvPr/>
        </p:nvSpPr>
        <p:spPr>
          <a:xfrm>
            <a:off x="402840" y="5372280"/>
            <a:ext cx="8553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มงคล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5" name=""/>
          <p:cNvSpPr/>
          <p:nvPr/>
        </p:nvSpPr>
        <p:spPr>
          <a:xfrm>
            <a:off x="904680" y="6210360"/>
            <a:ext cx="3960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ู้จักให้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6" name=""/>
          <p:cNvSpPr/>
          <p:nvPr/>
        </p:nvSpPr>
        <p:spPr>
          <a:xfrm>
            <a:off x="5040" y="4000680"/>
            <a:ext cx="1358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ติ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ัมปชัญญ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7" name=""/>
          <p:cNvSpPr/>
          <p:nvPr/>
        </p:nvSpPr>
        <p:spPr>
          <a:xfrm>
            <a:off x="158400" y="4686480"/>
            <a:ext cx="12009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กตัญญูกตเวท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ต่อชุมชน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ิ่งแวดล้อ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8" name=""/>
          <p:cNvSpPr/>
          <p:nvPr/>
        </p:nvSpPr>
        <p:spPr>
          <a:xfrm>
            <a:off x="769680" y="6438960"/>
            <a:ext cx="12085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อยู่ในสิ่งแวดล้อมที่ด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9" name=""/>
          <p:cNvSpPr/>
          <p:nvPr/>
        </p:nvSpPr>
        <p:spPr>
          <a:xfrm>
            <a:off x="1204920" y="4673520"/>
            <a:ext cx="633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อัตถะ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0" name=""/>
          <p:cNvSpPr/>
          <p:nvPr/>
        </p:nvSpPr>
        <p:spPr>
          <a:xfrm>
            <a:off x="1246320" y="5006880"/>
            <a:ext cx="9954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โยชน์ตน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อัตตัตถะ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1" name=""/>
          <p:cNvSpPr/>
          <p:nvPr/>
        </p:nvSpPr>
        <p:spPr>
          <a:xfrm>
            <a:off x="1352520" y="5791320"/>
            <a:ext cx="10479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โยชน์ทั้งสองฝ่า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อุภยัตถะ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2" name=""/>
          <p:cNvSpPr/>
          <p:nvPr/>
        </p:nvSpPr>
        <p:spPr>
          <a:xfrm>
            <a:off x="1230120" y="5416560"/>
            <a:ext cx="10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โยชน์ผู้อื่น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ัตถะ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3" name=""/>
          <p:cNvSpPr/>
          <p:nvPr/>
        </p:nvSpPr>
        <p:spPr>
          <a:xfrm>
            <a:off x="874080" y="6640560"/>
            <a:ext cx="6033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พูดไพเรา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333440" y="5143680"/>
            <a:ext cx="76320" cy="761760"/>
            <a:chOff x="1333440" y="5143680"/>
            <a:chExt cx="76320" cy="761760"/>
          </a:xfrm>
        </p:grpSpPr>
        <p:sp>
          <p:nvSpPr>
            <p:cNvPr id="1005" name=""/>
            <p:cNvSpPr/>
            <p:nvPr/>
          </p:nvSpPr>
          <p:spPr>
            <a:xfrm>
              <a:off x="1333440" y="51436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33440" y="5143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33440" y="59054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33440" y="5559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2095560" y="4915080"/>
            <a:ext cx="990720" cy="533160"/>
          </a:xfrm>
          <a:prstGeom prst="hexagon">
            <a:avLst>
              <a:gd name="adj" fmla="val 46455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10" name=""/>
          <p:cNvCxnSpPr>
            <a:stCxn id="947" idx="2"/>
            <a:endCxn id="1009" idx="0"/>
          </p:cNvCxnSpPr>
          <p:nvPr/>
        </p:nvCxnSpPr>
        <p:spPr>
          <a:xfrm flipH="1" rot="16200000">
            <a:off x="2294640" y="4619520"/>
            <a:ext cx="216720" cy="37548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1009" idx="2"/>
            <a:endCxn id="948" idx="1"/>
          </p:cNvCxnSpPr>
          <p:nvPr/>
        </p:nvCxnSpPr>
        <p:spPr>
          <a:xfrm flipH="1" rot="16200000">
            <a:off x="2466720" y="5571000"/>
            <a:ext cx="3610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1009" idx="2"/>
            <a:endCxn id="949" idx="1"/>
          </p:cNvCxnSpPr>
          <p:nvPr/>
        </p:nvCxnSpPr>
        <p:spPr>
          <a:xfrm flipH="1" rot="16200000">
            <a:off x="2352600" y="5685480"/>
            <a:ext cx="5896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3" name=""/>
          <p:cNvCxnSpPr>
            <a:stCxn id="1009" idx="2"/>
            <a:endCxn id="950" idx="1"/>
          </p:cNvCxnSpPr>
          <p:nvPr/>
        </p:nvCxnSpPr>
        <p:spPr>
          <a:xfrm flipH="1" rot="16200000">
            <a:off x="2238120" y="5799600"/>
            <a:ext cx="8182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1009" idx="2"/>
            <a:endCxn id="951" idx="1"/>
          </p:cNvCxnSpPr>
          <p:nvPr/>
        </p:nvCxnSpPr>
        <p:spPr>
          <a:xfrm flipH="1" rot="16200000">
            <a:off x="2124000" y="5914080"/>
            <a:ext cx="10468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09" idx="2"/>
            <a:endCxn id="956" idx="1"/>
          </p:cNvCxnSpPr>
          <p:nvPr/>
        </p:nvCxnSpPr>
        <p:spPr>
          <a:xfrm flipH="1" rot="16200000">
            <a:off x="2009520" y="6028200"/>
            <a:ext cx="12754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09" idx="2"/>
            <a:endCxn id="952" idx="1"/>
          </p:cNvCxnSpPr>
          <p:nvPr/>
        </p:nvCxnSpPr>
        <p:spPr>
          <a:xfrm flipH="1" rot="16200000">
            <a:off x="1895400" y="6142680"/>
            <a:ext cx="15040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925" idx="4"/>
            <a:endCxn id="937" idx="0"/>
          </p:cNvCxnSpPr>
          <p:nvPr/>
        </p:nvCxnSpPr>
        <p:spPr>
          <a:xfrm rot="5400000">
            <a:off x="3887280" y="3533760"/>
            <a:ext cx="413280" cy="673920"/>
          </a:xfrm>
          <a:prstGeom prst="bentConnector3">
            <a:avLst>
              <a:gd name="adj1" fmla="val 47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925" idx="4"/>
            <a:endCxn id="932" idx="0"/>
          </p:cNvCxnSpPr>
          <p:nvPr/>
        </p:nvCxnSpPr>
        <p:spPr>
          <a:xfrm flipH="1" rot="16200000">
            <a:off x="4382280" y="3711600"/>
            <a:ext cx="413280" cy="317880"/>
          </a:xfrm>
          <a:prstGeom prst="bentConnector3">
            <a:avLst>
              <a:gd name="adj1" fmla="val 47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925" idx="4"/>
            <a:endCxn id="938" idx="0"/>
          </p:cNvCxnSpPr>
          <p:nvPr/>
        </p:nvCxnSpPr>
        <p:spPr>
          <a:xfrm flipH="1" rot="16200000">
            <a:off x="4954680" y="3139920"/>
            <a:ext cx="413280" cy="1460880"/>
          </a:xfrm>
          <a:prstGeom prst="bentConnector3">
            <a:avLst>
              <a:gd name="adj1" fmla="val 47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925" idx="4"/>
            <a:endCxn id="953" idx="6"/>
          </p:cNvCxnSpPr>
          <p:nvPr/>
        </p:nvCxnSpPr>
        <p:spPr>
          <a:xfrm rot="5400000">
            <a:off x="3642840" y="3076200"/>
            <a:ext cx="200520" cy="1375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953" idx="2"/>
            <a:endCxn id="945" idx="3"/>
          </p:cNvCxnSpPr>
          <p:nvPr/>
        </p:nvCxnSpPr>
        <p:spPr>
          <a:xfrm rot="10800000">
            <a:off x="2094840" y="3548880"/>
            <a:ext cx="229320" cy="315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2" name=""/>
          <p:cNvCxnSpPr>
            <a:stCxn id="953" idx="2"/>
            <a:endCxn id="946" idx="3"/>
          </p:cNvCxnSpPr>
          <p:nvPr/>
        </p:nvCxnSpPr>
        <p:spPr>
          <a:xfrm flipV="1" rot="10800000">
            <a:off x="2094840" y="3862800"/>
            <a:ext cx="229320" cy="219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45" idx="1"/>
            <a:endCxn id="944" idx="3"/>
          </p:cNvCxnSpPr>
          <p:nvPr/>
        </p:nvCxnSpPr>
        <p:spPr>
          <a:xfrm rot="10800000">
            <a:off x="861120" y="3544200"/>
            <a:ext cx="63900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53" idx="2"/>
            <a:endCxn id="947" idx="0"/>
          </p:cNvCxnSpPr>
          <p:nvPr/>
        </p:nvCxnSpPr>
        <p:spPr>
          <a:xfrm flipV="1" rot="10800000">
            <a:off x="2215440" y="3863520"/>
            <a:ext cx="108720" cy="518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5" name=""/>
          <p:cNvSpPr/>
          <p:nvPr/>
        </p:nvSpPr>
        <p:spPr>
          <a:xfrm>
            <a:off x="1181160" y="39243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1104840" y="5524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104840" y="4610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104840" y="41529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1104840" y="4381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1104840" y="3924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1" name=""/>
          <p:cNvSpPr/>
          <p:nvPr/>
        </p:nvSpPr>
        <p:spPr>
          <a:xfrm>
            <a:off x="1104840" y="48387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32" name=""/>
          <p:cNvCxnSpPr>
            <a:stCxn id="994" idx="2"/>
            <a:endCxn id="995" idx="1"/>
          </p:cNvCxnSpPr>
          <p:nvPr/>
        </p:nvCxnSpPr>
        <p:spPr>
          <a:xfrm flipH="1" rot="16200000">
            <a:off x="576000" y="5933520"/>
            <a:ext cx="631080" cy="1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3" name=""/>
          <p:cNvCxnSpPr>
            <a:stCxn id="994" idx="2"/>
            <a:endCxn id="998" idx="1"/>
          </p:cNvCxnSpPr>
          <p:nvPr/>
        </p:nvCxnSpPr>
        <p:spPr>
          <a:xfrm flipH="1" rot="16200000">
            <a:off x="461880" y="6048000"/>
            <a:ext cx="859680" cy="1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4" name=""/>
          <p:cNvCxnSpPr>
            <a:stCxn id="994" idx="2"/>
            <a:endCxn id="1003" idx="1"/>
          </p:cNvCxnSpPr>
          <p:nvPr/>
        </p:nvCxnSpPr>
        <p:spPr>
          <a:xfrm flipH="1" rot="16200000">
            <a:off x="361080" y="6148800"/>
            <a:ext cx="1061280" cy="1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5" name=""/>
          <p:cNvCxnSpPr>
            <a:stCxn id="999" idx="3"/>
            <a:endCxn id="1005" idx="0"/>
          </p:cNvCxnSpPr>
          <p:nvPr/>
        </p:nvCxnSpPr>
        <p:spPr>
          <a:xfrm flipH="1">
            <a:off x="1333080" y="4827600"/>
            <a:ext cx="505440" cy="316800"/>
          </a:xfrm>
          <a:prstGeom prst="bentConnector4">
            <a:avLst>
              <a:gd name="adj1" fmla="val -45260"/>
              <a:gd name="adj2" fmla="val 742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6" name=""/>
          <p:cNvCxnSpPr>
            <a:stCxn id="932" idx="6"/>
            <a:endCxn id="933" idx="1"/>
          </p:cNvCxnSpPr>
          <p:nvPr/>
        </p:nvCxnSpPr>
        <p:spPr>
          <a:xfrm>
            <a:off x="5113440" y="4366800"/>
            <a:ext cx="380160" cy="170100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7" name=""/>
          <p:cNvCxnSpPr>
            <a:stCxn id="932" idx="6"/>
            <a:endCxn id="934" idx="1"/>
          </p:cNvCxnSpPr>
          <p:nvPr/>
        </p:nvCxnSpPr>
        <p:spPr>
          <a:xfrm>
            <a:off x="5113440" y="4366800"/>
            <a:ext cx="380160" cy="206460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8" name=""/>
          <p:cNvCxnSpPr>
            <a:stCxn id="934" idx="2"/>
            <a:endCxn id="943" idx="1"/>
          </p:cNvCxnSpPr>
          <p:nvPr/>
        </p:nvCxnSpPr>
        <p:spPr>
          <a:xfrm flipH="1" rot="16200000">
            <a:off x="6169680" y="6611760"/>
            <a:ext cx="146520" cy="92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0" name=""/>
          <p:cNvSpPr/>
          <p:nvPr/>
        </p:nvSpPr>
        <p:spPr>
          <a:xfrm>
            <a:off x="5219640" y="2400480"/>
            <a:ext cx="110808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9" name=""/>
          <p:cNvSpPr/>
          <p:nvPr/>
        </p:nvSpPr>
        <p:spPr>
          <a:xfrm>
            <a:off x="6819840" y="125748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หน้าที่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0" name=""/>
          <p:cNvSpPr/>
          <p:nvPr/>
        </p:nvSpPr>
        <p:spPr>
          <a:xfrm>
            <a:off x="6819840" y="415296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ศาสนพิธ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1" name=""/>
          <p:cNvSpPr/>
          <p:nvPr/>
        </p:nvSpPr>
        <p:spPr>
          <a:xfrm>
            <a:off x="6819840" y="34308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2" name=""/>
          <p:cNvSpPr/>
          <p:nvPr/>
        </p:nvSpPr>
        <p:spPr>
          <a:xfrm>
            <a:off x="6819840" y="323856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ตัวอย่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3" name=""/>
          <p:cNvSpPr/>
          <p:nvPr/>
        </p:nvSpPr>
        <p:spPr>
          <a:xfrm>
            <a:off x="7495920" y="488880"/>
            <a:ext cx="12452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สามเณรสังกิจจ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4" name=""/>
          <p:cNvSpPr/>
          <p:nvPr/>
        </p:nvSpPr>
        <p:spPr>
          <a:xfrm>
            <a:off x="7503480" y="3772080"/>
            <a:ext cx="2676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มเด็จพระพุฒาจารย์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โต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ฺ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รห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ฺ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มร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ํ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ี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5" name=""/>
          <p:cNvSpPr/>
          <p:nvPr/>
        </p:nvSpPr>
        <p:spPr>
          <a:xfrm>
            <a:off x="7585920" y="4027320"/>
            <a:ext cx="2203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มเด็จพระเจ้าตากสินมหาราช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6" name=""/>
          <p:cNvSpPr/>
          <p:nvPr/>
        </p:nvSpPr>
        <p:spPr>
          <a:xfrm>
            <a:off x="7498800" y="4838760"/>
            <a:ext cx="20876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าราธนาศีล  การสมาทาน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7" name=""/>
          <p:cNvSpPr/>
          <p:nvPr/>
        </p:nvSpPr>
        <p:spPr>
          <a:xfrm>
            <a:off x="7668000" y="5067360"/>
            <a:ext cx="11152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จัดโต๊ะหมู่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8" name=""/>
          <p:cNvSpPr/>
          <p:nvPr/>
        </p:nvSpPr>
        <p:spPr>
          <a:xfrm>
            <a:off x="6789600" y="2324160"/>
            <a:ext cx="6400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มรรยาท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9" name=""/>
          <p:cNvSpPr/>
          <p:nvPr/>
        </p:nvSpPr>
        <p:spPr>
          <a:xfrm>
            <a:off x="7658280" y="800280"/>
            <a:ext cx="20840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ไหว้พระสวดมนต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0" name=""/>
          <p:cNvSpPr/>
          <p:nvPr/>
        </p:nvSpPr>
        <p:spPr>
          <a:xfrm>
            <a:off x="7658280" y="1019160"/>
            <a:ext cx="207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ไปวัด  ประโยชน์ของวั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1" name=""/>
          <p:cNvSpPr/>
          <p:nvPr/>
        </p:nvSpPr>
        <p:spPr>
          <a:xfrm>
            <a:off x="7658280" y="1220760"/>
            <a:ext cx="2312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ศึกษาพุทธศาสนาวันอาทิตย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2" name=""/>
          <p:cNvSpPr/>
          <p:nvPr/>
        </p:nvSpPr>
        <p:spPr>
          <a:xfrm>
            <a:off x="7658280" y="1449360"/>
            <a:ext cx="2242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แต่งกายที่เหมาะสมและการสำรวมระวั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3" name=""/>
          <p:cNvSpPr/>
          <p:nvPr/>
        </p:nvSpPr>
        <p:spPr>
          <a:xfrm>
            <a:off x="7598520" y="5295960"/>
            <a:ext cx="1621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ครื่องประกอบโต๊ะหมู่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8565480" y="2209680"/>
            <a:ext cx="70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ไหว้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8424720" y="3137040"/>
            <a:ext cx="1493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รับ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่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ิ่งของแก่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8528400" y="2527200"/>
            <a:ext cx="8337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กรา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8507880" y="2832120"/>
            <a:ext cx="978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ต้อนรั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8" name=""/>
          <p:cNvSpPr/>
          <p:nvPr/>
        </p:nvSpPr>
        <p:spPr>
          <a:xfrm>
            <a:off x="7642080" y="2324160"/>
            <a:ext cx="800280" cy="294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ฝึ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9" name=""/>
          <p:cNvSpPr/>
          <p:nvPr/>
        </p:nvSpPr>
        <p:spPr>
          <a:xfrm>
            <a:off x="7251840" y="1677960"/>
            <a:ext cx="2856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ถวายสิ่งของที่เหมาะสมแก่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0" name=""/>
          <p:cNvSpPr/>
          <p:nvPr/>
        </p:nvSpPr>
        <p:spPr>
          <a:xfrm>
            <a:off x="7359120" y="1906560"/>
            <a:ext cx="2150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แสดงตนเป็นพุทธมามก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61" name=""/>
          <p:cNvCxnSpPr>
            <a:stCxn id="930" idx="6"/>
            <a:endCxn id="1041" idx="2"/>
          </p:cNvCxnSpPr>
          <p:nvPr/>
        </p:nvCxnSpPr>
        <p:spPr>
          <a:xfrm flipV="1">
            <a:off x="6346800" y="663120"/>
            <a:ext cx="473760" cy="197856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2" name=""/>
          <p:cNvCxnSpPr>
            <a:stCxn id="930" idx="6"/>
            <a:endCxn id="1039" idx="2"/>
          </p:cNvCxnSpPr>
          <p:nvPr/>
        </p:nvCxnSpPr>
        <p:spPr>
          <a:xfrm flipV="1">
            <a:off x="6346800" y="1577160"/>
            <a:ext cx="473760" cy="106452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3" name=""/>
          <p:cNvCxnSpPr>
            <a:stCxn id="930" idx="6"/>
            <a:endCxn id="1048" idx="2"/>
          </p:cNvCxnSpPr>
          <p:nvPr/>
        </p:nvCxnSpPr>
        <p:spPr>
          <a:xfrm>
            <a:off x="6346800" y="2641320"/>
            <a:ext cx="443520" cy="3960"/>
          </a:xfrm>
          <a:prstGeom prst="bentConnector3">
            <a:avLst>
              <a:gd name="adj1" fmla="val 4760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4" name=""/>
          <p:cNvCxnSpPr>
            <a:stCxn id="930" idx="6"/>
            <a:endCxn id="1042" idx="2"/>
          </p:cNvCxnSpPr>
          <p:nvPr/>
        </p:nvCxnSpPr>
        <p:spPr>
          <a:xfrm>
            <a:off x="6346800" y="2641320"/>
            <a:ext cx="473760" cy="91836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5" name=""/>
          <p:cNvCxnSpPr>
            <a:stCxn id="930" idx="6"/>
            <a:endCxn id="1040" idx="2"/>
          </p:cNvCxnSpPr>
          <p:nvPr/>
        </p:nvCxnSpPr>
        <p:spPr>
          <a:xfrm>
            <a:off x="6346800" y="2641320"/>
            <a:ext cx="473760" cy="183276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6" name=""/>
          <p:cNvCxnSpPr>
            <a:stCxn id="1041" idx="6"/>
            <a:endCxn id="1043" idx="1"/>
          </p:cNvCxnSpPr>
          <p:nvPr/>
        </p:nvCxnSpPr>
        <p:spPr>
          <a:xfrm flipV="1">
            <a:off x="7459560" y="606240"/>
            <a:ext cx="199440" cy="576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7" name=""/>
          <p:cNvCxnSpPr>
            <a:stCxn id="1039" idx="6"/>
            <a:endCxn id="1049" idx="1"/>
          </p:cNvCxnSpPr>
          <p:nvPr/>
        </p:nvCxnSpPr>
        <p:spPr>
          <a:xfrm flipV="1">
            <a:off x="7459560" y="933120"/>
            <a:ext cx="199440" cy="64512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39" idx="6"/>
            <a:endCxn id="1050" idx="1"/>
          </p:cNvCxnSpPr>
          <p:nvPr/>
        </p:nvCxnSpPr>
        <p:spPr>
          <a:xfrm flipV="1">
            <a:off x="7459560" y="1152000"/>
            <a:ext cx="199440" cy="42624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39" idx="6"/>
            <a:endCxn id="1051" idx="1"/>
          </p:cNvCxnSpPr>
          <p:nvPr/>
        </p:nvCxnSpPr>
        <p:spPr>
          <a:xfrm flipV="1">
            <a:off x="7459560" y="1353600"/>
            <a:ext cx="199440" cy="22464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0" name=""/>
          <p:cNvCxnSpPr>
            <a:stCxn id="1039" idx="6"/>
            <a:endCxn id="1052" idx="1"/>
          </p:cNvCxnSpPr>
          <p:nvPr/>
        </p:nvCxnSpPr>
        <p:spPr>
          <a:xfrm>
            <a:off x="7459560" y="1577520"/>
            <a:ext cx="199440" cy="54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1" name=""/>
          <p:cNvCxnSpPr>
            <a:stCxn id="1039" idx="6"/>
            <a:endCxn id="1059" idx="1"/>
          </p:cNvCxnSpPr>
          <p:nvPr/>
        </p:nvCxnSpPr>
        <p:spPr>
          <a:xfrm>
            <a:off x="7459560" y="1577880"/>
            <a:ext cx="199440" cy="2340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2" name=""/>
          <p:cNvCxnSpPr>
            <a:stCxn id="1039" idx="6"/>
            <a:endCxn id="1060" idx="1"/>
          </p:cNvCxnSpPr>
          <p:nvPr/>
        </p:nvCxnSpPr>
        <p:spPr>
          <a:xfrm>
            <a:off x="7459560" y="1577520"/>
            <a:ext cx="199440" cy="4626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48" idx="6"/>
            <a:endCxn id="1058" idx="1"/>
          </p:cNvCxnSpPr>
          <p:nvPr/>
        </p:nvCxnSpPr>
        <p:spPr>
          <a:xfrm flipV="1">
            <a:off x="7429680" y="2476080"/>
            <a:ext cx="305280" cy="1692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58" idx="3"/>
            <a:endCxn id="1054" idx="1"/>
          </p:cNvCxnSpPr>
          <p:nvPr/>
        </p:nvCxnSpPr>
        <p:spPr>
          <a:xfrm flipV="1">
            <a:off x="8349840" y="2363040"/>
            <a:ext cx="281880" cy="113400"/>
          </a:xfrm>
          <a:prstGeom prst="bentConnector3">
            <a:avLst>
              <a:gd name="adj1" fmla="val 49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58" idx="3"/>
            <a:endCxn id="1056" idx="1"/>
          </p:cNvCxnSpPr>
          <p:nvPr/>
        </p:nvCxnSpPr>
        <p:spPr>
          <a:xfrm>
            <a:off x="8350200" y="2476080"/>
            <a:ext cx="280080" cy="20556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6" name=""/>
          <p:cNvCxnSpPr>
            <a:stCxn id="1058" idx="3"/>
            <a:endCxn id="1057" idx="1"/>
          </p:cNvCxnSpPr>
          <p:nvPr/>
        </p:nvCxnSpPr>
        <p:spPr>
          <a:xfrm>
            <a:off x="8349840" y="2476440"/>
            <a:ext cx="281880" cy="510480"/>
          </a:xfrm>
          <a:prstGeom prst="bentConnector3">
            <a:avLst>
              <a:gd name="adj1" fmla="val 49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58" idx="3"/>
            <a:endCxn id="1055" idx="1"/>
          </p:cNvCxnSpPr>
          <p:nvPr/>
        </p:nvCxnSpPr>
        <p:spPr>
          <a:xfrm>
            <a:off x="8349840" y="2476440"/>
            <a:ext cx="281880" cy="921600"/>
          </a:xfrm>
          <a:prstGeom prst="bentConnector3">
            <a:avLst>
              <a:gd name="adj1" fmla="val 49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42" idx="6"/>
            <a:endCxn id="1044" idx="1"/>
          </p:cNvCxnSpPr>
          <p:nvPr/>
        </p:nvCxnSpPr>
        <p:spPr>
          <a:xfrm>
            <a:off x="7459200" y="3558960"/>
            <a:ext cx="428040" cy="346680"/>
          </a:xfrm>
          <a:prstGeom prst="bentConnector3">
            <a:avLst>
              <a:gd name="adj1" fmla="val 497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42" idx="6"/>
            <a:endCxn id="1045" idx="1"/>
          </p:cNvCxnSpPr>
          <p:nvPr/>
        </p:nvCxnSpPr>
        <p:spPr>
          <a:xfrm>
            <a:off x="7459200" y="3558960"/>
            <a:ext cx="428040" cy="602280"/>
          </a:xfrm>
          <a:prstGeom prst="bentConnector3">
            <a:avLst>
              <a:gd name="adj1" fmla="val 497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40" idx="6"/>
            <a:endCxn id="1046" idx="1"/>
          </p:cNvCxnSpPr>
          <p:nvPr/>
        </p:nvCxnSpPr>
        <p:spPr>
          <a:xfrm>
            <a:off x="7459200" y="4473720"/>
            <a:ext cx="351360" cy="4528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40" idx="6"/>
            <a:endCxn id="1047" idx="1"/>
          </p:cNvCxnSpPr>
          <p:nvPr/>
        </p:nvCxnSpPr>
        <p:spPr>
          <a:xfrm>
            <a:off x="7459200" y="4473360"/>
            <a:ext cx="351360" cy="6814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2" name=""/>
          <p:cNvCxnSpPr>
            <a:stCxn id="1040" idx="6"/>
            <a:endCxn id="1053" idx="1"/>
          </p:cNvCxnSpPr>
          <p:nvPr/>
        </p:nvCxnSpPr>
        <p:spPr>
          <a:xfrm>
            <a:off x="7459200" y="4473720"/>
            <a:ext cx="351360" cy="9100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937" idx="2"/>
            <a:endCxn id="941" idx="1"/>
          </p:cNvCxnSpPr>
          <p:nvPr/>
        </p:nvCxnSpPr>
        <p:spPr>
          <a:xfrm flipV="1" rot="10800000">
            <a:off x="3237840" y="4381560"/>
            <a:ext cx="153000" cy="621000"/>
          </a:xfrm>
          <a:prstGeom prst="bentConnector3">
            <a:avLst>
              <a:gd name="adj1" fmla="val 1497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937" idx="2"/>
            <a:endCxn id="942" idx="1"/>
          </p:cNvCxnSpPr>
          <p:nvPr/>
        </p:nvCxnSpPr>
        <p:spPr>
          <a:xfrm flipV="1" rot="10800000">
            <a:off x="3237840" y="4381560"/>
            <a:ext cx="153000" cy="1078200"/>
          </a:xfrm>
          <a:prstGeom prst="bentConnector3">
            <a:avLst>
              <a:gd name="adj1" fmla="val 14976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5" name=""/>
          <p:cNvSpPr/>
          <p:nvPr/>
        </p:nvSpPr>
        <p:spPr>
          <a:xfrm>
            <a:off x="9297720" y="190440"/>
            <a:ext cx="4514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86" name=""/>
          <p:cNvCxnSpPr>
            <a:stCxn id="926" idx="2"/>
            <a:endCxn id="961" idx="2"/>
          </p:cNvCxnSpPr>
          <p:nvPr/>
        </p:nvCxnSpPr>
        <p:spPr>
          <a:xfrm flipH="1" rot="10800000">
            <a:off x="3752640" y="1247040"/>
            <a:ext cx="1086480" cy="632520"/>
          </a:xfrm>
          <a:prstGeom prst="bentConnector3">
            <a:avLst>
              <a:gd name="adj1" fmla="val -2761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9" name=""/>
          <p:cNvSpPr/>
          <p:nvPr/>
        </p:nvSpPr>
        <p:spPr>
          <a:xfrm>
            <a:off x="930096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4389480" y="280044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1" name=""/>
          <p:cNvSpPr/>
          <p:nvPr/>
        </p:nvSpPr>
        <p:spPr>
          <a:xfrm>
            <a:off x="4521240" y="1028880"/>
            <a:ext cx="1208160" cy="1164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2" name=""/>
          <p:cNvSpPr/>
          <p:nvPr/>
        </p:nvSpPr>
        <p:spPr>
          <a:xfrm>
            <a:off x="4533840" y="4915080"/>
            <a:ext cx="1206720" cy="1164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ทางพระพุทธ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ศาสน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93" name=""/>
          <p:cNvCxnSpPr>
            <a:stCxn id="1092" idx="0"/>
            <a:endCxn id="1090" idx="4"/>
          </p:cNvCxnSpPr>
          <p:nvPr/>
        </p:nvCxnSpPr>
        <p:spPr>
          <a:xfrm flipH="1" flipV="1">
            <a:off x="5121000" y="4317480"/>
            <a:ext cx="16560" cy="578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4" name=""/>
          <p:cNvCxnSpPr>
            <a:stCxn id="1091" idx="4"/>
            <a:endCxn id="1090" idx="0"/>
          </p:cNvCxnSpPr>
          <p:nvPr/>
        </p:nvCxnSpPr>
        <p:spPr>
          <a:xfrm flipH="1">
            <a:off x="5120640" y="2212920"/>
            <a:ext cx="5400" cy="559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5" name=""/>
          <p:cNvSpPr/>
          <p:nvPr/>
        </p:nvSpPr>
        <p:spPr>
          <a:xfrm>
            <a:off x="1456920" y="182520"/>
            <a:ext cx="7374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  ชั้นประถมศึกษาปีที่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6" name=""/>
          <p:cNvSpPr/>
          <p:nvPr/>
        </p:nvSpPr>
        <p:spPr>
          <a:xfrm>
            <a:off x="2400480" y="2933640"/>
            <a:ext cx="1207800" cy="1166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97" name=""/>
          <p:cNvCxnSpPr>
            <a:stCxn id="1096" idx="6"/>
            <a:endCxn id="1090" idx="2"/>
          </p:cNvCxnSpPr>
          <p:nvPr/>
        </p:nvCxnSpPr>
        <p:spPr>
          <a:xfrm>
            <a:off x="3627360" y="3517560"/>
            <a:ext cx="734400" cy="27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"/>
          <p:cNvSpPr/>
          <p:nvPr/>
        </p:nvSpPr>
        <p:spPr>
          <a:xfrm>
            <a:off x="7698240" y="5156280"/>
            <a:ext cx="10123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9" name=""/>
          <p:cNvSpPr/>
          <p:nvPr/>
        </p:nvSpPr>
        <p:spPr>
          <a:xfrm>
            <a:off x="7687800" y="5442120"/>
            <a:ext cx="10882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0" name=""/>
          <p:cNvSpPr/>
          <p:nvPr/>
        </p:nvSpPr>
        <p:spPr>
          <a:xfrm>
            <a:off x="7670880" y="5721480"/>
            <a:ext cx="11476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1" name=""/>
          <p:cNvSpPr/>
          <p:nvPr/>
        </p:nvSpPr>
        <p:spPr>
          <a:xfrm>
            <a:off x="7654680" y="6051600"/>
            <a:ext cx="13168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2" name=""/>
          <p:cNvSpPr/>
          <p:nvPr/>
        </p:nvSpPr>
        <p:spPr>
          <a:xfrm>
            <a:off x="6369480" y="5600880"/>
            <a:ext cx="1274400" cy="55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ความสำคัญ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และหลักปฏิบั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03" name=""/>
          <p:cNvCxnSpPr>
            <a:stCxn id="1092" idx="6"/>
            <a:endCxn id="1102" idx="1"/>
          </p:cNvCxnSpPr>
          <p:nvPr/>
        </p:nvCxnSpPr>
        <p:spPr>
          <a:xfrm>
            <a:off x="5759280" y="5497200"/>
            <a:ext cx="756720" cy="384840"/>
          </a:xfrm>
          <a:prstGeom prst="bentConnector3">
            <a:avLst>
              <a:gd name="adj1" fmla="val 487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4" name=""/>
          <p:cNvCxnSpPr>
            <a:stCxn id="1098" idx="1"/>
            <a:endCxn id="1102" idx="3"/>
          </p:cNvCxnSpPr>
          <p:nvPr/>
        </p:nvCxnSpPr>
        <p:spPr>
          <a:xfrm flipV="1" rot="10800000">
            <a:off x="7497000" y="5317200"/>
            <a:ext cx="313560" cy="56412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099" idx="1"/>
            <a:endCxn id="1102" idx="3"/>
          </p:cNvCxnSpPr>
          <p:nvPr/>
        </p:nvCxnSpPr>
        <p:spPr>
          <a:xfrm flipV="1" rot="10800000">
            <a:off x="7497000" y="5603760"/>
            <a:ext cx="313560" cy="27828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1"/>
            <a:endCxn id="1102" idx="3"/>
          </p:cNvCxnSpPr>
          <p:nvPr/>
        </p:nvCxnSpPr>
        <p:spPr>
          <a:xfrm rot="10800000">
            <a:off x="7497000" y="5880960"/>
            <a:ext cx="313560" cy="216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1" idx="1"/>
            <a:endCxn id="1102" idx="3"/>
          </p:cNvCxnSpPr>
          <p:nvPr/>
        </p:nvCxnSpPr>
        <p:spPr>
          <a:xfrm rot="10800000">
            <a:off x="7497000" y="5880960"/>
            <a:ext cx="313560" cy="33264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096" idx="2"/>
            <a:endCxn id="1109" idx="3"/>
          </p:cNvCxnSpPr>
          <p:nvPr/>
        </p:nvCxnSpPr>
        <p:spPr>
          <a:xfrm flipV="1" rot="10800000">
            <a:off x="1678680" y="3516840"/>
            <a:ext cx="702720" cy="570600"/>
          </a:xfrm>
          <a:prstGeom prst="bentConnector3">
            <a:avLst>
              <a:gd name="adj1" fmla="val 4864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096" idx="2"/>
            <a:endCxn id="1111" idx="3"/>
          </p:cNvCxnSpPr>
          <p:nvPr/>
        </p:nvCxnSpPr>
        <p:spPr>
          <a:xfrm flipV="1" rot="10800000">
            <a:off x="1678680" y="3516840"/>
            <a:ext cx="702720" cy="96120"/>
          </a:xfrm>
          <a:prstGeom prst="bentConnector3">
            <a:avLst>
              <a:gd name="adj1" fmla="val 486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1" name=""/>
          <p:cNvSpPr/>
          <p:nvPr/>
        </p:nvSpPr>
        <p:spPr>
          <a:xfrm>
            <a:off x="376560" y="3467160"/>
            <a:ext cx="1498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อารามทูสก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9" name=""/>
          <p:cNvSpPr/>
          <p:nvPr/>
        </p:nvSpPr>
        <p:spPr>
          <a:xfrm>
            <a:off x="434520" y="3917880"/>
            <a:ext cx="1435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มหาวาณิช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2" name=""/>
          <p:cNvSpPr/>
          <p:nvPr/>
        </p:nvSpPr>
        <p:spPr>
          <a:xfrm>
            <a:off x="3612960" y="1479600"/>
            <a:ext cx="7452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ผจญมาร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3" name=""/>
          <p:cNvSpPr/>
          <p:nvPr/>
        </p:nvSpPr>
        <p:spPr>
          <a:xfrm>
            <a:off x="3469320" y="2146320"/>
            <a:ext cx="891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ฐมเทศ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4" name=""/>
          <p:cNvSpPr/>
          <p:nvPr/>
        </p:nvSpPr>
        <p:spPr>
          <a:xfrm>
            <a:off x="3499200" y="2403360"/>
            <a:ext cx="848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รินิพพา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5" name=""/>
          <p:cNvSpPr/>
          <p:nvPr/>
        </p:nvSpPr>
        <p:spPr>
          <a:xfrm>
            <a:off x="3148920" y="853920"/>
            <a:ext cx="124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สรุป</a:t>
            </a:r>
            <a:r>
              <a:rPr b="0" lang="hi-IN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</a:t>
            </a: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ระว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6" name=""/>
          <p:cNvSpPr/>
          <p:nvPr/>
        </p:nvSpPr>
        <p:spPr>
          <a:xfrm>
            <a:off x="3837240" y="1819440"/>
            <a:ext cx="458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7" name=""/>
          <p:cNvSpPr/>
          <p:nvPr/>
        </p:nvSpPr>
        <p:spPr>
          <a:xfrm>
            <a:off x="3126600" y="1181160"/>
            <a:ext cx="1325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การบำเพ็ญเพียร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18" name=""/>
          <p:cNvCxnSpPr>
            <a:stCxn id="1091" idx="2"/>
            <a:endCxn id="1115" idx="3"/>
          </p:cNvCxnSpPr>
          <p:nvPr/>
        </p:nvCxnSpPr>
        <p:spPr>
          <a:xfrm rot="10800000">
            <a:off x="4229280" y="983520"/>
            <a:ext cx="273240" cy="62784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9" name=""/>
          <p:cNvCxnSpPr>
            <a:stCxn id="1091" idx="2"/>
            <a:endCxn id="1117" idx="3"/>
          </p:cNvCxnSpPr>
          <p:nvPr/>
        </p:nvCxnSpPr>
        <p:spPr>
          <a:xfrm rot="10800000">
            <a:off x="4229280" y="1311120"/>
            <a:ext cx="273240" cy="30060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1" idx="2"/>
            <a:endCxn id="1112" idx="3"/>
          </p:cNvCxnSpPr>
          <p:nvPr/>
        </p:nvCxnSpPr>
        <p:spPr>
          <a:xfrm rot="10800000">
            <a:off x="4229280" y="1608840"/>
            <a:ext cx="273240" cy="252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1" name=""/>
          <p:cNvCxnSpPr>
            <a:stCxn id="1091" idx="2"/>
            <a:endCxn id="1116" idx="3"/>
          </p:cNvCxnSpPr>
          <p:nvPr/>
        </p:nvCxnSpPr>
        <p:spPr>
          <a:xfrm flipV="1" rot="10800000">
            <a:off x="4229280" y="1610280"/>
            <a:ext cx="273240" cy="33876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2" name=""/>
          <p:cNvCxnSpPr>
            <a:stCxn id="1091" idx="2"/>
            <a:endCxn id="1113" idx="3"/>
          </p:cNvCxnSpPr>
          <p:nvPr/>
        </p:nvCxnSpPr>
        <p:spPr>
          <a:xfrm flipV="1" rot="10800000">
            <a:off x="4229280" y="1610280"/>
            <a:ext cx="273240" cy="64188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3" name=""/>
          <p:cNvCxnSpPr>
            <a:stCxn id="1091" idx="2"/>
            <a:endCxn id="1114" idx="3"/>
          </p:cNvCxnSpPr>
          <p:nvPr/>
        </p:nvCxnSpPr>
        <p:spPr>
          <a:xfrm flipV="1" rot="10800000">
            <a:off x="4229280" y="1611000"/>
            <a:ext cx="273240" cy="92304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4" name=""/>
          <p:cNvSpPr/>
          <p:nvPr/>
        </p:nvSpPr>
        <p:spPr>
          <a:xfrm>
            <a:off x="930276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5" name=""/>
          <p:cNvSpPr/>
          <p:nvPr/>
        </p:nvSpPr>
        <p:spPr>
          <a:xfrm>
            <a:off x="6515280" y="2933640"/>
            <a:ext cx="119844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เป็นรากฐานสำคัญ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ของวัฒนธรรมไทย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26" name=""/>
          <p:cNvCxnSpPr>
            <a:stCxn id="1125" idx="2"/>
            <a:endCxn id="1090" idx="6"/>
          </p:cNvCxnSpPr>
          <p:nvPr/>
        </p:nvCxnSpPr>
        <p:spPr>
          <a:xfrm flipH="1">
            <a:off x="5880960" y="3543480"/>
            <a:ext cx="6152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9" name=""/>
          <p:cNvSpPr/>
          <p:nvPr/>
        </p:nvSpPr>
        <p:spPr>
          <a:xfrm>
            <a:off x="9303840" y="190440"/>
            <a:ext cx="4438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4330800" y="2886120"/>
            <a:ext cx="1346040" cy="13366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1" name=""/>
          <p:cNvSpPr/>
          <p:nvPr/>
        </p:nvSpPr>
        <p:spPr>
          <a:xfrm>
            <a:off x="1409040" y="33480"/>
            <a:ext cx="747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ธรรม  ชั้นประถมศึกษาปีที่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2" name=""/>
          <p:cNvSpPr/>
          <p:nvPr/>
        </p:nvSpPr>
        <p:spPr>
          <a:xfrm>
            <a:off x="4546440" y="52959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3" name=""/>
          <p:cNvSpPr/>
          <p:nvPr/>
        </p:nvSpPr>
        <p:spPr>
          <a:xfrm>
            <a:off x="5879520" y="5295960"/>
            <a:ext cx="14954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นะนำ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4" name=""/>
          <p:cNvSpPr/>
          <p:nvPr/>
        </p:nvSpPr>
        <p:spPr>
          <a:xfrm>
            <a:off x="5798160" y="5829480"/>
            <a:ext cx="1923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5" name=""/>
          <p:cNvSpPr/>
          <p:nvPr/>
        </p:nvSpPr>
        <p:spPr>
          <a:xfrm>
            <a:off x="8204040" y="3543480"/>
            <a:ext cx="10972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นุพุทธ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6" name=""/>
          <p:cNvSpPr/>
          <p:nvPr/>
        </p:nvSpPr>
        <p:spPr>
          <a:xfrm>
            <a:off x="8204040" y="3086280"/>
            <a:ext cx="10987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ปัจเจกพุทธ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37" name=""/>
          <p:cNvCxnSpPr>
            <a:stCxn id="1132" idx="0"/>
            <a:endCxn id="1130" idx="4"/>
          </p:cNvCxnSpPr>
          <p:nvPr/>
        </p:nvCxnSpPr>
        <p:spPr>
          <a:xfrm flipV="1">
            <a:off x="5003280" y="4250520"/>
            <a:ext cx="1080" cy="1026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8" name=""/>
          <p:cNvCxnSpPr>
            <a:stCxn id="1132" idx="6"/>
            <a:endCxn id="1133" idx="1"/>
          </p:cNvCxnSpPr>
          <p:nvPr/>
        </p:nvCxnSpPr>
        <p:spPr>
          <a:xfrm flipV="1">
            <a:off x="5479920" y="5449680"/>
            <a:ext cx="578880" cy="303840"/>
          </a:xfrm>
          <a:prstGeom prst="bentConnector3">
            <a:avLst>
              <a:gd name="adj1" fmla="val 483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32" idx="6"/>
            <a:endCxn id="1134" idx="1"/>
          </p:cNvCxnSpPr>
          <p:nvPr/>
        </p:nvCxnSpPr>
        <p:spPr>
          <a:xfrm>
            <a:off x="5479920" y="5752800"/>
            <a:ext cx="578880" cy="230760"/>
          </a:xfrm>
          <a:prstGeom prst="bentConnector3">
            <a:avLst>
              <a:gd name="adj1" fmla="val 4835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6515280" y="3022560"/>
            <a:ext cx="107928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41" name=""/>
          <p:cNvCxnSpPr>
            <a:stCxn id="1140" idx="6"/>
            <a:endCxn id="1136" idx="1"/>
          </p:cNvCxnSpPr>
          <p:nvPr/>
        </p:nvCxnSpPr>
        <p:spPr>
          <a:xfrm flipV="1">
            <a:off x="7613640" y="3214440"/>
            <a:ext cx="591120" cy="342000"/>
          </a:xfrm>
          <a:prstGeom prst="bentConnector3">
            <a:avLst>
              <a:gd name="adj1" fmla="val 483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40" idx="6"/>
            <a:endCxn id="1135" idx="1"/>
          </p:cNvCxnSpPr>
          <p:nvPr/>
        </p:nvCxnSpPr>
        <p:spPr>
          <a:xfrm>
            <a:off x="7613640" y="3555720"/>
            <a:ext cx="591120" cy="127800"/>
          </a:xfrm>
          <a:prstGeom prst="bentConnector3">
            <a:avLst>
              <a:gd name="adj1" fmla="val 483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3" name=""/>
          <p:cNvSpPr/>
          <p:nvPr/>
        </p:nvSpPr>
        <p:spPr>
          <a:xfrm>
            <a:off x="6639480" y="6219720"/>
            <a:ext cx="1400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กสนุกจะทุกข์ถนั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4" name=""/>
          <p:cNvSpPr/>
          <p:nvPr/>
        </p:nvSpPr>
        <p:spPr>
          <a:xfrm>
            <a:off x="2387160" y="733320"/>
            <a:ext cx="774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45" name=""/>
          <p:cNvCxnSpPr>
            <a:stCxn id="1144" idx="3"/>
            <a:endCxn id="1146" idx="1"/>
          </p:cNvCxnSpPr>
          <p:nvPr/>
        </p:nvCxnSpPr>
        <p:spPr>
          <a:xfrm flipV="1">
            <a:off x="3071520" y="879120"/>
            <a:ext cx="35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1480320" y="876240"/>
            <a:ext cx="9907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8" name=""/>
          <p:cNvSpPr/>
          <p:nvPr/>
        </p:nvSpPr>
        <p:spPr>
          <a:xfrm>
            <a:off x="1397520" y="1422360"/>
            <a:ext cx="10548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คหวัตถุ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9" name=""/>
          <p:cNvSpPr/>
          <p:nvPr/>
        </p:nvSpPr>
        <p:spPr>
          <a:xfrm>
            <a:off x="1222920" y="1714680"/>
            <a:ext cx="1245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ฆราวาสธรรม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0" name=""/>
          <p:cNvSpPr/>
          <p:nvPr/>
        </p:nvSpPr>
        <p:spPr>
          <a:xfrm>
            <a:off x="1569600" y="3016080"/>
            <a:ext cx="8553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6" name=""/>
          <p:cNvSpPr/>
          <p:nvPr/>
        </p:nvSpPr>
        <p:spPr>
          <a:xfrm>
            <a:off x="3351960" y="704880"/>
            <a:ext cx="83844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1" name=""/>
          <p:cNvSpPr/>
          <p:nvPr/>
        </p:nvSpPr>
        <p:spPr>
          <a:xfrm>
            <a:off x="3245760" y="1339920"/>
            <a:ext cx="99396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2" name=""/>
          <p:cNvSpPr/>
          <p:nvPr/>
        </p:nvSpPr>
        <p:spPr>
          <a:xfrm>
            <a:off x="1348560" y="3324240"/>
            <a:ext cx="5731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จักให้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3" name=""/>
          <p:cNvSpPr/>
          <p:nvPr/>
        </p:nvSpPr>
        <p:spPr>
          <a:xfrm>
            <a:off x="2862360" y="2413080"/>
            <a:ext cx="145116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ห้บริสุทธิ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4" name=""/>
          <p:cNvSpPr/>
          <p:nvPr/>
        </p:nvSpPr>
        <p:spPr>
          <a:xfrm>
            <a:off x="889920" y="5000760"/>
            <a:ext cx="217944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สวดมนต์ไหว้พระสรรเสริญคุณ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และแผ่เมตต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5" name=""/>
          <p:cNvSpPr/>
          <p:nvPr/>
        </p:nvSpPr>
        <p:spPr>
          <a:xfrm>
            <a:off x="969120" y="5381640"/>
            <a:ext cx="19371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ความหมายและประโยชน์ขอ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ติสัมปชัญญ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6" name=""/>
          <p:cNvSpPr/>
          <p:nvPr/>
        </p:nvSpPr>
        <p:spPr>
          <a:xfrm>
            <a:off x="986400" y="5762520"/>
            <a:ext cx="16567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ประโยชน์ของการฝึกสต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7" name=""/>
          <p:cNvSpPr/>
          <p:nvPr/>
        </p:nvSpPr>
        <p:spPr>
          <a:xfrm>
            <a:off x="886320" y="6024600"/>
            <a:ext cx="2429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สมาธิเบื้องต้นด้วยการฝึกลมหายใจ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8" name=""/>
          <p:cNvSpPr/>
          <p:nvPr/>
        </p:nvSpPr>
        <p:spPr>
          <a:xfrm>
            <a:off x="970200" y="6583320"/>
            <a:ext cx="19569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ให้มีสมาธิในการฟังการอ่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คิด การถาม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ารเขีย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59" name=""/>
          <p:cNvCxnSpPr>
            <a:stCxn id="1130" idx="6"/>
            <a:endCxn id="1140" idx="2"/>
          </p:cNvCxnSpPr>
          <p:nvPr/>
        </p:nvCxnSpPr>
        <p:spPr>
          <a:xfrm>
            <a:off x="5705640" y="3553920"/>
            <a:ext cx="791280" cy="2520"/>
          </a:xfrm>
          <a:prstGeom prst="bentConnector3">
            <a:avLst>
              <a:gd name="adj1" fmla="val 49385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60" name=""/>
          <p:cNvSpPr/>
          <p:nvPr/>
        </p:nvSpPr>
        <p:spPr>
          <a:xfrm>
            <a:off x="1169640" y="1143000"/>
            <a:ext cx="1358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ติ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มปชัญญ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1" name=""/>
          <p:cNvSpPr/>
          <p:nvPr/>
        </p:nvSpPr>
        <p:spPr>
          <a:xfrm>
            <a:off x="1292040" y="2324160"/>
            <a:ext cx="12009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ชุมชน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แวดล้อ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2" name=""/>
          <p:cNvSpPr/>
          <p:nvPr/>
        </p:nvSpPr>
        <p:spPr>
          <a:xfrm>
            <a:off x="4533840" y="12574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3" name=""/>
          <p:cNvSpPr/>
          <p:nvPr/>
        </p:nvSpPr>
        <p:spPr>
          <a:xfrm>
            <a:off x="8204040" y="2629080"/>
            <a:ext cx="13575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ัมมาสัมพุทธเจ้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64" name=""/>
          <p:cNvCxnSpPr>
            <a:stCxn id="1163" idx="1"/>
            <a:endCxn id="1140" idx="6"/>
          </p:cNvCxnSpPr>
          <p:nvPr/>
        </p:nvCxnSpPr>
        <p:spPr>
          <a:xfrm flipV="1" rot="10800000">
            <a:off x="7612920" y="2767680"/>
            <a:ext cx="591120" cy="788040"/>
          </a:xfrm>
          <a:prstGeom prst="bentConnector3">
            <a:avLst>
              <a:gd name="adj1" fmla="val 5155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5" name=""/>
          <p:cNvSpPr/>
          <p:nvPr/>
        </p:nvSpPr>
        <p:spPr>
          <a:xfrm>
            <a:off x="665280" y="3543480"/>
            <a:ext cx="1385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ยู่ในสิ่งแวดล้อมที่ด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6" name=""/>
          <p:cNvSpPr/>
          <p:nvPr/>
        </p:nvSpPr>
        <p:spPr>
          <a:xfrm>
            <a:off x="1679400" y="2019240"/>
            <a:ext cx="7196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ตถะ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7" name=""/>
          <p:cNvSpPr/>
          <p:nvPr/>
        </p:nvSpPr>
        <p:spPr>
          <a:xfrm>
            <a:off x="-99720" y="1827360"/>
            <a:ext cx="14936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ต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ตตัตถะ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8" name=""/>
          <p:cNvSpPr/>
          <p:nvPr/>
        </p:nvSpPr>
        <p:spPr>
          <a:xfrm>
            <a:off x="112680" y="2330280"/>
            <a:ext cx="1252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ทั้งสองฝ่า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ุภยัตถะ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9" name=""/>
          <p:cNvSpPr/>
          <p:nvPr/>
        </p:nvSpPr>
        <p:spPr>
          <a:xfrm>
            <a:off x="-46440" y="2079720"/>
            <a:ext cx="1428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ผู้อื่น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ัตถะ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0" name=""/>
          <p:cNvSpPr/>
          <p:nvPr/>
        </p:nvSpPr>
        <p:spPr>
          <a:xfrm>
            <a:off x="988920" y="6229440"/>
            <a:ext cx="17391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การยืน การเดิน การนั่ง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และการนอนอย่างมีสต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1" name=""/>
          <p:cNvSpPr/>
          <p:nvPr/>
        </p:nvSpPr>
        <p:spPr>
          <a:xfrm>
            <a:off x="2857680" y="30862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r>
              <a:rPr b="1" lang="th-TH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2" name=""/>
          <p:cNvSpPr/>
          <p:nvPr/>
        </p:nvSpPr>
        <p:spPr>
          <a:xfrm>
            <a:off x="3086280" y="4229280"/>
            <a:ext cx="12952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ทมาโน  ปิโย  โห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ผู้ให้ย่อมเป็นที่รั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3" name=""/>
          <p:cNvSpPr/>
          <p:nvPr/>
        </p:nvSpPr>
        <p:spPr>
          <a:xfrm>
            <a:off x="3086280" y="4762440"/>
            <a:ext cx="18288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โมกฺโข  กลฺยาณิยา  สาธ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ล่งวาจาไพเราะให้สำเร็จประโยชน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74" name=""/>
          <p:cNvCxnSpPr>
            <a:stCxn id="1171" idx="6"/>
            <a:endCxn id="1130" idx="2"/>
          </p:cNvCxnSpPr>
          <p:nvPr/>
        </p:nvCxnSpPr>
        <p:spPr>
          <a:xfrm>
            <a:off x="3790800" y="3543480"/>
            <a:ext cx="5119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5" name=""/>
          <p:cNvCxnSpPr>
            <a:stCxn id="1130" idx="0"/>
            <a:endCxn id="1162" idx="4"/>
          </p:cNvCxnSpPr>
          <p:nvPr/>
        </p:nvCxnSpPr>
        <p:spPr>
          <a:xfrm flipH="1" flipV="1">
            <a:off x="4990320" y="2189880"/>
            <a:ext cx="13320" cy="66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76" name=""/>
          <p:cNvSpPr/>
          <p:nvPr/>
        </p:nvSpPr>
        <p:spPr>
          <a:xfrm>
            <a:off x="1168920" y="3781440"/>
            <a:ext cx="7804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ูดไพเรา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77" name=""/>
          <p:cNvCxnSpPr>
            <a:stCxn id="1162" idx="2"/>
            <a:endCxn id="1146" idx="3"/>
          </p:cNvCxnSpPr>
          <p:nvPr/>
        </p:nvCxnSpPr>
        <p:spPr>
          <a:xfrm rot="10800000">
            <a:off x="4115520" y="878760"/>
            <a:ext cx="399240" cy="835920"/>
          </a:xfrm>
          <a:prstGeom prst="bentConnector3">
            <a:avLst>
              <a:gd name="adj1" fmla="val 473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8" name=""/>
          <p:cNvCxnSpPr>
            <a:stCxn id="1162" idx="2"/>
            <a:endCxn id="1151" idx="3"/>
          </p:cNvCxnSpPr>
          <p:nvPr/>
        </p:nvCxnSpPr>
        <p:spPr>
          <a:xfrm rot="10800000">
            <a:off x="4141080" y="1513800"/>
            <a:ext cx="373680" cy="200880"/>
          </a:xfrm>
          <a:prstGeom prst="bentConnector3">
            <a:avLst>
              <a:gd name="adj1" fmla="val 471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62" idx="2"/>
            <a:endCxn id="1153" idx="3"/>
          </p:cNvCxnSpPr>
          <p:nvPr/>
        </p:nvCxnSpPr>
        <p:spPr>
          <a:xfrm flipV="1" rot="10800000">
            <a:off x="4166640" y="1713600"/>
            <a:ext cx="347760" cy="873720"/>
          </a:xfrm>
          <a:prstGeom prst="bentConnector3">
            <a:avLst>
              <a:gd name="adj1" fmla="val 4704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81" idx="0"/>
            <a:endCxn id="1147" idx="3"/>
          </p:cNvCxnSpPr>
          <p:nvPr/>
        </p:nvCxnSpPr>
        <p:spPr>
          <a:xfrm flipV="1" rot="16200000">
            <a:off x="1990440" y="1380240"/>
            <a:ext cx="761040" cy="59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49" idx="3"/>
          </p:cNvCxnSpPr>
          <p:nvPr/>
        </p:nvCxnSpPr>
        <p:spPr>
          <a:xfrm flipV="1" rot="16200000">
            <a:off x="2276640" y="1895040"/>
            <a:ext cx="172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1" idx="1"/>
            <a:endCxn id="1166" idx="3"/>
          </p:cNvCxnSpPr>
          <p:nvPr/>
        </p:nvCxnSpPr>
        <p:spPr>
          <a:xfrm rot="5400000">
            <a:off x="2251440" y="2024640"/>
            <a:ext cx="230760" cy="67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81" idx="1"/>
            <a:endCxn id="1161" idx="3"/>
          </p:cNvCxnSpPr>
          <p:nvPr/>
        </p:nvCxnSpPr>
        <p:spPr>
          <a:xfrm rot="5400000">
            <a:off x="1990080" y="2280960"/>
            <a:ext cx="748080" cy="72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1"/>
            <a:endCxn id="1150" idx="3"/>
          </p:cNvCxnSpPr>
          <p:nvPr/>
        </p:nvCxnSpPr>
        <p:spPr>
          <a:xfrm rot="5400000">
            <a:off x="1753920" y="2524320"/>
            <a:ext cx="1227240" cy="65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48" idx="3"/>
            <a:endCxn id="1181" idx="0"/>
          </p:cNvCxnSpPr>
          <p:nvPr/>
        </p:nvCxnSpPr>
        <p:spPr>
          <a:xfrm>
            <a:off x="2322000" y="1576080"/>
            <a:ext cx="7884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60" idx="3"/>
            <a:endCxn id="1181" idx="0"/>
          </p:cNvCxnSpPr>
          <p:nvPr/>
        </p:nvCxnSpPr>
        <p:spPr>
          <a:xfrm>
            <a:off x="2355840" y="1296720"/>
            <a:ext cx="45360" cy="494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8" name=""/>
          <p:cNvCxnSpPr>
            <a:stCxn id="1166" idx="1"/>
            <a:endCxn id="1167" idx="3"/>
          </p:cNvCxnSpPr>
          <p:nvPr/>
        </p:nvCxnSpPr>
        <p:spPr>
          <a:xfrm rot="10800000">
            <a:off x="1178640" y="1936080"/>
            <a:ext cx="565920" cy="23724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9" name=""/>
          <p:cNvCxnSpPr>
            <a:stCxn id="1166" idx="1"/>
            <a:endCxn id="1169" idx="3"/>
          </p:cNvCxnSpPr>
          <p:nvPr/>
        </p:nvCxnSpPr>
        <p:spPr>
          <a:xfrm flipV="1" rot="10800000">
            <a:off x="1178640" y="2172960"/>
            <a:ext cx="565920" cy="1656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0" name=""/>
          <p:cNvCxnSpPr>
            <a:stCxn id="1166" idx="1"/>
            <a:endCxn id="1168" idx="3"/>
          </p:cNvCxnSpPr>
          <p:nvPr/>
        </p:nvCxnSpPr>
        <p:spPr>
          <a:xfrm flipV="1" rot="10800000">
            <a:off x="1178640" y="2172960"/>
            <a:ext cx="565920" cy="35784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1" name=""/>
          <p:cNvCxnSpPr>
            <a:stCxn id="1150" idx="2"/>
            <a:endCxn id="1152" idx="3"/>
          </p:cNvCxnSpPr>
          <p:nvPr/>
        </p:nvCxnSpPr>
        <p:spPr>
          <a:xfrm rot="5400000">
            <a:off x="1861200" y="3328920"/>
            <a:ext cx="140400" cy="13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2" name=""/>
          <p:cNvCxnSpPr>
            <a:stCxn id="1150" idx="2"/>
            <a:endCxn id="1165" idx="3"/>
          </p:cNvCxnSpPr>
          <p:nvPr/>
        </p:nvCxnSpPr>
        <p:spPr>
          <a:xfrm rot="5400000">
            <a:off x="1751760" y="3438360"/>
            <a:ext cx="359640" cy="13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3" name=""/>
          <p:cNvCxnSpPr>
            <a:stCxn id="1150" idx="2"/>
            <a:endCxn id="1176" idx="3"/>
          </p:cNvCxnSpPr>
          <p:nvPr/>
        </p:nvCxnSpPr>
        <p:spPr>
          <a:xfrm rot="5400000">
            <a:off x="1632600" y="3557520"/>
            <a:ext cx="597600" cy="13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419040" y="4381560"/>
            <a:ext cx="1295640" cy="609480"/>
          </a:xfrm>
          <a:prstGeom prst="hexagon">
            <a:avLst>
              <a:gd name="adj" fmla="val 53145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95" name=""/>
          <p:cNvCxnSpPr>
            <a:stCxn id="1194" idx="3"/>
            <a:endCxn id="1153" idx="1"/>
          </p:cNvCxnSpPr>
          <p:nvPr/>
        </p:nvCxnSpPr>
        <p:spPr>
          <a:xfrm flipV="1">
            <a:off x="1714320" y="2587320"/>
            <a:ext cx="1294200" cy="2099520"/>
          </a:xfrm>
          <a:prstGeom prst="bentConnector3">
            <a:avLst>
              <a:gd name="adj1" fmla="val 727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6" name=""/>
          <p:cNvCxnSpPr>
            <a:stCxn id="1171" idx="3"/>
            <a:endCxn id="1172" idx="1"/>
          </p:cNvCxnSpPr>
          <p:nvPr/>
        </p:nvCxnSpPr>
        <p:spPr>
          <a:xfrm flipH="1" rot="16200000">
            <a:off x="2751840" y="4124160"/>
            <a:ext cx="57240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7" name=""/>
          <p:cNvCxnSpPr>
            <a:stCxn id="1171" idx="3"/>
            <a:endCxn id="1173" idx="1"/>
          </p:cNvCxnSpPr>
          <p:nvPr/>
        </p:nvCxnSpPr>
        <p:spPr>
          <a:xfrm flipH="1" rot="16200000">
            <a:off x="2485800" y="4389840"/>
            <a:ext cx="110412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8" name=""/>
          <p:cNvCxnSpPr>
            <a:stCxn id="1194" idx="2"/>
            <a:endCxn id="1154" idx="1"/>
          </p:cNvCxnSpPr>
          <p:nvPr/>
        </p:nvCxnSpPr>
        <p:spPr>
          <a:xfrm flipH="1" rot="16200000">
            <a:off x="1015200" y="5042160"/>
            <a:ext cx="240480" cy="137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9" name=""/>
          <p:cNvCxnSpPr>
            <a:stCxn id="1194" idx="2"/>
            <a:endCxn id="1155" idx="1"/>
          </p:cNvCxnSpPr>
          <p:nvPr/>
        </p:nvCxnSpPr>
        <p:spPr>
          <a:xfrm flipH="1" rot="16200000">
            <a:off x="830160" y="5226480"/>
            <a:ext cx="621000" cy="150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194" idx="2"/>
            <a:endCxn id="1157" idx="1"/>
          </p:cNvCxnSpPr>
          <p:nvPr/>
        </p:nvCxnSpPr>
        <p:spPr>
          <a:xfrm flipH="1" rot="16200000">
            <a:off x="560160" y="5496840"/>
            <a:ext cx="1173960" cy="161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4" idx="2"/>
            <a:endCxn id="1170" idx="1"/>
          </p:cNvCxnSpPr>
          <p:nvPr/>
        </p:nvCxnSpPr>
        <p:spPr>
          <a:xfrm flipH="1" rot="16200000">
            <a:off x="417240" y="5639040"/>
            <a:ext cx="1469160" cy="17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4" idx="2"/>
            <a:endCxn id="1170" idx="1"/>
          </p:cNvCxnSpPr>
          <p:nvPr/>
        </p:nvCxnSpPr>
        <p:spPr>
          <a:xfrm flipH="1" rot="16200000">
            <a:off x="417240" y="5639040"/>
            <a:ext cx="1469160" cy="17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4" idx="2"/>
            <a:endCxn id="1158" idx="1"/>
          </p:cNvCxnSpPr>
          <p:nvPr/>
        </p:nvCxnSpPr>
        <p:spPr>
          <a:xfrm flipH="1" rot="16200000">
            <a:off x="235440" y="5821560"/>
            <a:ext cx="1823400" cy="161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endCxn id="1156" idx="1"/>
          </p:cNvCxnSpPr>
          <p:nvPr/>
        </p:nvCxnSpPr>
        <p:spPr>
          <a:xfrm flipH="1" rot="16200000">
            <a:off x="689760" y="5376600"/>
            <a:ext cx="902160" cy="150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5" name=""/>
          <p:cNvCxnSpPr>
            <a:stCxn id="1134" idx="2"/>
            <a:endCxn id="1143" idx="1"/>
          </p:cNvCxnSpPr>
          <p:nvPr/>
        </p:nvCxnSpPr>
        <p:spPr>
          <a:xfrm flipH="1" rot="16200000">
            <a:off x="6673680" y="6221880"/>
            <a:ext cx="230760" cy="6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9281160" y="190440"/>
            <a:ext cx="4849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7" name=""/>
          <p:cNvSpPr/>
          <p:nvPr/>
        </p:nvSpPr>
        <p:spPr>
          <a:xfrm>
            <a:off x="2400480" y="179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08" name=""/>
          <p:cNvCxnSpPr>
            <a:stCxn id="1151" idx="1"/>
            <a:endCxn id="1207" idx="0"/>
          </p:cNvCxnSpPr>
          <p:nvPr/>
        </p:nvCxnSpPr>
        <p:spPr>
          <a:xfrm flipV="1" rot="10800000">
            <a:off x="2399760" y="1513440"/>
            <a:ext cx="94356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1" name=""/>
          <p:cNvSpPr/>
          <p:nvPr/>
        </p:nvSpPr>
        <p:spPr>
          <a:xfrm>
            <a:off x="9298440" y="190440"/>
            <a:ext cx="4528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4457880" y="2857680"/>
            <a:ext cx="1355400" cy="13413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3" name=""/>
          <p:cNvSpPr/>
          <p:nvPr/>
        </p:nvSpPr>
        <p:spPr>
          <a:xfrm>
            <a:off x="464400" y="193680"/>
            <a:ext cx="9372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เพื่อการวิเคราะห์สาระการเรียนรู้พระสงฆ์  ชั้นประถมศึกษาปีที่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4" name=""/>
          <p:cNvSpPr/>
          <p:nvPr/>
        </p:nvSpPr>
        <p:spPr>
          <a:xfrm>
            <a:off x="3073320" y="30733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5" name=""/>
          <p:cNvSpPr/>
          <p:nvPr/>
        </p:nvSpPr>
        <p:spPr>
          <a:xfrm>
            <a:off x="6667560" y="306720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6" name=""/>
          <p:cNvSpPr/>
          <p:nvPr/>
        </p:nvSpPr>
        <p:spPr>
          <a:xfrm>
            <a:off x="4686480" y="11811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7" name=""/>
          <p:cNvSpPr/>
          <p:nvPr/>
        </p:nvSpPr>
        <p:spPr>
          <a:xfrm>
            <a:off x="5981760" y="48387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8" name=""/>
          <p:cNvSpPr/>
          <p:nvPr/>
        </p:nvSpPr>
        <p:spPr>
          <a:xfrm>
            <a:off x="5905440" y="1512720"/>
            <a:ext cx="14893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สังกิจจะ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9" name=""/>
          <p:cNvSpPr/>
          <p:nvPr/>
        </p:nvSpPr>
        <p:spPr>
          <a:xfrm>
            <a:off x="7205760" y="4915080"/>
            <a:ext cx="2217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พุฒาจารย์ </a:t>
            </a:r>
            <a:r>
              <a:rPr b="0" lang="th-TH" sz="15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โต   พฺรหฺมรํสี </a:t>
            </a:r>
            <a:r>
              <a:rPr b="0" lang="th-TH" sz="15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0" name=""/>
          <p:cNvSpPr/>
          <p:nvPr/>
        </p:nvSpPr>
        <p:spPr>
          <a:xfrm>
            <a:off x="6899760" y="5332320"/>
            <a:ext cx="23439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เจ้าตากสินมหาราช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1" name=""/>
          <p:cNvSpPr/>
          <p:nvPr/>
        </p:nvSpPr>
        <p:spPr>
          <a:xfrm>
            <a:off x="7560000" y="2917800"/>
            <a:ext cx="25423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ศีล การสมาทานศีล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2" name=""/>
          <p:cNvSpPr/>
          <p:nvPr/>
        </p:nvSpPr>
        <p:spPr>
          <a:xfrm>
            <a:off x="7724160" y="3289320"/>
            <a:ext cx="14695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จัดโต๊ะหมู่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3" name=""/>
          <p:cNvSpPr/>
          <p:nvPr/>
        </p:nvSpPr>
        <p:spPr>
          <a:xfrm>
            <a:off x="3645000" y="48387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4" name=""/>
          <p:cNvSpPr/>
          <p:nvPr/>
        </p:nvSpPr>
        <p:spPr>
          <a:xfrm>
            <a:off x="1059120" y="1563840"/>
            <a:ext cx="1801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พระสวดมนต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5" name=""/>
          <p:cNvSpPr/>
          <p:nvPr/>
        </p:nvSpPr>
        <p:spPr>
          <a:xfrm>
            <a:off x="657000" y="1913040"/>
            <a:ext cx="2277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ปวัด  ประโยชน์ของวั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6" name=""/>
          <p:cNvSpPr/>
          <p:nvPr/>
        </p:nvSpPr>
        <p:spPr>
          <a:xfrm>
            <a:off x="328320" y="2270160"/>
            <a:ext cx="2659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ศึกษาพุทธศาสนาวันอาทิตย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7" name=""/>
          <p:cNvSpPr/>
          <p:nvPr/>
        </p:nvSpPr>
        <p:spPr>
          <a:xfrm>
            <a:off x="1143360" y="4819680"/>
            <a:ext cx="774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8" name=""/>
          <p:cNvSpPr/>
          <p:nvPr/>
        </p:nvSpPr>
        <p:spPr>
          <a:xfrm>
            <a:off x="397440" y="5764320"/>
            <a:ext cx="16704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ับ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่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ของแก่พระภิกษุ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9" name=""/>
          <p:cNvSpPr/>
          <p:nvPr/>
        </p:nvSpPr>
        <p:spPr>
          <a:xfrm>
            <a:off x="893880" y="2617920"/>
            <a:ext cx="1992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ต่งกายที่เหมาะสม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ารสำรวมระวั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0" name=""/>
          <p:cNvSpPr/>
          <p:nvPr/>
        </p:nvSpPr>
        <p:spPr>
          <a:xfrm>
            <a:off x="7624080" y="3656160"/>
            <a:ext cx="20559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เครื่องประกอบโต๊ะหมู่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1" name=""/>
          <p:cNvSpPr/>
          <p:nvPr/>
        </p:nvSpPr>
        <p:spPr>
          <a:xfrm>
            <a:off x="1023120" y="5108400"/>
            <a:ext cx="920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2" name=""/>
          <p:cNvSpPr/>
          <p:nvPr/>
        </p:nvSpPr>
        <p:spPr>
          <a:xfrm>
            <a:off x="890280" y="5430960"/>
            <a:ext cx="1086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ต้อนรับ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33" name=""/>
          <p:cNvCxnSpPr>
            <a:stCxn id="1214" idx="2"/>
            <a:endCxn id="1224" idx="3"/>
          </p:cNvCxnSpPr>
          <p:nvPr/>
        </p:nvCxnSpPr>
        <p:spPr>
          <a:xfrm rot="10800000">
            <a:off x="2628360" y="1708920"/>
            <a:ext cx="425880" cy="182160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14" idx="2"/>
            <a:endCxn id="1225" idx="3"/>
          </p:cNvCxnSpPr>
          <p:nvPr/>
        </p:nvCxnSpPr>
        <p:spPr>
          <a:xfrm rot="10800000">
            <a:off x="2628360" y="2058120"/>
            <a:ext cx="425880" cy="147240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5" name=""/>
          <p:cNvCxnSpPr>
            <a:stCxn id="1214" idx="2"/>
            <a:endCxn id="1226" idx="3"/>
          </p:cNvCxnSpPr>
          <p:nvPr/>
        </p:nvCxnSpPr>
        <p:spPr>
          <a:xfrm rot="10800000">
            <a:off x="2628360" y="2415600"/>
            <a:ext cx="425880" cy="111492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214" idx="2"/>
            <a:endCxn id="1229" idx="3"/>
          </p:cNvCxnSpPr>
          <p:nvPr/>
        </p:nvCxnSpPr>
        <p:spPr>
          <a:xfrm rot="10800000">
            <a:off x="2628360" y="2859840"/>
            <a:ext cx="425880" cy="67068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7" name=""/>
          <p:cNvSpPr/>
          <p:nvPr/>
        </p:nvSpPr>
        <p:spPr>
          <a:xfrm>
            <a:off x="2138760" y="5276880"/>
            <a:ext cx="94212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38" name=""/>
          <p:cNvCxnSpPr>
            <a:stCxn id="1223" idx="2"/>
            <a:endCxn id="1237" idx="3"/>
          </p:cNvCxnSpPr>
          <p:nvPr/>
        </p:nvCxnSpPr>
        <p:spPr>
          <a:xfrm flipV="1" rot="10800000">
            <a:off x="2967840" y="5295960"/>
            <a:ext cx="658080" cy="155880"/>
          </a:xfrm>
          <a:prstGeom prst="bentConnector3">
            <a:avLst>
              <a:gd name="adj1" fmla="val 48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227" idx="3"/>
            <a:endCxn id="1237" idx="1"/>
          </p:cNvCxnSpPr>
          <p:nvPr/>
        </p:nvCxnSpPr>
        <p:spPr>
          <a:xfrm>
            <a:off x="1836360" y="4989240"/>
            <a:ext cx="415080" cy="46260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31" idx="3"/>
            <a:endCxn id="1237" idx="1"/>
          </p:cNvCxnSpPr>
          <p:nvPr/>
        </p:nvCxnSpPr>
        <p:spPr>
          <a:xfrm>
            <a:off x="1836360" y="5277960"/>
            <a:ext cx="415080" cy="17388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37" idx="1"/>
            <a:endCxn id="1232" idx="3"/>
          </p:cNvCxnSpPr>
          <p:nvPr/>
        </p:nvCxnSpPr>
        <p:spPr>
          <a:xfrm flipV="1" rot="10800000">
            <a:off x="1836000" y="5450400"/>
            <a:ext cx="415080" cy="15012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15" idx="6"/>
            <a:endCxn id="1230" idx="1"/>
          </p:cNvCxnSpPr>
          <p:nvPr/>
        </p:nvCxnSpPr>
        <p:spPr>
          <a:xfrm>
            <a:off x="7601040" y="3524400"/>
            <a:ext cx="286560" cy="272160"/>
          </a:xfrm>
          <a:prstGeom prst="bentConnector3">
            <a:avLst>
              <a:gd name="adj1" fmla="val 46666"/>
            </a:avLst>
          </a:prstGeom>
          <a:ln w="0">
            <a:noFill/>
          </a:ln>
        </p:spPr>
      </p:cxnSp>
      <p:cxnSp>
        <p:nvCxnSpPr>
          <p:cNvPr id="1243" name=""/>
          <p:cNvCxnSpPr>
            <a:stCxn id="1215" idx="6"/>
            <a:endCxn id="1222" idx="1"/>
          </p:cNvCxnSpPr>
          <p:nvPr/>
        </p:nvCxnSpPr>
        <p:spPr>
          <a:xfrm flipV="1">
            <a:off x="7601040" y="3428280"/>
            <a:ext cx="295560" cy="96120"/>
          </a:xfrm>
          <a:prstGeom prst="bentConnector3">
            <a:avLst>
              <a:gd name="adj1" fmla="val 46829"/>
            </a:avLst>
          </a:prstGeom>
          <a:ln w="0">
            <a:noFill/>
          </a:ln>
        </p:spPr>
      </p:cxnSp>
      <p:cxnSp>
        <p:nvCxnSpPr>
          <p:cNvPr id="1244" name=""/>
          <p:cNvCxnSpPr>
            <a:stCxn id="1215" idx="6"/>
            <a:endCxn id="1221" idx="1"/>
          </p:cNvCxnSpPr>
          <p:nvPr/>
        </p:nvCxnSpPr>
        <p:spPr>
          <a:xfrm flipV="1">
            <a:off x="7600680" y="3056760"/>
            <a:ext cx="292680" cy="467640"/>
          </a:xfrm>
          <a:prstGeom prst="bentConnector3">
            <a:avLst>
              <a:gd name="adj1" fmla="val 46674"/>
            </a:avLst>
          </a:prstGeom>
          <a:ln w="0">
            <a:noFill/>
          </a:ln>
        </p:spPr>
      </p:cxnSp>
      <p:cxnSp>
        <p:nvCxnSpPr>
          <p:cNvPr id="1245" name=""/>
          <p:cNvCxnSpPr>
            <a:stCxn id="1217" idx="6"/>
            <a:endCxn id="1219" idx="1"/>
          </p:cNvCxnSpPr>
          <p:nvPr/>
        </p:nvCxnSpPr>
        <p:spPr>
          <a:xfrm flipV="1">
            <a:off x="6914880" y="5054400"/>
            <a:ext cx="291240" cy="241920"/>
          </a:xfrm>
          <a:prstGeom prst="bentConnector3">
            <a:avLst>
              <a:gd name="adj1" fmla="val 464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217" idx="6"/>
            <a:endCxn id="1220" idx="1"/>
          </p:cNvCxnSpPr>
          <p:nvPr/>
        </p:nvCxnSpPr>
        <p:spPr>
          <a:xfrm>
            <a:off x="6915240" y="5295600"/>
            <a:ext cx="286560" cy="176760"/>
          </a:xfrm>
          <a:prstGeom prst="bentConnector3">
            <a:avLst>
              <a:gd name="adj1" fmla="val 46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7" name=""/>
          <p:cNvSpPr/>
          <p:nvPr/>
        </p:nvSpPr>
        <p:spPr>
          <a:xfrm>
            <a:off x="-149760" y="3138480"/>
            <a:ext cx="32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สิ่งของที่เหมาะสมแก่พระภิกษุ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8" name=""/>
          <p:cNvSpPr/>
          <p:nvPr/>
        </p:nvSpPr>
        <p:spPr>
          <a:xfrm>
            <a:off x="542520" y="3489480"/>
            <a:ext cx="2417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49" name=""/>
          <p:cNvCxnSpPr>
            <a:stCxn id="1214" idx="2"/>
            <a:endCxn id="1247" idx="3"/>
          </p:cNvCxnSpPr>
          <p:nvPr/>
        </p:nvCxnSpPr>
        <p:spPr>
          <a:xfrm rot="10800000">
            <a:off x="2628360" y="3283920"/>
            <a:ext cx="425880" cy="24660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214" idx="2"/>
            <a:endCxn id="1248" idx="3"/>
          </p:cNvCxnSpPr>
          <p:nvPr/>
        </p:nvCxnSpPr>
        <p:spPr>
          <a:xfrm flipV="1" rot="10800000">
            <a:off x="2628360" y="3529440"/>
            <a:ext cx="425880" cy="10548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214" idx="6"/>
            <a:endCxn id="1212" idx="2"/>
          </p:cNvCxnSpPr>
          <p:nvPr/>
        </p:nvCxnSpPr>
        <p:spPr>
          <a:xfrm flipV="1">
            <a:off x="4006800" y="3528720"/>
            <a:ext cx="432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2" name=""/>
          <p:cNvCxnSpPr>
            <a:stCxn id="1223" idx="0"/>
            <a:endCxn id="1212" idx="3"/>
          </p:cNvCxnSpPr>
          <p:nvPr/>
        </p:nvCxnSpPr>
        <p:spPr>
          <a:xfrm flipV="1">
            <a:off x="4101840" y="4020840"/>
            <a:ext cx="554760" cy="799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3" name=""/>
          <p:cNvCxnSpPr>
            <a:stCxn id="1217" idx="1"/>
            <a:endCxn id="1212" idx="5"/>
          </p:cNvCxnSpPr>
          <p:nvPr/>
        </p:nvCxnSpPr>
        <p:spPr>
          <a:xfrm flipH="1" flipV="1">
            <a:off x="5614200" y="4020840"/>
            <a:ext cx="500760" cy="93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"/>
          <p:cNvCxnSpPr>
            <a:stCxn id="1215" idx="2"/>
            <a:endCxn id="1212" idx="6"/>
          </p:cNvCxnSpPr>
          <p:nvPr/>
        </p:nvCxnSpPr>
        <p:spPr>
          <a:xfrm flipH="1">
            <a:off x="5831640" y="3524040"/>
            <a:ext cx="81684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"/>
          <p:cNvCxnSpPr>
            <a:stCxn id="1216" idx="4"/>
            <a:endCxn id="1212" idx="0"/>
          </p:cNvCxnSpPr>
          <p:nvPr/>
        </p:nvCxnSpPr>
        <p:spPr>
          <a:xfrm flipH="1">
            <a:off x="5134680" y="2114280"/>
            <a:ext cx="9000" cy="724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"/>
          <p:cNvCxnSpPr>
            <a:stCxn id="1237" idx="1"/>
            <a:endCxn id="1228" idx="3"/>
          </p:cNvCxnSpPr>
          <p:nvPr/>
        </p:nvCxnSpPr>
        <p:spPr>
          <a:xfrm flipV="1" rot="10800000">
            <a:off x="1836000" y="5450400"/>
            <a:ext cx="415080" cy="55620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7" name=""/>
          <p:cNvCxnSpPr>
            <a:stCxn id="1215" idx="6"/>
            <a:endCxn id="1221" idx="1"/>
          </p:cNvCxnSpPr>
          <p:nvPr/>
        </p:nvCxnSpPr>
        <p:spPr>
          <a:xfrm flipV="1">
            <a:off x="7600680" y="3056760"/>
            <a:ext cx="292680" cy="467640"/>
          </a:xfrm>
          <a:prstGeom prst="bentConnector3">
            <a:avLst>
              <a:gd name="adj1" fmla="val 466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15" idx="6"/>
            <a:endCxn id="1222" idx="1"/>
          </p:cNvCxnSpPr>
          <p:nvPr/>
        </p:nvCxnSpPr>
        <p:spPr>
          <a:xfrm flipV="1">
            <a:off x="7601040" y="3428280"/>
            <a:ext cx="295560" cy="96120"/>
          </a:xfrm>
          <a:prstGeom prst="bentConnector3">
            <a:avLst>
              <a:gd name="adj1" fmla="val 468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9" name=""/>
          <p:cNvCxnSpPr>
            <a:stCxn id="1215" idx="6"/>
            <a:endCxn id="1230" idx="1"/>
          </p:cNvCxnSpPr>
          <p:nvPr/>
        </p:nvCxnSpPr>
        <p:spPr>
          <a:xfrm>
            <a:off x="7601040" y="3524400"/>
            <a:ext cx="286560" cy="272160"/>
          </a:xfrm>
          <a:prstGeom prst="bentConnector3">
            <a:avLst>
              <a:gd name="adj1" fmla="val 4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0" name=""/>
          <p:cNvCxnSpPr>
            <a:stCxn id="1216" idx="6"/>
            <a:endCxn id="1218" idx="1"/>
          </p:cNvCxnSpPr>
          <p:nvPr/>
        </p:nvCxnSpPr>
        <p:spPr>
          <a:xfrm>
            <a:off x="5619240" y="1638360"/>
            <a:ext cx="474120" cy="8640"/>
          </a:xfrm>
          <a:prstGeom prst="bentConnector3">
            <a:avLst>
              <a:gd name="adj1" fmla="val 479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61" name=""/>
          <p:cNvSpPr/>
          <p:nvPr/>
        </p:nvSpPr>
        <p:spPr>
          <a:xfrm>
            <a:off x="9304560" y="190440"/>
            <a:ext cx="440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0760"/>
            <a:ext cx="102870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พุทธศาสนา  ช่วงชั้นที่ ๑ ระดับประถมศึกษาปีที่ ๑ </a:t>
            </a:r>
            <a:r>
              <a:rPr b="1" lang="en-US" sz="2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4000680" y="3438360"/>
            <a:ext cx="1258560" cy="12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4218120" y="2400480"/>
            <a:ext cx="792000" cy="784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1909800"/>
            <a:ext cx="118620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ำคัญขอ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5856120" y="2095560"/>
            <a:ext cx="1186200" cy="64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638360"/>
            <a:ext cx="916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67652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ประวัติ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0" name=""/>
          <p:cNvCxnSpPr>
            <a:stCxn id="55" idx="0"/>
            <a:endCxn id="59" idx="4"/>
          </p:cNvCxnSpPr>
          <p:nvPr/>
        </p:nvCxnSpPr>
        <p:spPr>
          <a:xfrm flipH="1" flipV="1">
            <a:off x="4609440" y="2133360"/>
            <a:ext cx="540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7"/>
            <a:endCxn id="58" idx="3"/>
          </p:cNvCxnSpPr>
          <p:nvPr/>
        </p:nvCxnSpPr>
        <p:spPr>
          <a:xfrm flipV="1">
            <a:off x="4893840" y="2028600"/>
            <a:ext cx="45972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endCxn id="57" idx="2"/>
          </p:cNvCxnSpPr>
          <p:nvPr/>
        </p:nvCxnSpPr>
        <p:spPr>
          <a:xfrm flipV="1">
            <a:off x="4915080" y="2417400"/>
            <a:ext cx="94176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750000" y="1069920"/>
            <a:ext cx="2319480" cy="410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วัติเบื้องต้น 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กรรม ความสำคัญและหลั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9016920" y="1306440"/>
            <a:ext cx="71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9000720" y="1535040"/>
            <a:ext cx="78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8988480" y="1739880"/>
            <a:ext cx="83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8981280" y="1943280"/>
            <a:ext cx="98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8" name=""/>
          <p:cNvCxnSpPr>
            <a:stCxn id="63" idx="3"/>
            <a:endCxn id="64" idx="1"/>
          </p:cNvCxnSpPr>
          <p:nvPr/>
        </p:nvCxnSpPr>
        <p:spPr>
          <a:xfrm>
            <a:off x="8736120" y="1281240"/>
            <a:ext cx="367200" cy="133560"/>
          </a:xfrm>
          <a:prstGeom prst="bentConnector3">
            <a:avLst>
              <a:gd name="adj1" fmla="val 49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3" idx="3"/>
            <a:endCxn id="65" idx="1"/>
          </p:cNvCxnSpPr>
          <p:nvPr/>
        </p:nvCxnSpPr>
        <p:spPr>
          <a:xfrm>
            <a:off x="8736120" y="1280880"/>
            <a:ext cx="367200" cy="362520"/>
          </a:xfrm>
          <a:prstGeom prst="bentConnector3">
            <a:avLst>
              <a:gd name="adj1" fmla="val 49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3"/>
            <a:endCxn id="66" idx="1"/>
          </p:cNvCxnSpPr>
          <p:nvPr/>
        </p:nvCxnSpPr>
        <p:spPr>
          <a:xfrm>
            <a:off x="8736120" y="1281240"/>
            <a:ext cx="365760" cy="567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3"/>
            <a:endCxn id="67" idx="1"/>
          </p:cNvCxnSpPr>
          <p:nvPr/>
        </p:nvCxnSpPr>
        <p:spPr>
          <a:xfrm>
            <a:off x="8735760" y="1281240"/>
            <a:ext cx="370440" cy="770400"/>
          </a:xfrm>
          <a:prstGeom prst="bentConnector3">
            <a:avLst>
              <a:gd name="adj1" fmla="val 497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3659040" y="1028880"/>
            <a:ext cx="403920" cy="16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รัสรู้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3357000" y="1539720"/>
            <a:ext cx="749520" cy="16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ินิพพ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1758600" y="1177920"/>
            <a:ext cx="582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ทวทูต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2452320" y="952560"/>
            <a:ext cx="9280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อกผนวช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2320560" y="1104840"/>
            <a:ext cx="10818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ำเพ็ญเพีย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2513520" y="1270080"/>
            <a:ext cx="85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ผจญม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2613240" y="1422360"/>
            <a:ext cx="7254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ฐมเทศ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9" name=""/>
          <p:cNvCxnSpPr>
            <a:stCxn id="76" idx="3"/>
            <a:endCxn id="75" idx="3"/>
          </p:cNvCxnSpPr>
          <p:nvPr/>
        </p:nvCxnSpPr>
        <p:spPr>
          <a:xfrm flipV="1">
            <a:off x="3238560" y="1029600"/>
            <a:ext cx="2160" cy="153000"/>
          </a:xfrm>
          <a:prstGeom prst="bentConnector3">
            <a:avLst>
              <a:gd name="adj1" fmla="val 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81" idx="0"/>
            <a:endCxn id="76" idx="3"/>
          </p:cNvCxnSpPr>
          <p:nvPr/>
        </p:nvCxnSpPr>
        <p:spPr>
          <a:xfrm rot="5400000">
            <a:off x="3275640" y="1143720"/>
            <a:ext cx="2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81" idx="1"/>
            <a:endCxn id="77" idx="3"/>
          </p:cNvCxnSpPr>
          <p:nvPr/>
        </p:nvCxnSpPr>
        <p:spPr>
          <a:xfrm rot="5400000">
            <a:off x="3193200" y="1225800"/>
            <a:ext cx="16704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1" idx="1"/>
            <a:endCxn id="78" idx="3"/>
          </p:cNvCxnSpPr>
          <p:nvPr/>
        </p:nvCxnSpPr>
        <p:spPr>
          <a:xfrm rot="5400000">
            <a:off x="3116880" y="1302480"/>
            <a:ext cx="319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163800" y="343080"/>
            <a:ext cx="915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ชาติ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153360" y="685800"/>
            <a:ext cx="95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เอกลักษณ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ชาติ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-69480" y="1028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รากฐานสำคัญ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วัฒนธรรม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7" name=""/>
          <p:cNvCxnSpPr>
            <a:stCxn id="57" idx="7"/>
            <a:endCxn id="63" idx="1"/>
          </p:cNvCxnSpPr>
          <p:nvPr/>
        </p:nvCxnSpPr>
        <p:spPr>
          <a:xfrm flipH="1" flipV="1" rot="5400000">
            <a:off x="6521760" y="1627560"/>
            <a:ext cx="90864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933640" y="3695760"/>
            <a:ext cx="792360" cy="784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3390840" y="476244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2495520" y="2924280"/>
            <a:ext cx="8380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2171880" y="4991040"/>
            <a:ext cx="10666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2086200" y="6515280"/>
            <a:ext cx="1217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นะนำ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1333440" y="4533840"/>
            <a:ext cx="12193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สุภาษ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291240" y="5372280"/>
            <a:ext cx="151164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ตฺตา  หิ  อตฺตโน  นาโ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3210480" y="5524560"/>
            <a:ext cx="5288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1479960" y="2201760"/>
            <a:ext cx="5547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599480" y="3038400"/>
            <a:ext cx="68724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486360" y="1701720"/>
            <a:ext cx="8136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5524560" y="3673440"/>
            <a:ext cx="792000" cy="784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6819840" y="369576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7902720" y="2336760"/>
            <a:ext cx="1609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พระ  สวดมนต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อานิสงส์ของการสวดมนต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6438600" y="5600880"/>
            <a:ext cx="1659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บาทสมเด็จพระเจ้าอยู่หัว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ภูมิพลอดุลยเดช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5905440" y="4838760"/>
            <a:ext cx="7621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6743880" y="4381560"/>
            <a:ext cx="7617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8470080" y="4467240"/>
            <a:ext cx="150552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่วมพิธีกรรมเบื้องต้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8475120" y="5870520"/>
            <a:ext cx="16700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ต้อนรับ  การสำรวมระวั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7511400" y="5067360"/>
            <a:ext cx="67500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762440" y="4838760"/>
            <a:ext cx="7621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705920" y="6718320"/>
            <a:ext cx="1504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จัดโต๊ะหมู่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ครื่องประกอบโต๊ะหมู่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7233480" y="1866960"/>
            <a:ext cx="8305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ราหุล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6819840" y="3009960"/>
            <a:ext cx="7621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1280520" y="3914640"/>
            <a:ext cx="106380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3573360" y="571680"/>
            <a:ext cx="486000" cy="16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สู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997200" y="469800"/>
            <a:ext cx="148896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หตุการณ์หลังประสู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1552680" y="646200"/>
            <a:ext cx="8395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รกนาขว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1271520" y="1000080"/>
            <a:ext cx="11671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ภิเษกสมรส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7" name=""/>
          <p:cNvCxnSpPr>
            <a:stCxn id="118" idx="0"/>
            <a:endCxn id="114" idx="3"/>
          </p:cNvCxnSpPr>
          <p:nvPr/>
        </p:nvCxnSpPr>
        <p:spPr>
          <a:xfrm flipV="1" rot="16200000">
            <a:off x="2216160" y="599760"/>
            <a:ext cx="172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5" idx="3"/>
          </p:cNvCxnSpPr>
          <p:nvPr/>
        </p:nvCxnSpPr>
        <p:spPr>
          <a:xfrm flipV="1" rot="10800000">
            <a:off x="2262960" y="722880"/>
            <a:ext cx="137520" cy="540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8" idx="1"/>
            <a:endCxn id="116" idx="3"/>
          </p:cNvCxnSpPr>
          <p:nvPr/>
        </p:nvCxnSpPr>
        <p:spPr>
          <a:xfrm rot="5400000">
            <a:off x="2198520" y="941040"/>
            <a:ext cx="207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8" idx="1"/>
            <a:endCxn id="74" idx="3"/>
          </p:cNvCxnSpPr>
          <p:nvPr/>
        </p:nvCxnSpPr>
        <p:spPr>
          <a:xfrm rot="5400000">
            <a:off x="2111760" y="1027800"/>
            <a:ext cx="380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5685120" y="806400"/>
            <a:ext cx="950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ณณุปถ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4622040" y="817560"/>
            <a:ext cx="1109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วัณณสาม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5732640" y="1044720"/>
            <a:ext cx="68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รุณ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4802040" y="1044720"/>
            <a:ext cx="903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านรินท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5737680" y="1276200"/>
            <a:ext cx="1077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รามทูสก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4691880" y="1268280"/>
            <a:ext cx="102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หาวาณิช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8" name=""/>
          <p:cNvCxnSpPr>
            <a:stCxn id="58" idx="0"/>
            <a:endCxn id="123" idx="3"/>
          </p:cNvCxnSpPr>
          <p:nvPr/>
        </p:nvCxnSpPr>
        <p:spPr>
          <a:xfrm flipV="1" rot="16200000">
            <a:off x="5268600" y="1227960"/>
            <a:ext cx="713520" cy="107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58" idx="0"/>
            <a:endCxn id="125" idx="3"/>
          </p:cNvCxnSpPr>
          <p:nvPr/>
        </p:nvCxnSpPr>
        <p:spPr>
          <a:xfrm flipV="1" rot="16200000">
            <a:off x="5385240" y="1344600"/>
            <a:ext cx="48672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58" idx="0"/>
            <a:endCxn id="127" idx="3"/>
          </p:cNvCxnSpPr>
          <p:nvPr/>
        </p:nvCxnSpPr>
        <p:spPr>
          <a:xfrm flipV="1" rot="16200000">
            <a:off x="5497200" y="1456560"/>
            <a:ext cx="26280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58" idx="0"/>
            <a:endCxn id="122" idx="1"/>
          </p:cNvCxnSpPr>
          <p:nvPr/>
        </p:nvCxnSpPr>
        <p:spPr>
          <a:xfrm flipH="1" flipV="1" rot="5400000">
            <a:off x="5390280" y="1202040"/>
            <a:ext cx="72468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58" idx="0"/>
            <a:endCxn id="124" idx="1"/>
          </p:cNvCxnSpPr>
          <p:nvPr/>
        </p:nvCxnSpPr>
        <p:spPr>
          <a:xfrm flipH="1" flipV="1" rot="5400000">
            <a:off x="5513760" y="1316520"/>
            <a:ext cx="486720" cy="157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58" idx="0"/>
            <a:endCxn id="126" idx="1"/>
          </p:cNvCxnSpPr>
          <p:nvPr/>
        </p:nvCxnSpPr>
        <p:spPr>
          <a:xfrm flipH="1" flipV="1" rot="5400000">
            <a:off x="5655960" y="1406160"/>
            <a:ext cx="2548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2010240" y="6864480"/>
            <a:ext cx="1613880" cy="1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190440" y="4610160"/>
            <a:ext cx="1067040" cy="457200"/>
          </a:xfrm>
          <a:prstGeom prst="hexagon">
            <a:avLst>
              <a:gd name="adj" fmla="val 583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1707120" y="1790640"/>
            <a:ext cx="54684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7" name=""/>
          <p:cNvCxnSpPr>
            <a:stCxn id="138" idx="0"/>
            <a:endCxn id="84" idx="3"/>
          </p:cNvCxnSpPr>
          <p:nvPr/>
        </p:nvCxnSpPr>
        <p:spPr>
          <a:xfrm flipV="1" rot="16200000">
            <a:off x="746640" y="708480"/>
            <a:ext cx="576360" cy="140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8" idx="0"/>
            <a:endCxn id="85" idx="3"/>
          </p:cNvCxnSpPr>
          <p:nvPr/>
        </p:nvCxnSpPr>
        <p:spPr>
          <a:xfrm flipV="1" rot="16200000">
            <a:off x="918000" y="879480"/>
            <a:ext cx="234000" cy="140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8" idx="1"/>
            <a:endCxn id="86" idx="3"/>
          </p:cNvCxnSpPr>
          <p:nvPr/>
        </p:nvCxnSpPr>
        <p:spPr>
          <a:xfrm rot="5400000">
            <a:off x="1017720" y="1089720"/>
            <a:ext cx="34200" cy="140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800520" y="5560920"/>
            <a:ext cx="3855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ณ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297360" y="1868400"/>
            <a:ext cx="1016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ิริ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ตตัปป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422280" y="2036880"/>
            <a:ext cx="8776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คหวัตถุ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38160" y="2733840"/>
            <a:ext cx="99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่อแม่และครอบครัว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ครู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จารย์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โรงเรีย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ชุมช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แวดล้อม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246240" y="2203560"/>
            <a:ext cx="1068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ฆราวาสธรรม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161280" y="2371680"/>
            <a:ext cx="118116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ติ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มปชัญญ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542880" y="3181320"/>
            <a:ext cx="72396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48" name=""/>
          <p:cNvCxnSpPr>
            <a:stCxn id="88" idx="1"/>
            <a:endCxn id="90" idx="4"/>
          </p:cNvCxnSpPr>
          <p:nvPr/>
        </p:nvCxnSpPr>
        <p:spPr>
          <a:xfrm flipH="1" flipV="1">
            <a:off x="2913840" y="3380760"/>
            <a:ext cx="135720" cy="41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88" idx="3"/>
            <a:endCxn id="93" idx="7"/>
          </p:cNvCxnSpPr>
          <p:nvPr/>
        </p:nvCxnSpPr>
        <p:spPr>
          <a:xfrm flipH="1">
            <a:off x="2374560" y="4384440"/>
            <a:ext cx="675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88" idx="4"/>
            <a:endCxn id="91" idx="7"/>
          </p:cNvCxnSpPr>
          <p:nvPr/>
        </p:nvCxnSpPr>
        <p:spPr>
          <a:xfrm flipH="1">
            <a:off x="3082680" y="4498920"/>
            <a:ext cx="24840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88" idx="5"/>
            <a:endCxn id="89" idx="0"/>
          </p:cNvCxnSpPr>
          <p:nvPr/>
        </p:nvCxnSpPr>
        <p:spPr>
          <a:xfrm>
            <a:off x="3609720" y="4384440"/>
            <a:ext cx="35316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90" idx="2"/>
            <a:endCxn id="136" idx="3"/>
          </p:cNvCxnSpPr>
          <p:nvPr/>
        </p:nvCxnSpPr>
        <p:spPr>
          <a:xfrm rot="10800000">
            <a:off x="2188440" y="1909080"/>
            <a:ext cx="306720" cy="1243800"/>
          </a:xfrm>
          <a:prstGeom prst="bentConnector3">
            <a:avLst>
              <a:gd name="adj1" fmla="val 4970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4" idx="0"/>
            <a:endCxn id="98" idx="3"/>
          </p:cNvCxnSpPr>
          <p:nvPr/>
        </p:nvCxnSpPr>
        <p:spPr>
          <a:xfrm flipV="1" rot="16200000">
            <a:off x="757440" y="2176200"/>
            <a:ext cx="942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4" idx="1"/>
            <a:endCxn id="143" idx="3"/>
          </p:cNvCxnSpPr>
          <p:nvPr/>
        </p:nvCxnSpPr>
        <p:spPr>
          <a:xfrm flipV="1" rot="16200000">
            <a:off x="925200" y="2343960"/>
            <a:ext cx="6069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4" idx="1"/>
            <a:endCxn id="146" idx="3"/>
          </p:cNvCxnSpPr>
          <p:nvPr/>
        </p:nvCxnSpPr>
        <p:spPr>
          <a:xfrm flipV="1" rot="16200000">
            <a:off x="1092600" y="2511360"/>
            <a:ext cx="2721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54" idx="0"/>
            <a:endCxn id="147" idx="3"/>
          </p:cNvCxnSpPr>
          <p:nvPr/>
        </p:nvCxnSpPr>
        <p:spPr>
          <a:xfrm rot="5400000">
            <a:off x="986760" y="2965320"/>
            <a:ext cx="483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0"/>
            <a:endCxn id="144" idx="3"/>
          </p:cNvCxnSpPr>
          <p:nvPr/>
        </p:nvCxnSpPr>
        <p:spPr>
          <a:xfrm rot="5400000">
            <a:off x="993960" y="2758320"/>
            <a:ext cx="212040" cy="143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4" idx="1"/>
            <a:endCxn id="142" idx="3"/>
          </p:cNvCxnSpPr>
          <p:nvPr/>
        </p:nvCxnSpPr>
        <p:spPr>
          <a:xfrm flipV="1" rot="16200000">
            <a:off x="840960" y="2259720"/>
            <a:ext cx="77544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4" idx="1"/>
            <a:endCxn id="145" idx="3"/>
          </p:cNvCxnSpPr>
          <p:nvPr/>
        </p:nvCxnSpPr>
        <p:spPr>
          <a:xfrm flipV="1" rot="16200000">
            <a:off x="1008360" y="2427120"/>
            <a:ext cx="44028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12" idx="2"/>
            <a:endCxn id="135" idx="0"/>
          </p:cNvCxnSpPr>
          <p:nvPr/>
        </p:nvCxnSpPr>
        <p:spPr>
          <a:xfrm rot="5400000">
            <a:off x="1038960" y="3836880"/>
            <a:ext cx="457920" cy="1089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91" idx="2"/>
            <a:endCxn id="92" idx="1"/>
          </p:cNvCxnSpPr>
          <p:nvPr/>
        </p:nvCxnSpPr>
        <p:spPr>
          <a:xfrm flipH="1" flipV="1" rot="10800000">
            <a:off x="2170800" y="5219280"/>
            <a:ext cx="76680" cy="1404000"/>
          </a:xfrm>
          <a:prstGeom prst="bentConnector3">
            <a:avLst>
              <a:gd name="adj1" fmla="val -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91" idx="2"/>
            <a:endCxn id="134" idx="1"/>
          </p:cNvCxnSpPr>
          <p:nvPr/>
        </p:nvCxnSpPr>
        <p:spPr>
          <a:xfrm flipH="1" flipV="1" rot="10800000">
            <a:off x="2170800" y="5219280"/>
            <a:ext cx="76680" cy="1704240"/>
          </a:xfrm>
          <a:prstGeom prst="bentConnector3">
            <a:avLst>
              <a:gd name="adj1" fmla="val -3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3744360" y="6486480"/>
            <a:ext cx="7617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นุพุทธ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3172680" y="5816520"/>
            <a:ext cx="58068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าหมณ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3821040" y="5811840"/>
            <a:ext cx="2559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ฤๅษ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3304800" y="6035760"/>
            <a:ext cx="4280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ผู้วิเศษ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3775680" y="6033960"/>
            <a:ext cx="55152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ริย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2603880" y="6256440"/>
            <a:ext cx="12344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ัมมาสัมพุทธเจ้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3714480" y="6256440"/>
            <a:ext cx="9738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ปัจเจกพุทธ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72" name=""/>
          <p:cNvCxnSpPr>
            <a:stCxn id="90" idx="2"/>
            <a:endCxn id="97" idx="3"/>
          </p:cNvCxnSpPr>
          <p:nvPr/>
        </p:nvCxnSpPr>
        <p:spPr>
          <a:xfrm flipV="1" rot="10800000">
            <a:off x="2200320" y="3151800"/>
            <a:ext cx="29556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12" idx="3"/>
            <a:endCxn id="90" idx="2"/>
          </p:cNvCxnSpPr>
          <p:nvPr/>
        </p:nvCxnSpPr>
        <p:spPr>
          <a:xfrm flipV="1">
            <a:off x="2200320" y="3152160"/>
            <a:ext cx="29556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8019000" y="3417840"/>
            <a:ext cx="10119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ให้ท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7912440" y="2759040"/>
            <a:ext cx="16077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ปวัด  ประโยชน์ของวัด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ช่วยเหลือบำรุงรักษาวัด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7770960" y="3189240"/>
            <a:ext cx="25952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อย่างเหมาะสมกับพระรัตนตรั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7901280" y="4143240"/>
            <a:ext cx="1689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7764840" y="3619440"/>
            <a:ext cx="2674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ู้จักสนทนา และการปฏิบัติตนต่อ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7819200" y="3948120"/>
            <a:ext cx="2292120" cy="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สิ่งของที่เหมาะสมแก่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0" name=""/>
          <p:cNvCxnSpPr>
            <a:stCxn id="59" idx="1"/>
            <a:endCxn id="113" idx="3"/>
          </p:cNvCxnSpPr>
          <p:nvPr/>
        </p:nvCxnSpPr>
        <p:spPr>
          <a:xfrm flipV="1" rot="16200000">
            <a:off x="3587400" y="1071000"/>
            <a:ext cx="108504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59" idx="1"/>
            <a:endCxn id="72" idx="3"/>
          </p:cNvCxnSpPr>
          <p:nvPr/>
        </p:nvCxnSpPr>
        <p:spPr>
          <a:xfrm flipV="1" rot="16200000">
            <a:off x="3816000" y="1299600"/>
            <a:ext cx="62784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59" idx="1"/>
            <a:endCxn id="73" idx="3"/>
          </p:cNvCxnSpPr>
          <p:nvPr/>
        </p:nvCxnSpPr>
        <p:spPr>
          <a:xfrm flipV="1" rot="16200000">
            <a:off x="4071600" y="1555200"/>
            <a:ext cx="11664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93" idx="3"/>
            <a:endCxn id="184" idx="0"/>
          </p:cNvCxnSpPr>
          <p:nvPr/>
        </p:nvCxnSpPr>
        <p:spPr>
          <a:xfrm flipH="1" rot="16200000">
            <a:off x="1312200" y="5122080"/>
            <a:ext cx="524160" cy="127800"/>
          </a:xfrm>
          <a:prstGeom prst="bentConnector3">
            <a:avLst>
              <a:gd name="adj1" fmla="val 563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86" idx="0"/>
            <a:endCxn id="95" idx="3"/>
          </p:cNvCxnSpPr>
          <p:nvPr/>
        </p:nvCxnSpPr>
        <p:spPr>
          <a:xfrm rot="5400000">
            <a:off x="3569040" y="5450760"/>
            <a:ext cx="272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6" idx="1"/>
            <a:endCxn id="166" idx="3"/>
          </p:cNvCxnSpPr>
          <p:nvPr/>
        </p:nvCxnSpPr>
        <p:spPr>
          <a:xfrm rot="5400000">
            <a:off x="3441240" y="5578560"/>
            <a:ext cx="5277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6" idx="1"/>
            <a:endCxn id="168" idx="3"/>
          </p:cNvCxnSpPr>
          <p:nvPr/>
        </p:nvCxnSpPr>
        <p:spPr>
          <a:xfrm rot="5400000">
            <a:off x="3331800" y="5688000"/>
            <a:ext cx="74664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6" idx="1"/>
            <a:endCxn id="170" idx="3"/>
          </p:cNvCxnSpPr>
          <p:nvPr/>
        </p:nvCxnSpPr>
        <p:spPr>
          <a:xfrm rot="5400000">
            <a:off x="3221640" y="5798160"/>
            <a:ext cx="96732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95" idx="3"/>
            <a:endCxn id="141" idx="1"/>
          </p:cNvCxnSpPr>
          <p:nvPr/>
        </p:nvCxnSpPr>
        <p:spPr>
          <a:xfrm>
            <a:off x="3666600" y="5624280"/>
            <a:ext cx="1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66" idx="3"/>
            <a:endCxn id="167" idx="1"/>
          </p:cNvCxnSpPr>
          <p:nvPr/>
        </p:nvCxnSpPr>
        <p:spPr>
          <a:xfrm flipV="1">
            <a:off x="3666600" y="5874840"/>
            <a:ext cx="181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68" idx="3"/>
            <a:endCxn id="169" idx="1"/>
          </p:cNvCxnSpPr>
          <p:nvPr/>
        </p:nvCxnSpPr>
        <p:spPr>
          <a:xfrm flipV="1">
            <a:off x="3666600" y="6097320"/>
            <a:ext cx="181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70" idx="3"/>
            <a:endCxn id="171" idx="1"/>
          </p:cNvCxnSpPr>
          <p:nvPr/>
        </p:nvCxnSpPr>
        <p:spPr>
          <a:xfrm>
            <a:off x="3666600" y="6319440"/>
            <a:ext cx="1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65" idx="1"/>
            <a:endCxn id="186" idx="1"/>
          </p:cNvCxnSpPr>
          <p:nvPr/>
        </p:nvCxnSpPr>
        <p:spPr>
          <a:xfrm rot="10800000">
            <a:off x="3742560" y="5352480"/>
            <a:ext cx="105480" cy="1197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4746240" y="5554800"/>
            <a:ext cx="1144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ตักบาต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4636800" y="5856120"/>
            <a:ext cx="18759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การบูชาพระรัตนตรั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4674600" y="6108840"/>
            <a:ext cx="1594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ศาสนวัตถ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สถ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4634280" y="6465960"/>
            <a:ext cx="19731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ศีล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สมาทานศีล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8435520" y="5502240"/>
            <a:ext cx="1944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พนมมือ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นั่ง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ดิ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ื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8427240" y="4754520"/>
            <a:ext cx="18212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ับ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่งสิ่งของแก่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8502120" y="5010120"/>
            <a:ext cx="15649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ในการปฏิบัติต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มื่ออยู่ในวัดและพุทธสถ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02" name=""/>
          <p:cNvCxnSpPr>
            <a:stCxn id="99" idx="7"/>
            <a:endCxn id="111" idx="2"/>
          </p:cNvCxnSpPr>
          <p:nvPr/>
        </p:nvCxnSpPr>
        <p:spPr>
          <a:xfrm flipV="1">
            <a:off x="6200640" y="3276000"/>
            <a:ext cx="619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99" idx="6"/>
            <a:endCxn id="100" idx="2"/>
          </p:cNvCxnSpPr>
          <p:nvPr/>
        </p:nvCxnSpPr>
        <p:spPr>
          <a:xfrm flipV="1">
            <a:off x="6335280" y="3962160"/>
            <a:ext cx="48492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99" idx="5"/>
            <a:endCxn id="104" idx="2"/>
          </p:cNvCxnSpPr>
          <p:nvPr/>
        </p:nvCxnSpPr>
        <p:spPr>
          <a:xfrm>
            <a:off x="6200280" y="4362480"/>
            <a:ext cx="5439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99" idx="4"/>
            <a:endCxn id="103" idx="0"/>
          </p:cNvCxnSpPr>
          <p:nvPr/>
        </p:nvCxnSpPr>
        <p:spPr>
          <a:xfrm>
            <a:off x="5920920" y="4476600"/>
            <a:ext cx="366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99" idx="3"/>
            <a:endCxn id="108" idx="7"/>
          </p:cNvCxnSpPr>
          <p:nvPr/>
        </p:nvCxnSpPr>
        <p:spPr>
          <a:xfrm flipH="1">
            <a:off x="5412600" y="4362120"/>
            <a:ext cx="22788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215840" y="1638360"/>
            <a:ext cx="9403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บัณฑ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7211520" y="2095560"/>
            <a:ext cx="9903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สังกิจจ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09" name=""/>
          <p:cNvCxnSpPr>
            <a:stCxn id="111" idx="0"/>
            <a:endCxn id="207" idx="1"/>
          </p:cNvCxnSpPr>
          <p:nvPr/>
        </p:nvCxnSpPr>
        <p:spPr>
          <a:xfrm flipH="1" flipV="1" rot="5400000">
            <a:off x="6631560" y="2287800"/>
            <a:ext cx="129132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11" idx="0"/>
            <a:endCxn id="110" idx="1"/>
          </p:cNvCxnSpPr>
          <p:nvPr/>
        </p:nvCxnSpPr>
        <p:spPr>
          <a:xfrm flipH="1" flipV="1" rot="5400000">
            <a:off x="6745680" y="2402280"/>
            <a:ext cx="106272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11" idx="0"/>
            <a:endCxn id="208" idx="1"/>
          </p:cNvCxnSpPr>
          <p:nvPr/>
        </p:nvCxnSpPr>
        <p:spPr>
          <a:xfrm flipH="1" flipV="1" rot="5400000">
            <a:off x="6860160" y="2516400"/>
            <a:ext cx="83412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100" idx="6"/>
            <a:endCxn id="179" idx="1"/>
          </p:cNvCxnSpPr>
          <p:nvPr/>
        </p:nvCxnSpPr>
        <p:spPr>
          <a:xfrm>
            <a:off x="7962480" y="3962160"/>
            <a:ext cx="191160" cy="13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100" idx="6"/>
            <a:endCxn id="178" idx="1"/>
          </p:cNvCxnSpPr>
          <p:nvPr/>
        </p:nvCxnSpPr>
        <p:spPr>
          <a:xfrm flipV="1">
            <a:off x="7962480" y="3718800"/>
            <a:ext cx="191160" cy="2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100" idx="6"/>
            <a:endCxn id="101" idx="1"/>
          </p:cNvCxnSpPr>
          <p:nvPr/>
        </p:nvCxnSpPr>
        <p:spPr>
          <a:xfrm flipV="1">
            <a:off x="7962480" y="2482560"/>
            <a:ext cx="191160" cy="1480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100" idx="6"/>
            <a:endCxn id="175" idx="1"/>
          </p:cNvCxnSpPr>
          <p:nvPr/>
        </p:nvCxnSpPr>
        <p:spPr>
          <a:xfrm flipV="1">
            <a:off x="7962480" y="2921760"/>
            <a:ext cx="191160" cy="104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100" idx="6"/>
            <a:endCxn id="176" idx="1"/>
          </p:cNvCxnSpPr>
          <p:nvPr/>
        </p:nvCxnSpPr>
        <p:spPr>
          <a:xfrm flipV="1">
            <a:off x="7962480" y="3252240"/>
            <a:ext cx="191160" cy="71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00" idx="6"/>
            <a:endCxn id="174" idx="1"/>
          </p:cNvCxnSpPr>
          <p:nvPr/>
        </p:nvCxnSpPr>
        <p:spPr>
          <a:xfrm flipV="1">
            <a:off x="7962480" y="3481200"/>
            <a:ext cx="191160" cy="481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100" idx="6"/>
            <a:endCxn id="177" idx="1"/>
          </p:cNvCxnSpPr>
          <p:nvPr/>
        </p:nvCxnSpPr>
        <p:spPr>
          <a:xfrm>
            <a:off x="7962480" y="3962160"/>
            <a:ext cx="191160" cy="26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104" idx="6"/>
            <a:endCxn id="107" idx="0"/>
          </p:cNvCxnSpPr>
          <p:nvPr/>
        </p:nvCxnSpPr>
        <p:spPr>
          <a:xfrm>
            <a:off x="7505280" y="4648320"/>
            <a:ext cx="3438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107" idx="3"/>
            <a:endCxn id="106" idx="1"/>
          </p:cNvCxnSpPr>
          <p:nvPr/>
        </p:nvCxnSpPr>
        <p:spPr>
          <a:xfrm>
            <a:off x="8088480" y="5186160"/>
            <a:ext cx="637200" cy="81180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107" idx="3"/>
            <a:endCxn id="199" idx="1"/>
          </p:cNvCxnSpPr>
          <p:nvPr/>
        </p:nvCxnSpPr>
        <p:spPr>
          <a:xfrm>
            <a:off x="8088480" y="5186160"/>
            <a:ext cx="637200" cy="46260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107" idx="3"/>
            <a:endCxn id="201" idx="1"/>
          </p:cNvCxnSpPr>
          <p:nvPr/>
        </p:nvCxnSpPr>
        <p:spPr>
          <a:xfrm flipV="1">
            <a:off x="8088480" y="5173200"/>
            <a:ext cx="637200" cy="1368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107" idx="3"/>
            <a:endCxn id="200" idx="1"/>
          </p:cNvCxnSpPr>
          <p:nvPr/>
        </p:nvCxnSpPr>
        <p:spPr>
          <a:xfrm flipV="1">
            <a:off x="8088120" y="4817520"/>
            <a:ext cx="626040" cy="369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107" idx="3"/>
            <a:endCxn id="105" idx="1"/>
          </p:cNvCxnSpPr>
          <p:nvPr/>
        </p:nvCxnSpPr>
        <p:spPr>
          <a:xfrm flipV="1">
            <a:off x="8088120" y="4521240"/>
            <a:ext cx="626040" cy="66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6426000" y="6896160"/>
            <a:ext cx="173556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เจ้าตากสินมหาราช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6355440" y="5981760"/>
            <a:ext cx="207396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้าพระยาสุธรรมมนตรี 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ูพร้อม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6333120" y="6210360"/>
            <a:ext cx="219132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 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ศุข  ไก่เถื่อ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6132960" y="6438960"/>
            <a:ext cx="358740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  สมเด็จพระสังฆราช 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ริญ สุวฑฺฒโน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6334560" y="6667560"/>
            <a:ext cx="222336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พุฒาจารย์ 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โต   พฺรหฺมรํสี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30" name=""/>
          <p:cNvCxnSpPr>
            <a:stCxn id="108" idx="3"/>
            <a:endCxn id="195" idx="1"/>
          </p:cNvCxnSpPr>
          <p:nvPr/>
        </p:nvCxnSpPr>
        <p:spPr>
          <a:xfrm flipH="1" rot="16200000">
            <a:off x="4712760" y="5453280"/>
            <a:ext cx="36108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08" idx="3"/>
            <a:endCxn id="196" idx="1"/>
          </p:cNvCxnSpPr>
          <p:nvPr/>
        </p:nvCxnSpPr>
        <p:spPr>
          <a:xfrm flipH="1" rot="16200000">
            <a:off x="4580280" y="5586120"/>
            <a:ext cx="62604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08" idx="3"/>
            <a:endCxn id="197" idx="1"/>
          </p:cNvCxnSpPr>
          <p:nvPr/>
        </p:nvCxnSpPr>
        <p:spPr>
          <a:xfrm flipH="1" rot="16200000">
            <a:off x="4422240" y="5743800"/>
            <a:ext cx="94212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08" idx="3"/>
            <a:endCxn id="198" idx="1"/>
          </p:cNvCxnSpPr>
          <p:nvPr/>
        </p:nvCxnSpPr>
        <p:spPr>
          <a:xfrm flipH="1" rot="16200000">
            <a:off x="4275360" y="5890680"/>
            <a:ext cx="123588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08" idx="3"/>
            <a:endCxn id="109" idx="1"/>
          </p:cNvCxnSpPr>
          <p:nvPr/>
        </p:nvCxnSpPr>
        <p:spPr>
          <a:xfrm flipH="1" rot="16200000">
            <a:off x="4117320" y="6048720"/>
            <a:ext cx="155196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103" idx="5"/>
            <a:endCxn id="102" idx="1"/>
          </p:cNvCxnSpPr>
          <p:nvPr/>
        </p:nvCxnSpPr>
        <p:spPr>
          <a:xfrm flipH="1" rot="16200000">
            <a:off x="6394320" y="5455080"/>
            <a:ext cx="43416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103" idx="5"/>
            <a:endCxn id="226" idx="1"/>
          </p:cNvCxnSpPr>
          <p:nvPr/>
        </p:nvCxnSpPr>
        <p:spPr>
          <a:xfrm flipH="1" rot="16200000">
            <a:off x="6240240" y="5609160"/>
            <a:ext cx="7423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03" idx="5"/>
            <a:endCxn id="227" idx="1"/>
          </p:cNvCxnSpPr>
          <p:nvPr/>
        </p:nvCxnSpPr>
        <p:spPr>
          <a:xfrm flipH="1" rot="16200000">
            <a:off x="6125760" y="5723280"/>
            <a:ext cx="9709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03" idx="5"/>
            <a:endCxn id="228" idx="1"/>
          </p:cNvCxnSpPr>
          <p:nvPr/>
        </p:nvCxnSpPr>
        <p:spPr>
          <a:xfrm flipH="1" rot="16200000">
            <a:off x="6011640" y="5837760"/>
            <a:ext cx="11995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103" idx="5"/>
            <a:endCxn id="229" idx="1"/>
          </p:cNvCxnSpPr>
          <p:nvPr/>
        </p:nvCxnSpPr>
        <p:spPr>
          <a:xfrm flipH="1" rot="16200000">
            <a:off x="5897160" y="5951880"/>
            <a:ext cx="14281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103" idx="5"/>
            <a:endCxn id="225" idx="1"/>
          </p:cNvCxnSpPr>
          <p:nvPr/>
        </p:nvCxnSpPr>
        <p:spPr>
          <a:xfrm flipH="1" rot="16200000">
            <a:off x="5783040" y="6066360"/>
            <a:ext cx="16567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743280" y="527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"/>
          <p:cNvSpPr/>
          <p:nvPr/>
        </p:nvSpPr>
        <p:spPr>
          <a:xfrm>
            <a:off x="222120" y="6541920"/>
            <a:ext cx="158472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โมกฺโข   กลฺยาณิยา   สาธ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"/>
          <p:cNvSpPr/>
          <p:nvPr/>
        </p:nvSpPr>
        <p:spPr>
          <a:xfrm>
            <a:off x="429840" y="5605560"/>
            <a:ext cx="135000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าตา  มิตฺตํ สเก  ฆเ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"/>
          <p:cNvSpPr/>
          <p:nvPr/>
        </p:nvSpPr>
        <p:spPr>
          <a:xfrm>
            <a:off x="437760" y="5838840"/>
            <a:ext cx="133956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ฺรหฺมาติ  มาตาปิตโ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"/>
          <p:cNvSpPr/>
          <p:nvPr/>
        </p:nvSpPr>
        <p:spPr>
          <a:xfrm>
            <a:off x="-295920" y="6073920"/>
            <a:ext cx="221436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นิมิตฺตํ สาธุรูปานํ กตญฺญูกตเวทิต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"/>
          <p:cNvSpPr/>
          <p:nvPr/>
        </p:nvSpPr>
        <p:spPr>
          <a:xfrm>
            <a:off x="579960" y="6307200"/>
            <a:ext cx="116100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ทมาโน  ปิโย โห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"/>
          <p:cNvSpPr/>
          <p:nvPr/>
        </p:nvSpPr>
        <p:spPr>
          <a:xfrm>
            <a:off x="1638360" y="529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48" name=""/>
          <p:cNvCxnSpPr>
            <a:stCxn id="94" idx="3"/>
            <a:endCxn id="247" idx="1"/>
          </p:cNvCxnSpPr>
          <p:nvPr/>
        </p:nvCxnSpPr>
        <p:spPr>
          <a:xfrm flipV="1">
            <a:off x="1584360" y="5447880"/>
            <a:ext cx="54720" cy="23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3" idx="3"/>
            <a:endCxn id="247" idx="1"/>
          </p:cNvCxnSpPr>
          <p:nvPr/>
        </p:nvCxnSpPr>
        <p:spPr>
          <a:xfrm flipV="1">
            <a:off x="1584360" y="5448240"/>
            <a:ext cx="54720" cy="25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4" idx="3"/>
            <a:endCxn id="247" idx="1"/>
          </p:cNvCxnSpPr>
          <p:nvPr/>
        </p:nvCxnSpPr>
        <p:spPr>
          <a:xfrm flipV="1">
            <a:off x="1584360" y="5447880"/>
            <a:ext cx="54720" cy="48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5" idx="3"/>
            <a:endCxn id="247" idx="1"/>
          </p:cNvCxnSpPr>
          <p:nvPr/>
        </p:nvCxnSpPr>
        <p:spPr>
          <a:xfrm flipV="1">
            <a:off x="1584360" y="5447520"/>
            <a:ext cx="54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46" idx="3"/>
            <a:endCxn id="247" idx="1"/>
          </p:cNvCxnSpPr>
          <p:nvPr/>
        </p:nvCxnSpPr>
        <p:spPr>
          <a:xfrm flipV="1">
            <a:off x="1584360" y="5447520"/>
            <a:ext cx="5472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2" idx="3"/>
            <a:endCxn id="247" idx="1"/>
          </p:cNvCxnSpPr>
          <p:nvPr/>
        </p:nvCxnSpPr>
        <p:spPr>
          <a:xfrm flipV="1">
            <a:off x="1584360" y="5448240"/>
            <a:ext cx="54720" cy="119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 flipV="1">
            <a:off x="1285920" y="2705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55" name=""/>
          <p:cNvCxnSpPr>
            <a:stCxn id="97" idx="1"/>
            <a:endCxn id="254" idx="0"/>
          </p:cNvCxnSpPr>
          <p:nvPr/>
        </p:nvCxnSpPr>
        <p:spPr>
          <a:xfrm rot="10800000">
            <a:off x="1285200" y="2780640"/>
            <a:ext cx="40068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672560" y="824040"/>
            <a:ext cx="6872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ศึกษ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57" name=""/>
          <p:cNvCxnSpPr>
            <a:stCxn id="118" idx="1"/>
            <a:endCxn id="256" idx="3"/>
          </p:cNvCxnSpPr>
          <p:nvPr/>
        </p:nvCxnSpPr>
        <p:spPr>
          <a:xfrm rot="5400000">
            <a:off x="2286720" y="853200"/>
            <a:ext cx="306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869040" y="3467160"/>
            <a:ext cx="16135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ตัวดี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่าง่าย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บใช้พ่อแม่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33051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60" name=""/>
          <p:cNvCxnSpPr>
            <a:stCxn id="259" idx="0"/>
            <a:endCxn id="258" idx="1"/>
          </p:cNvCxnSpPr>
          <p:nvPr/>
        </p:nvCxnSpPr>
        <p:spPr>
          <a:xfrm flipH="1" rot="16200000">
            <a:off x="1002600" y="3444840"/>
            <a:ext cx="167040" cy="3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-159120" y="3444840"/>
            <a:ext cx="13089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งเคราะห์ญาติพี่น้อ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"/>
          <p:cNvSpPr/>
          <p:nvPr/>
        </p:nvSpPr>
        <p:spPr>
          <a:xfrm>
            <a:off x="-67680" y="3825720"/>
            <a:ext cx="1208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จักให้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ูดไพเรา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ยู่ในสิ่งแวดล้อมที่ด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"/>
          <p:cNvSpPr/>
          <p:nvPr/>
        </p:nvSpPr>
        <p:spPr>
          <a:xfrm>
            <a:off x="2028960" y="6238800"/>
            <a:ext cx="1904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64" name=""/>
          <p:cNvCxnSpPr>
            <a:stCxn id="259" idx="1"/>
            <a:endCxn id="261" idx="3"/>
          </p:cNvCxnSpPr>
          <p:nvPr/>
        </p:nvCxnSpPr>
        <p:spPr>
          <a:xfrm rot="5400000">
            <a:off x="895320" y="3437640"/>
            <a:ext cx="22752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59" idx="1"/>
            <a:endCxn id="262" idx="3"/>
          </p:cNvCxnSpPr>
          <p:nvPr/>
        </p:nvCxnSpPr>
        <p:spPr>
          <a:xfrm rot="5400000">
            <a:off x="708120" y="3631320"/>
            <a:ext cx="608760" cy="108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9318960" y="190440"/>
            <a:ext cx="4118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67" name=""/>
          <p:cNvCxnSpPr>
            <a:stCxn id="99" idx="2"/>
            <a:endCxn id="54" idx="6"/>
          </p:cNvCxnSpPr>
          <p:nvPr/>
        </p:nvCxnSpPr>
        <p:spPr>
          <a:xfrm flipH="1">
            <a:off x="5287680" y="4065120"/>
            <a:ext cx="21816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55" idx="4"/>
            <a:endCxn id="54" idx="0"/>
          </p:cNvCxnSpPr>
          <p:nvPr/>
        </p:nvCxnSpPr>
        <p:spPr>
          <a:xfrm>
            <a:off x="4614840" y="3203280"/>
            <a:ext cx="1656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88" idx="6"/>
            <a:endCxn id="54" idx="2"/>
          </p:cNvCxnSpPr>
          <p:nvPr/>
        </p:nvCxnSpPr>
        <p:spPr>
          <a:xfrm flipV="1">
            <a:off x="3745080" y="4068000"/>
            <a:ext cx="2275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340000" y="723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>
            <a:off x="3314880" y="1104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72" name=""/>
          <p:cNvCxnSpPr>
            <a:stCxn id="72" idx="1"/>
            <a:endCxn id="76" idx="3"/>
          </p:cNvCxnSpPr>
          <p:nvPr/>
        </p:nvCxnSpPr>
        <p:spPr>
          <a:xfrm flipV="1" rot="10800000">
            <a:off x="3237840" y="1114920"/>
            <a:ext cx="483120" cy="6732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113" idx="1"/>
            <a:endCxn id="115" idx="3"/>
          </p:cNvCxnSpPr>
          <p:nvPr/>
        </p:nvCxnSpPr>
        <p:spPr>
          <a:xfrm flipV="1" rot="10800000">
            <a:off x="2262960" y="658800"/>
            <a:ext cx="1369080" cy="7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1104840" y="1066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1028880" y="11714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76" name=""/>
          <p:cNvCxnSpPr>
            <a:stCxn id="275" idx="0"/>
            <a:endCxn id="277" idx="0"/>
          </p:cNvCxnSpPr>
          <p:nvPr/>
        </p:nvCxnSpPr>
        <p:spPr>
          <a:xfrm flipH="1" rot="16200000">
            <a:off x="1479960" y="794880"/>
            <a:ext cx="543960" cy="1296360"/>
          </a:xfrm>
          <a:prstGeom prst="bentConnector3">
            <a:avLst>
              <a:gd name="adj1" fmla="val 5231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7" idx="1"/>
            <a:endCxn id="56" idx="0"/>
          </p:cNvCxnSpPr>
          <p:nvPr/>
        </p:nvCxnSpPr>
        <p:spPr>
          <a:xfrm flipH="1" rot="16200000">
            <a:off x="2691720" y="1422360"/>
            <a:ext cx="195840" cy="780120"/>
          </a:xfrm>
          <a:prstGeom prst="bentConnector3">
            <a:avLst>
              <a:gd name="adj1" fmla="val 4953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400480" y="1638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80" name=""/>
          <p:cNvCxnSpPr>
            <a:stCxn id="96" idx="3"/>
            <a:endCxn id="136" idx="2"/>
          </p:cNvCxnSpPr>
          <p:nvPr/>
        </p:nvCxnSpPr>
        <p:spPr>
          <a:xfrm flipV="1">
            <a:off x="1952280" y="2028960"/>
            <a:ext cx="29160" cy="273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310320" y="2540160"/>
            <a:ext cx="10238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71440" y="264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83" name=""/>
          <p:cNvCxnSpPr>
            <a:stCxn id="254" idx="1"/>
            <a:endCxn id="281" idx="3"/>
          </p:cNvCxnSpPr>
          <p:nvPr/>
        </p:nvCxnSpPr>
        <p:spPr>
          <a:xfrm flipV="1" rot="16200000">
            <a:off x="1186920" y="2605680"/>
            <a:ext cx="831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55" idx="2"/>
            <a:endCxn id="56" idx="5"/>
          </p:cNvCxnSpPr>
          <p:nvPr/>
        </p:nvCxnSpPr>
        <p:spPr>
          <a:xfrm flipH="1" flipV="1">
            <a:off x="3598200" y="2458800"/>
            <a:ext cx="60084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"/>
          <p:cNvSpPr/>
          <p:nvPr/>
        </p:nvSpPr>
        <p:spPr>
          <a:xfrm>
            <a:off x="932220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72280" y="2870280"/>
            <a:ext cx="990360" cy="533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"/>
          <p:cNvSpPr/>
          <p:nvPr/>
        </p:nvSpPr>
        <p:spPr>
          <a:xfrm>
            <a:off x="2127240" y="2895480"/>
            <a:ext cx="1187640" cy="497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911760"/>
            <a:ext cx="800280" cy="69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"/>
          <p:cNvSpPr/>
          <p:nvPr/>
        </p:nvSpPr>
        <p:spPr>
          <a:xfrm>
            <a:off x="4540320" y="5915160"/>
            <a:ext cx="121752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นะนำ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4464360" y="6288120"/>
            <a:ext cx="161388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6819840" y="1866960"/>
            <a:ext cx="790560" cy="67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>
            <a:off x="6819840" y="5219640"/>
            <a:ext cx="76536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>
            <a:off x="6819840" y="800280"/>
            <a:ext cx="673200" cy="64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"/>
          <p:cNvSpPr/>
          <p:nvPr/>
        </p:nvSpPr>
        <p:spPr>
          <a:xfrm>
            <a:off x="6819840" y="4229280"/>
            <a:ext cx="711360" cy="56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"/>
          <p:cNvSpPr/>
          <p:nvPr/>
        </p:nvSpPr>
        <p:spPr>
          <a:xfrm>
            <a:off x="7738920" y="981000"/>
            <a:ext cx="1013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บัณฑิต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937200" y="6307200"/>
            <a:ext cx="253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ศาสนวัตถุ  ศาสนสถ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116120" y="5959440"/>
            <a:ext cx="1339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ูชา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"/>
          <p:cNvSpPr/>
          <p:nvPr/>
        </p:nvSpPr>
        <p:spPr>
          <a:xfrm>
            <a:off x="6819840" y="3086280"/>
            <a:ext cx="650880" cy="58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1" name=""/>
          <p:cNvSpPr/>
          <p:nvPr/>
        </p:nvSpPr>
        <p:spPr>
          <a:xfrm>
            <a:off x="7962840" y="3254400"/>
            <a:ext cx="692280" cy="173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"/>
          <p:cNvSpPr/>
          <p:nvPr/>
        </p:nvSpPr>
        <p:spPr>
          <a:xfrm>
            <a:off x="7886880" y="1652760"/>
            <a:ext cx="140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อานิสงส์การสวดมนต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"/>
          <p:cNvSpPr/>
          <p:nvPr/>
        </p:nvSpPr>
        <p:spPr>
          <a:xfrm>
            <a:off x="7886880" y="1911240"/>
            <a:ext cx="14158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ช่วยเหลือบำรุงรักษาวั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4" name=""/>
          <p:cNvSpPr/>
          <p:nvPr/>
        </p:nvSpPr>
        <p:spPr>
          <a:xfrm>
            <a:off x="7619400" y="2171880"/>
            <a:ext cx="182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"/>
          <p:cNvSpPr/>
          <p:nvPr/>
        </p:nvSpPr>
        <p:spPr>
          <a:xfrm>
            <a:off x="5396760" y="5126040"/>
            <a:ext cx="4158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ณ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"/>
          <p:cNvSpPr/>
          <p:nvPr/>
        </p:nvSpPr>
        <p:spPr>
          <a:xfrm>
            <a:off x="5372280" y="4897440"/>
            <a:ext cx="5698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ภิกษ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"/>
          <p:cNvSpPr/>
          <p:nvPr/>
        </p:nvSpPr>
        <p:spPr>
          <a:xfrm>
            <a:off x="5357520" y="5354640"/>
            <a:ext cx="6231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าหมณ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"/>
          <p:cNvSpPr/>
          <p:nvPr/>
        </p:nvSpPr>
        <p:spPr>
          <a:xfrm>
            <a:off x="3848040" y="2857680"/>
            <a:ext cx="1174680" cy="563400"/>
          </a:xfrm>
          <a:prstGeom prst="bevel">
            <a:avLst>
              <a:gd name="adj" fmla="val 469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9" name=""/>
          <p:cNvSpPr/>
          <p:nvPr/>
        </p:nvSpPr>
        <p:spPr>
          <a:xfrm>
            <a:off x="2805120" y="3962520"/>
            <a:ext cx="81432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0" name=""/>
          <p:cNvSpPr/>
          <p:nvPr/>
        </p:nvSpPr>
        <p:spPr>
          <a:xfrm>
            <a:off x="4838760" y="3924360"/>
            <a:ext cx="10224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11" name=""/>
          <p:cNvCxnSpPr>
            <a:stCxn id="310" idx="4"/>
            <a:endCxn id="306" idx="1"/>
          </p:cNvCxnSpPr>
          <p:nvPr/>
        </p:nvCxnSpPr>
        <p:spPr>
          <a:xfrm flipH="1" rot="16200000">
            <a:off x="5267880" y="4805280"/>
            <a:ext cx="26136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10" idx="4"/>
            <a:endCxn id="307" idx="1"/>
          </p:cNvCxnSpPr>
          <p:nvPr/>
        </p:nvCxnSpPr>
        <p:spPr>
          <a:xfrm flipH="1" rot="16200000">
            <a:off x="5039280" y="5033880"/>
            <a:ext cx="71856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4"/>
            <a:endCxn id="305" idx="1"/>
          </p:cNvCxnSpPr>
          <p:nvPr/>
        </p:nvCxnSpPr>
        <p:spPr>
          <a:xfrm flipH="1" rot="16200000">
            <a:off x="5153760" y="4919040"/>
            <a:ext cx="48960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5419080" y="5583240"/>
            <a:ext cx="2757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ฤๅษ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15" name=""/>
          <p:cNvCxnSpPr>
            <a:stCxn id="310" idx="4"/>
            <a:endCxn id="314" idx="1"/>
          </p:cNvCxnSpPr>
          <p:nvPr/>
        </p:nvCxnSpPr>
        <p:spPr>
          <a:xfrm flipH="1" rot="16200000">
            <a:off x="4924800" y="5148000"/>
            <a:ext cx="94716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3081240" y="5032440"/>
            <a:ext cx="1425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ตฺตา หิ อตฺตโน  นาโ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นแลเป็นที่พึ่งของ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"/>
          <p:cNvSpPr/>
          <p:nvPr/>
        </p:nvSpPr>
        <p:spPr>
          <a:xfrm>
            <a:off x="2792880" y="5491080"/>
            <a:ext cx="1918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าตา  มิตฺตํ  สเก  ฆเ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ารดาเป็นมิตรในเรือนของ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8" name=""/>
          <p:cNvSpPr/>
          <p:nvPr/>
        </p:nvSpPr>
        <p:spPr>
          <a:xfrm>
            <a:off x="5307480" y="6656400"/>
            <a:ext cx="119160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ารีบุตรโปรดมารดา</a:t>
            </a:r>
            <a:endParaRPr b="0" lang="en-US" sz="1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"/>
          <p:cNvSpPr/>
          <p:nvPr/>
        </p:nvSpPr>
        <p:spPr>
          <a:xfrm>
            <a:off x="178560" y="4686480"/>
            <a:ext cx="597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"/>
          <p:cNvSpPr/>
          <p:nvPr/>
        </p:nvSpPr>
        <p:spPr>
          <a:xfrm>
            <a:off x="396000" y="5251320"/>
            <a:ext cx="751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1" name=""/>
          <p:cNvSpPr/>
          <p:nvPr/>
        </p:nvSpPr>
        <p:spPr>
          <a:xfrm>
            <a:off x="398160" y="5530680"/>
            <a:ext cx="81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คหวัตถุ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2" name=""/>
          <p:cNvSpPr/>
          <p:nvPr/>
        </p:nvSpPr>
        <p:spPr>
          <a:xfrm>
            <a:off x="258840" y="5810400"/>
            <a:ext cx="1679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่อ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ม่ และครอบครัว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"/>
          <p:cNvSpPr/>
          <p:nvPr/>
        </p:nvSpPr>
        <p:spPr>
          <a:xfrm>
            <a:off x="434520" y="6210360"/>
            <a:ext cx="626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4" name=""/>
          <p:cNvSpPr/>
          <p:nvPr/>
        </p:nvSpPr>
        <p:spPr>
          <a:xfrm>
            <a:off x="495360" y="304812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5" name=""/>
          <p:cNvSpPr/>
          <p:nvPr/>
        </p:nvSpPr>
        <p:spPr>
          <a:xfrm>
            <a:off x="-29880" y="4402080"/>
            <a:ext cx="621720" cy="2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"/>
          <p:cNvSpPr/>
          <p:nvPr/>
        </p:nvSpPr>
        <p:spPr>
          <a:xfrm>
            <a:off x="800280" y="4381560"/>
            <a:ext cx="68580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7" name=""/>
          <p:cNvSpPr/>
          <p:nvPr/>
        </p:nvSpPr>
        <p:spPr>
          <a:xfrm>
            <a:off x="834120" y="6450120"/>
            <a:ext cx="4021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ตัวดี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"/>
          <p:cNvSpPr/>
          <p:nvPr/>
        </p:nvSpPr>
        <p:spPr>
          <a:xfrm>
            <a:off x="1508400" y="4390920"/>
            <a:ext cx="118548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จให้บริสุทธิ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"/>
          <p:cNvSpPr/>
          <p:nvPr/>
        </p:nvSpPr>
        <p:spPr>
          <a:xfrm>
            <a:off x="843120" y="6657840"/>
            <a:ext cx="3549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ว่าง่าย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0" name=""/>
          <p:cNvSpPr/>
          <p:nvPr/>
        </p:nvSpPr>
        <p:spPr>
          <a:xfrm>
            <a:off x="795960" y="6869160"/>
            <a:ext cx="630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บใช้พ่อแม่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1" name=""/>
          <p:cNvSpPr/>
          <p:nvPr/>
        </p:nvSpPr>
        <p:spPr>
          <a:xfrm>
            <a:off x="2138040" y="6075360"/>
            <a:ext cx="14277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สวดมนต์และแผ่เมตตา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"/>
          <p:cNvSpPr/>
          <p:nvPr/>
        </p:nvSpPr>
        <p:spPr>
          <a:xfrm>
            <a:off x="2102040" y="6251400"/>
            <a:ext cx="178740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ความหมายและประโยชน์ของ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3" name=""/>
          <p:cNvSpPr/>
          <p:nvPr/>
        </p:nvSpPr>
        <p:spPr>
          <a:xfrm>
            <a:off x="2073600" y="6426360"/>
            <a:ext cx="17571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ฟังเพลงและร้องเพลงอย่างมี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"/>
          <p:cNvSpPr/>
          <p:nvPr/>
        </p:nvSpPr>
        <p:spPr>
          <a:xfrm>
            <a:off x="2166480" y="6602400"/>
            <a:ext cx="13395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่นและทำงานอย่างมี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"/>
          <p:cNvSpPr/>
          <p:nvPr/>
        </p:nvSpPr>
        <p:spPr>
          <a:xfrm>
            <a:off x="2127960" y="6777000"/>
            <a:ext cx="1543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ให้มีสติในการฟัง การอ่า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คิด  การถาม การเขีย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160"/>
            <a:ext cx="102870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พุทธศาสนา 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"/>
          <p:cNvSpPr/>
          <p:nvPr/>
        </p:nvSpPr>
        <p:spPr>
          <a:xfrm>
            <a:off x="8654040" y="3781440"/>
            <a:ext cx="1545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ในการปฏิบัติ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"/>
          <p:cNvSpPr/>
          <p:nvPr/>
        </p:nvSpPr>
        <p:spPr>
          <a:xfrm>
            <a:off x="8763480" y="2562120"/>
            <a:ext cx="772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พนมมือ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"/>
          <p:cNvSpPr/>
          <p:nvPr/>
        </p:nvSpPr>
        <p:spPr>
          <a:xfrm>
            <a:off x="8682120" y="3541680"/>
            <a:ext cx="1400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ในการสนท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"/>
          <p:cNvSpPr/>
          <p:nvPr/>
        </p:nvSpPr>
        <p:spPr>
          <a:xfrm>
            <a:off x="8812800" y="2751120"/>
            <a:ext cx="489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"/>
          <p:cNvSpPr/>
          <p:nvPr/>
        </p:nvSpPr>
        <p:spPr>
          <a:xfrm>
            <a:off x="8723520" y="3327480"/>
            <a:ext cx="102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ลุกขึ้นยืนรับ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"/>
          <p:cNvSpPr/>
          <p:nvPr/>
        </p:nvSpPr>
        <p:spPr>
          <a:xfrm>
            <a:off x="8790840" y="2924280"/>
            <a:ext cx="608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"/>
          <p:cNvSpPr/>
          <p:nvPr/>
        </p:nvSpPr>
        <p:spPr>
          <a:xfrm>
            <a:off x="8808120" y="3125880"/>
            <a:ext cx="451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นั่ง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"/>
          <p:cNvSpPr/>
          <p:nvPr/>
        </p:nvSpPr>
        <p:spPr>
          <a:xfrm>
            <a:off x="8420040" y="4273560"/>
            <a:ext cx="1513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บาทสมเด็จพระเจ้าอยู่หัว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ภูมิพลอดุลยเดช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"/>
          <p:cNvSpPr/>
          <p:nvPr/>
        </p:nvSpPr>
        <p:spPr>
          <a:xfrm>
            <a:off x="8075160" y="4737240"/>
            <a:ext cx="2322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้าพระยาสุธรรมมนตรี 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ูพร้อม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นิสงส์ของการสวดมนต์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"/>
          <p:cNvSpPr/>
          <p:nvPr/>
        </p:nvSpPr>
        <p:spPr>
          <a:xfrm>
            <a:off x="1486080" y="4991040"/>
            <a:ext cx="1066680" cy="609840"/>
          </a:xfrm>
          <a:prstGeom prst="hexagon">
            <a:avLst>
              <a:gd name="adj" fmla="val 4372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6586560"/>
            <a:ext cx="75960" cy="380880"/>
            <a:chOff x="762120" y="6586560"/>
            <a:chExt cx="75960" cy="380880"/>
          </a:xfrm>
        </p:grpSpPr>
        <p:sp>
          <p:nvSpPr>
            <p:cNvPr id="348" name=""/>
            <p:cNvSpPr/>
            <p:nvPr/>
          </p:nvSpPr>
          <p:spPr>
            <a:xfrm>
              <a:off x="762120" y="6586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120" y="69674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2120" y="6789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120" y="6586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47840" y="6210360"/>
            <a:ext cx="75960" cy="685800"/>
            <a:chOff x="2247840" y="6210360"/>
            <a:chExt cx="75960" cy="685800"/>
          </a:xfrm>
        </p:grpSpPr>
        <p:sp>
          <p:nvSpPr>
            <p:cNvPr id="353" name=""/>
            <p:cNvSpPr/>
            <p:nvPr/>
          </p:nvSpPr>
          <p:spPr>
            <a:xfrm>
              <a:off x="2247840" y="6210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47840" y="6896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47840" y="6743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47840" y="6581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47840" y="6400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47840" y="62103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359" name=""/>
          <p:cNvCxnSpPr>
            <a:stCxn id="324" idx="4"/>
            <a:endCxn id="325" idx="0"/>
          </p:cNvCxnSpPr>
          <p:nvPr/>
        </p:nvCxnSpPr>
        <p:spPr>
          <a:xfrm rot="5400000">
            <a:off x="243720" y="3770280"/>
            <a:ext cx="668880" cy="595800"/>
          </a:xfrm>
          <a:prstGeom prst="bentConnector3">
            <a:avLst>
              <a:gd name="adj1" fmla="val 49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28" idx="2"/>
            <a:endCxn id="346" idx="0"/>
          </p:cNvCxnSpPr>
          <p:nvPr/>
        </p:nvCxnSpPr>
        <p:spPr>
          <a:xfrm rot="5400000">
            <a:off x="1871640" y="4761360"/>
            <a:ext cx="376920" cy="83160"/>
          </a:xfrm>
          <a:prstGeom prst="bentConnector3">
            <a:avLst>
              <a:gd name="adj1" fmla="val 497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46" idx="2"/>
            <a:endCxn id="353" idx="0"/>
          </p:cNvCxnSpPr>
          <p:nvPr/>
        </p:nvCxnSpPr>
        <p:spPr>
          <a:xfrm flipH="1" rot="16200000">
            <a:off x="1827720" y="5790960"/>
            <a:ext cx="61020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289" idx="4"/>
            <a:endCxn id="309" idx="0"/>
          </p:cNvCxnSpPr>
          <p:nvPr/>
        </p:nvCxnSpPr>
        <p:spPr>
          <a:xfrm flipH="1" rot="16200000">
            <a:off x="2690640" y="3440160"/>
            <a:ext cx="551520" cy="492840"/>
          </a:xfrm>
          <a:prstGeom prst="bentConnector3">
            <a:avLst>
              <a:gd name="adj1" fmla="val 4265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289" idx="6"/>
            <a:endCxn id="308" idx="0"/>
          </p:cNvCxnSpPr>
          <p:nvPr/>
        </p:nvCxnSpPr>
        <p:spPr>
          <a:xfrm flipV="1">
            <a:off x="3333240" y="3139560"/>
            <a:ext cx="515160" cy="5760"/>
          </a:xfrm>
          <a:prstGeom prst="bentConnector3">
            <a:avLst>
              <a:gd name="adj1" fmla="val 481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290" idx="5"/>
            <a:endCxn id="291" idx="1"/>
          </p:cNvCxnSpPr>
          <p:nvPr/>
        </p:nvCxnSpPr>
        <p:spPr>
          <a:xfrm flipH="1" rot="16200000">
            <a:off x="3872520" y="5203800"/>
            <a:ext cx="151992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290" idx="5"/>
            <a:endCxn id="292" idx="1"/>
          </p:cNvCxnSpPr>
          <p:nvPr/>
        </p:nvCxnSpPr>
        <p:spPr>
          <a:xfrm flipH="1" rot="16200000">
            <a:off x="3686040" y="5390280"/>
            <a:ext cx="189288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288" idx="6"/>
            <a:endCxn id="295" idx="2"/>
          </p:cNvCxnSpPr>
          <p:nvPr/>
        </p:nvCxnSpPr>
        <p:spPr>
          <a:xfrm flipV="1">
            <a:off x="6381360" y="1122120"/>
            <a:ext cx="438840" cy="201528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288" idx="6"/>
            <a:endCxn id="293" idx="2"/>
          </p:cNvCxnSpPr>
          <p:nvPr/>
        </p:nvCxnSpPr>
        <p:spPr>
          <a:xfrm flipV="1">
            <a:off x="6381360" y="2204280"/>
            <a:ext cx="438840" cy="93276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288" idx="6"/>
            <a:endCxn id="300" idx="2"/>
          </p:cNvCxnSpPr>
          <p:nvPr/>
        </p:nvCxnSpPr>
        <p:spPr>
          <a:xfrm>
            <a:off x="6381360" y="3137040"/>
            <a:ext cx="438840" cy="24336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288" idx="6"/>
            <a:endCxn id="296" idx="2"/>
          </p:cNvCxnSpPr>
          <p:nvPr/>
        </p:nvCxnSpPr>
        <p:spPr>
          <a:xfrm>
            <a:off x="6381360" y="3137040"/>
            <a:ext cx="438840" cy="137520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288" idx="6"/>
            <a:endCxn id="294" idx="2"/>
          </p:cNvCxnSpPr>
          <p:nvPr/>
        </p:nvCxnSpPr>
        <p:spPr>
          <a:xfrm>
            <a:off x="6381360" y="3137040"/>
            <a:ext cx="438840" cy="240552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295" idx="6"/>
            <a:endCxn id="297" idx="1"/>
          </p:cNvCxnSpPr>
          <p:nvPr/>
        </p:nvCxnSpPr>
        <p:spPr>
          <a:xfrm flipV="1">
            <a:off x="7493040" y="1088280"/>
            <a:ext cx="394560" cy="3420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293" idx="6"/>
            <a:endCxn id="302" idx="1"/>
          </p:cNvCxnSpPr>
          <p:nvPr/>
        </p:nvCxnSpPr>
        <p:spPr>
          <a:xfrm flipV="1">
            <a:off x="7610400" y="1759680"/>
            <a:ext cx="277200" cy="44532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293" idx="6"/>
            <a:endCxn id="303" idx="1"/>
          </p:cNvCxnSpPr>
          <p:nvPr/>
        </p:nvCxnSpPr>
        <p:spPr>
          <a:xfrm flipV="1">
            <a:off x="7610400" y="2018880"/>
            <a:ext cx="277200" cy="18648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293" idx="6"/>
            <a:endCxn id="304" idx="1"/>
          </p:cNvCxnSpPr>
          <p:nvPr/>
        </p:nvCxnSpPr>
        <p:spPr>
          <a:xfrm>
            <a:off x="7610400" y="2204640"/>
            <a:ext cx="277200" cy="7524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1" idx="3"/>
            <a:endCxn id="338" idx="1"/>
          </p:cNvCxnSpPr>
          <p:nvPr/>
        </p:nvCxnSpPr>
        <p:spPr>
          <a:xfrm flipV="1">
            <a:off x="8654760" y="2667960"/>
            <a:ext cx="222840" cy="67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1" idx="3"/>
            <a:endCxn id="340" idx="1"/>
          </p:cNvCxnSpPr>
          <p:nvPr/>
        </p:nvCxnSpPr>
        <p:spPr>
          <a:xfrm flipV="1">
            <a:off x="8654760" y="2857320"/>
            <a:ext cx="222840" cy="48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1" idx="3"/>
            <a:endCxn id="342" idx="1"/>
          </p:cNvCxnSpPr>
          <p:nvPr/>
        </p:nvCxnSpPr>
        <p:spPr>
          <a:xfrm flipV="1">
            <a:off x="8654760" y="3030120"/>
            <a:ext cx="222840" cy="3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1" idx="3"/>
            <a:endCxn id="343" idx="1"/>
          </p:cNvCxnSpPr>
          <p:nvPr/>
        </p:nvCxnSpPr>
        <p:spPr>
          <a:xfrm flipV="1">
            <a:off x="8654760" y="3231720"/>
            <a:ext cx="22284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3"/>
            <a:endCxn id="341" idx="1"/>
          </p:cNvCxnSpPr>
          <p:nvPr/>
        </p:nvCxnSpPr>
        <p:spPr>
          <a:xfrm>
            <a:off x="8654760" y="3346560"/>
            <a:ext cx="222840" cy="87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01" idx="3"/>
            <a:endCxn id="339" idx="1"/>
          </p:cNvCxnSpPr>
          <p:nvPr/>
        </p:nvCxnSpPr>
        <p:spPr>
          <a:xfrm>
            <a:off x="8654760" y="3346560"/>
            <a:ext cx="222840" cy="30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01" idx="3"/>
            <a:endCxn id="337" idx="1"/>
          </p:cNvCxnSpPr>
          <p:nvPr/>
        </p:nvCxnSpPr>
        <p:spPr>
          <a:xfrm>
            <a:off x="8654760" y="3346560"/>
            <a:ext cx="222840" cy="54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00" idx="6"/>
            <a:endCxn id="301" idx="1"/>
          </p:cNvCxnSpPr>
          <p:nvPr/>
        </p:nvCxnSpPr>
        <p:spPr>
          <a:xfrm flipV="1">
            <a:off x="7470360" y="3346200"/>
            <a:ext cx="492840" cy="33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296" idx="6"/>
            <a:endCxn id="344" idx="1"/>
          </p:cNvCxnSpPr>
          <p:nvPr/>
        </p:nvCxnSpPr>
        <p:spPr>
          <a:xfrm flipV="1">
            <a:off x="7530840" y="4479480"/>
            <a:ext cx="88956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296" idx="6"/>
            <a:endCxn id="345" idx="1"/>
          </p:cNvCxnSpPr>
          <p:nvPr/>
        </p:nvCxnSpPr>
        <p:spPr>
          <a:xfrm>
            <a:off x="7530840" y="4511520"/>
            <a:ext cx="889560" cy="4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294" idx="4"/>
            <a:endCxn id="299" idx="1"/>
          </p:cNvCxnSpPr>
          <p:nvPr/>
        </p:nvCxnSpPr>
        <p:spPr>
          <a:xfrm flipH="1" rot="16200000">
            <a:off x="7156800" y="5906880"/>
            <a:ext cx="20412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/>
          <p:nvPr/>
        </p:nvCxnSpPr>
        <p:spPr>
          <a:xfrm flipH="1" rot="16200000">
            <a:off x="6964200" y="6099840"/>
            <a:ext cx="581400" cy="10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7" name=""/>
          <p:cNvSpPr/>
          <p:nvPr/>
        </p:nvSpPr>
        <p:spPr>
          <a:xfrm>
            <a:off x="2382840" y="693720"/>
            <a:ext cx="71280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ประว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8" name=""/>
          <p:cNvSpPr/>
          <p:nvPr/>
        </p:nvSpPr>
        <p:spPr>
          <a:xfrm>
            <a:off x="3543480" y="1787400"/>
            <a:ext cx="1253880" cy="5367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9" name=""/>
          <p:cNvSpPr/>
          <p:nvPr/>
        </p:nvSpPr>
        <p:spPr>
          <a:xfrm>
            <a:off x="1780560" y="638280"/>
            <a:ext cx="4510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สู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"/>
          <p:cNvSpPr/>
          <p:nvPr/>
        </p:nvSpPr>
        <p:spPr>
          <a:xfrm>
            <a:off x="1859040" y="870120"/>
            <a:ext cx="376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รัสรู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1" name=""/>
          <p:cNvSpPr/>
          <p:nvPr/>
        </p:nvSpPr>
        <p:spPr>
          <a:xfrm>
            <a:off x="1580760" y="1101600"/>
            <a:ext cx="6919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ินิพพ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"/>
          <p:cNvSpPr/>
          <p:nvPr/>
        </p:nvSpPr>
        <p:spPr>
          <a:xfrm>
            <a:off x="2382840" y="2098800"/>
            <a:ext cx="7128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3" name=""/>
          <p:cNvSpPr/>
          <p:nvPr/>
        </p:nvSpPr>
        <p:spPr>
          <a:xfrm>
            <a:off x="289080" y="1800360"/>
            <a:ext cx="71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4" name=""/>
          <p:cNvSpPr/>
          <p:nvPr/>
        </p:nvSpPr>
        <p:spPr>
          <a:xfrm>
            <a:off x="239400" y="2025720"/>
            <a:ext cx="78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"/>
          <p:cNvSpPr/>
          <p:nvPr/>
        </p:nvSpPr>
        <p:spPr>
          <a:xfrm>
            <a:off x="198360" y="2212920"/>
            <a:ext cx="83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"/>
          <p:cNvSpPr/>
          <p:nvPr/>
        </p:nvSpPr>
        <p:spPr>
          <a:xfrm>
            <a:off x="65880" y="2427120"/>
            <a:ext cx="98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"/>
          <p:cNvSpPr/>
          <p:nvPr/>
        </p:nvSpPr>
        <p:spPr>
          <a:xfrm>
            <a:off x="1068120" y="2111400"/>
            <a:ext cx="1276920" cy="410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วัติเบื้องต้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"/>
          <p:cNvSpPr/>
          <p:nvPr/>
        </p:nvSpPr>
        <p:spPr>
          <a:xfrm>
            <a:off x="2541600" y="1460520"/>
            <a:ext cx="554040" cy="44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"/>
          <p:cNvSpPr/>
          <p:nvPr/>
        </p:nvSpPr>
        <p:spPr>
          <a:xfrm>
            <a:off x="1514520" y="1409760"/>
            <a:ext cx="9507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ณณุปถ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"/>
          <p:cNvSpPr/>
          <p:nvPr/>
        </p:nvSpPr>
        <p:spPr>
          <a:xfrm>
            <a:off x="1374120" y="1701720"/>
            <a:ext cx="1109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วัณณสาม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01" name=""/>
          <p:cNvCxnSpPr>
            <a:stCxn id="387" idx="2"/>
            <a:endCxn id="389" idx="3"/>
          </p:cNvCxnSpPr>
          <p:nvPr/>
        </p:nvCxnSpPr>
        <p:spPr>
          <a:xfrm rot="10800000">
            <a:off x="2171160" y="715320"/>
            <a:ext cx="211680" cy="261000"/>
          </a:xfrm>
          <a:prstGeom prst="bentConnector3">
            <a:avLst>
              <a:gd name="adj1" fmla="val 495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387" idx="2"/>
            <a:endCxn id="390" idx="3"/>
          </p:cNvCxnSpPr>
          <p:nvPr/>
        </p:nvCxnSpPr>
        <p:spPr>
          <a:xfrm rot="10800000">
            <a:off x="2171160" y="947160"/>
            <a:ext cx="211680" cy="29160"/>
          </a:xfrm>
          <a:prstGeom prst="bentConnector3">
            <a:avLst>
              <a:gd name="adj1" fmla="val 495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387" idx="2"/>
            <a:endCxn id="391" idx="3"/>
          </p:cNvCxnSpPr>
          <p:nvPr/>
        </p:nvCxnSpPr>
        <p:spPr>
          <a:xfrm flipV="1" rot="10800000">
            <a:off x="2171160" y="975960"/>
            <a:ext cx="211680" cy="203760"/>
          </a:xfrm>
          <a:prstGeom prst="bentConnector3">
            <a:avLst>
              <a:gd name="adj1" fmla="val 495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88" idx="2"/>
            <a:endCxn id="398" idx="6"/>
          </p:cNvCxnSpPr>
          <p:nvPr/>
        </p:nvCxnSpPr>
        <p:spPr>
          <a:xfrm rot="10800000">
            <a:off x="3094920" y="1683720"/>
            <a:ext cx="429480" cy="372240"/>
          </a:xfrm>
          <a:prstGeom prst="bentConnector3">
            <a:avLst>
              <a:gd name="adj1" fmla="val 477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388" idx="2"/>
            <a:endCxn id="392" idx="6"/>
          </p:cNvCxnSpPr>
          <p:nvPr/>
        </p:nvCxnSpPr>
        <p:spPr>
          <a:xfrm flipV="1" rot="10800000">
            <a:off x="3094920" y="2055960"/>
            <a:ext cx="429480" cy="295560"/>
          </a:xfrm>
          <a:prstGeom prst="bentConnector3">
            <a:avLst>
              <a:gd name="adj1" fmla="val 477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2" idx="2"/>
            <a:endCxn id="397" idx="3"/>
          </p:cNvCxnSpPr>
          <p:nvPr/>
        </p:nvCxnSpPr>
        <p:spPr>
          <a:xfrm rot="10800000">
            <a:off x="2153520" y="2321640"/>
            <a:ext cx="229320" cy="2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398" idx="2"/>
            <a:endCxn id="400" idx="3"/>
          </p:cNvCxnSpPr>
          <p:nvPr/>
        </p:nvCxnSpPr>
        <p:spPr>
          <a:xfrm flipV="1" rot="10800000">
            <a:off x="2323440" y="1684080"/>
            <a:ext cx="218160" cy="9576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398" idx="2"/>
            <a:endCxn id="399" idx="3"/>
          </p:cNvCxnSpPr>
          <p:nvPr/>
        </p:nvCxnSpPr>
        <p:spPr>
          <a:xfrm rot="10800000">
            <a:off x="2323440" y="1496160"/>
            <a:ext cx="218160" cy="1882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308" idx="1"/>
            <a:endCxn id="388" idx="4"/>
          </p:cNvCxnSpPr>
          <p:nvPr/>
        </p:nvCxnSpPr>
        <p:spPr>
          <a:xfrm flipV="1" rot="16200000">
            <a:off x="4031640" y="2480400"/>
            <a:ext cx="541800" cy="266040"/>
          </a:xfrm>
          <a:prstGeom prst="bentConnector3">
            <a:avLst>
              <a:gd name="adj1" fmla="val 54188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924360" y="590400"/>
            <a:ext cx="13716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ชาติไทย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11" name=""/>
          <p:cNvCxnSpPr>
            <a:stCxn id="387" idx="6"/>
            <a:endCxn id="388" idx="2"/>
          </p:cNvCxnSpPr>
          <p:nvPr/>
        </p:nvCxnSpPr>
        <p:spPr>
          <a:xfrm>
            <a:off x="3095280" y="975960"/>
            <a:ext cx="429480" cy="1080360"/>
          </a:xfrm>
          <a:prstGeom prst="bentConnector3">
            <a:avLst>
              <a:gd name="adj1" fmla="val 521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2" name=""/>
          <p:cNvCxnSpPr>
            <a:stCxn id="393" idx="3"/>
            <a:endCxn id="397" idx="1"/>
          </p:cNvCxnSpPr>
          <p:nvPr/>
        </p:nvCxnSpPr>
        <p:spPr>
          <a:xfrm>
            <a:off x="921960" y="1907640"/>
            <a:ext cx="337320" cy="41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"/>
          <p:cNvCxnSpPr>
            <a:stCxn id="394" idx="3"/>
            <a:endCxn id="397" idx="1"/>
          </p:cNvCxnSpPr>
          <p:nvPr/>
        </p:nvCxnSpPr>
        <p:spPr>
          <a:xfrm>
            <a:off x="921960" y="2133720"/>
            <a:ext cx="337320" cy="189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395" idx="3"/>
            <a:endCxn id="397" idx="1"/>
          </p:cNvCxnSpPr>
          <p:nvPr/>
        </p:nvCxnSpPr>
        <p:spPr>
          <a:xfrm>
            <a:off x="921960" y="2320920"/>
            <a:ext cx="3373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6" idx="3"/>
            <a:endCxn id="397" idx="1"/>
          </p:cNvCxnSpPr>
          <p:nvPr/>
        </p:nvCxnSpPr>
        <p:spPr>
          <a:xfrm flipV="1">
            <a:off x="921960" y="2321640"/>
            <a:ext cx="337320" cy="213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 flipV="1">
            <a:off x="762120" y="644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17" name=""/>
          <p:cNvCxnSpPr>
            <a:stCxn id="289" idx="4"/>
            <a:endCxn id="290" idx="0"/>
          </p:cNvCxnSpPr>
          <p:nvPr/>
        </p:nvCxnSpPr>
        <p:spPr>
          <a:xfrm flipH="1" rot="16200000">
            <a:off x="3253320" y="2878560"/>
            <a:ext cx="501120" cy="1566000"/>
          </a:xfrm>
          <a:prstGeom prst="bentConnector3">
            <a:avLst>
              <a:gd name="adj1" fmla="val 478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289" idx="4"/>
            <a:endCxn id="310" idx="0"/>
          </p:cNvCxnSpPr>
          <p:nvPr/>
        </p:nvCxnSpPr>
        <p:spPr>
          <a:xfrm flipH="1" rot="16200000">
            <a:off x="3777840" y="2352960"/>
            <a:ext cx="513720" cy="2629800"/>
          </a:xfrm>
          <a:prstGeom prst="bentConnector3">
            <a:avLst>
              <a:gd name="adj1" fmla="val 479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289" idx="4"/>
            <a:endCxn id="324" idx="6"/>
          </p:cNvCxnSpPr>
          <p:nvPr/>
        </p:nvCxnSpPr>
        <p:spPr>
          <a:xfrm flipV="1" rot="16200000">
            <a:off x="1978560" y="2668680"/>
            <a:ext cx="20880" cy="1464120"/>
          </a:xfrm>
          <a:prstGeom prst="bentConnector4">
            <a:avLst>
              <a:gd name="adj1" fmla="val -1180701"/>
              <a:gd name="adj2" fmla="val 702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24" idx="4"/>
            <a:endCxn id="326" idx="0"/>
          </p:cNvCxnSpPr>
          <p:nvPr/>
        </p:nvCxnSpPr>
        <p:spPr>
          <a:xfrm flipH="1" rot="16200000">
            <a:off x="684360" y="3924000"/>
            <a:ext cx="64836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24" idx="4"/>
            <a:endCxn id="328" idx="0"/>
          </p:cNvCxnSpPr>
          <p:nvPr/>
        </p:nvCxnSpPr>
        <p:spPr>
          <a:xfrm flipH="1" rot="16200000">
            <a:off x="1160280" y="3449160"/>
            <a:ext cx="657720" cy="1226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22" name=""/>
          <p:cNvGrpSpPr/>
          <p:nvPr/>
        </p:nvGrpSpPr>
        <p:grpSpPr>
          <a:xfrm>
            <a:off x="2946240" y="5194440"/>
            <a:ext cx="152640" cy="457200"/>
            <a:chOff x="2946240" y="5194440"/>
            <a:chExt cx="152640" cy="457200"/>
          </a:xfrm>
        </p:grpSpPr>
        <p:sp>
          <p:nvSpPr>
            <p:cNvPr id="423" name=""/>
            <p:cNvSpPr/>
            <p:nvPr/>
          </p:nvSpPr>
          <p:spPr>
            <a:xfrm>
              <a:off x="2946240" y="51944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46240" y="56516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46240" y="51944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426" name=""/>
          <p:cNvCxnSpPr>
            <a:stCxn id="425" idx="0"/>
            <a:endCxn id="309" idx="4"/>
          </p:cNvCxnSpPr>
          <p:nvPr/>
        </p:nvCxnSpPr>
        <p:spPr>
          <a:xfrm flipH="1" flipV="1" rot="5400000">
            <a:off x="2824920" y="4806720"/>
            <a:ext cx="5086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/>
          <p:nvPr/>
        </p:nvCxnSpPr>
        <p:spPr>
          <a:xfrm flipH="1" rot="16200000">
            <a:off x="5294160" y="6621120"/>
            <a:ext cx="191160" cy="11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308" idx="2"/>
            <a:endCxn id="288" idx="2"/>
          </p:cNvCxnSpPr>
          <p:nvPr/>
        </p:nvCxnSpPr>
        <p:spPr>
          <a:xfrm flipV="1">
            <a:off x="4995360" y="3136680"/>
            <a:ext cx="35820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190440" y="4657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30" name=""/>
          <p:cNvCxnSpPr>
            <a:stCxn id="319" idx="1"/>
            <a:endCxn id="429" idx="0"/>
          </p:cNvCxnSpPr>
          <p:nvPr/>
        </p:nvCxnSpPr>
        <p:spPr>
          <a:xfrm rot="10800000">
            <a:off x="190440" y="4733280"/>
            <a:ext cx="76680" cy="6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930096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"/>
          <p:cNvSpPr/>
          <p:nvPr/>
        </p:nvSpPr>
        <p:spPr>
          <a:xfrm>
            <a:off x="343080" y="5143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"/>
          <p:cNvSpPr/>
          <p:nvPr/>
        </p:nvSpPr>
        <p:spPr>
          <a:xfrm>
            <a:off x="1104840" y="46004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34" name=""/>
          <p:cNvCxnSpPr>
            <a:stCxn id="320" idx="1"/>
            <a:endCxn id="432" idx="0"/>
          </p:cNvCxnSpPr>
          <p:nvPr/>
        </p:nvCxnSpPr>
        <p:spPr>
          <a:xfrm rot="10800000">
            <a:off x="342360" y="5295240"/>
            <a:ext cx="172080" cy="6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5" name=""/>
          <p:cNvCxnSpPr>
            <a:stCxn id="321" idx="1"/>
            <a:endCxn id="432" idx="1"/>
          </p:cNvCxnSpPr>
          <p:nvPr/>
        </p:nvCxnSpPr>
        <p:spPr>
          <a:xfrm rot="10800000">
            <a:off x="342360" y="5295240"/>
            <a:ext cx="17208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322" idx="1"/>
            <a:endCxn id="432" idx="1"/>
          </p:cNvCxnSpPr>
          <p:nvPr/>
        </p:nvCxnSpPr>
        <p:spPr>
          <a:xfrm rot="10800000">
            <a:off x="342360" y="5295240"/>
            <a:ext cx="172080" cy="681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323" idx="1"/>
            <a:endCxn id="432" idx="1"/>
          </p:cNvCxnSpPr>
          <p:nvPr/>
        </p:nvCxnSpPr>
        <p:spPr>
          <a:xfrm rot="10800000">
            <a:off x="342360" y="5295240"/>
            <a:ext cx="172080" cy="10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32" idx="0"/>
            <a:endCxn id="433" idx="0"/>
          </p:cNvCxnSpPr>
          <p:nvPr/>
        </p:nvCxnSpPr>
        <p:spPr>
          <a:xfrm flipH="1" flipV="1" rot="5400000">
            <a:off x="528480" y="4566960"/>
            <a:ext cx="391320" cy="762480"/>
          </a:xfrm>
          <a:prstGeom prst="bentConnector3">
            <a:avLst>
              <a:gd name="adj1" fmla="val 20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10" idx="2"/>
            <a:endCxn id="388" idx="2"/>
          </p:cNvCxnSpPr>
          <p:nvPr/>
        </p:nvCxnSpPr>
        <p:spPr>
          <a:xfrm flipV="1" rot="10800000">
            <a:off x="3523680" y="971280"/>
            <a:ext cx="400680" cy="1085040"/>
          </a:xfrm>
          <a:prstGeom prst="bentConnector3">
            <a:avLst>
              <a:gd name="adj1" fmla="val 152338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"/>
          <p:cNvSpPr/>
          <p:nvPr/>
        </p:nvSpPr>
        <p:spPr>
          <a:xfrm>
            <a:off x="9316800" y="190440"/>
            <a:ext cx="416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460880" y="182520"/>
            <a:ext cx="7365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4" name=""/>
          <p:cNvSpPr/>
          <p:nvPr/>
        </p:nvSpPr>
        <p:spPr>
          <a:xfrm>
            <a:off x="4257720" y="280044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"/>
          <p:cNvSpPr/>
          <p:nvPr/>
        </p:nvSpPr>
        <p:spPr>
          <a:xfrm>
            <a:off x="2247840" y="2952720"/>
            <a:ext cx="1208160" cy="1166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46" name=""/>
          <p:cNvCxnSpPr>
            <a:stCxn id="445" idx="6"/>
            <a:endCxn id="444" idx="2"/>
          </p:cNvCxnSpPr>
          <p:nvPr/>
        </p:nvCxnSpPr>
        <p:spPr>
          <a:xfrm>
            <a:off x="3474720" y="3537000"/>
            <a:ext cx="754920" cy="8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 flipH="1">
            <a:off x="4387680" y="1181160"/>
            <a:ext cx="1208160" cy="1165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361680" y="1238400"/>
            <a:ext cx="6966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ะสู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443760" y="1600200"/>
            <a:ext cx="6098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143520" y="1924200"/>
            <a:ext cx="9784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ินิพพาน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304520" y="4915080"/>
            <a:ext cx="1359000" cy="1317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างพระ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ศาสน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8383680" y="5619600"/>
            <a:ext cx="10123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8372880" y="5905440"/>
            <a:ext cx="10882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8356680" y="6173640"/>
            <a:ext cx="11476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340120" y="6438960"/>
            <a:ext cx="13168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814440" y="5991120"/>
            <a:ext cx="1653840" cy="55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ะวัติเบื้องต้น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57" name=""/>
          <p:cNvCxnSpPr>
            <a:stCxn id="451" idx="2"/>
            <a:endCxn id="456" idx="1"/>
          </p:cNvCxnSpPr>
          <p:nvPr/>
        </p:nvCxnSpPr>
        <p:spPr>
          <a:xfrm>
            <a:off x="5682960" y="5573880"/>
            <a:ext cx="1360800" cy="699120"/>
          </a:xfrm>
          <a:prstGeom prst="bentConnector3">
            <a:avLst>
              <a:gd name="adj1" fmla="val 4924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6" idx="3"/>
          </p:cNvCxnSpPr>
          <p:nvPr/>
        </p:nvCxnSpPr>
        <p:spPr>
          <a:xfrm flipV="1" rot="10800000">
            <a:off x="8242200" y="6066360"/>
            <a:ext cx="255960" cy="205560"/>
          </a:xfrm>
          <a:prstGeom prst="bentConnector3">
            <a:avLst>
              <a:gd name="adj1" fmla="val 502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4" idx="1"/>
            <a:endCxn id="456" idx="3"/>
          </p:cNvCxnSpPr>
          <p:nvPr/>
        </p:nvCxnSpPr>
        <p:spPr>
          <a:xfrm rot="10800000">
            <a:off x="8242200" y="6271560"/>
            <a:ext cx="255960" cy="64080"/>
          </a:xfrm>
          <a:prstGeom prst="bentConnector3">
            <a:avLst>
              <a:gd name="adj1" fmla="val 502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5" idx="1"/>
            <a:endCxn id="456" idx="3"/>
          </p:cNvCxnSpPr>
          <p:nvPr/>
        </p:nvCxnSpPr>
        <p:spPr>
          <a:xfrm rot="10800000">
            <a:off x="8242200" y="6271560"/>
            <a:ext cx="255960" cy="329040"/>
          </a:xfrm>
          <a:prstGeom prst="bentConnector3">
            <a:avLst>
              <a:gd name="adj1" fmla="val 502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406080" y="3695760"/>
            <a:ext cx="1629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ngsana New"/>
              </a:rPr>
              <a:t>สุวัณณสามชาด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"/>
          <p:cNvSpPr/>
          <p:nvPr/>
        </p:nvSpPr>
        <p:spPr>
          <a:xfrm>
            <a:off x="590040" y="4152960"/>
            <a:ext cx="14220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ngsana New"/>
              </a:rPr>
              <a:t>วัณณุปถชาด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63" name=""/>
          <p:cNvCxnSpPr>
            <a:stCxn id="445" idx="2"/>
            <a:endCxn id="462" idx="3"/>
          </p:cNvCxnSpPr>
          <p:nvPr/>
        </p:nvCxnSpPr>
        <p:spPr>
          <a:xfrm flipV="1" rot="10800000">
            <a:off x="1801080" y="3535920"/>
            <a:ext cx="427680" cy="794520"/>
          </a:xfrm>
          <a:prstGeom prst="bentConnector3">
            <a:avLst>
              <a:gd name="adj1" fmla="val 475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45" idx="2"/>
            <a:endCxn id="461" idx="3"/>
          </p:cNvCxnSpPr>
          <p:nvPr/>
        </p:nvCxnSpPr>
        <p:spPr>
          <a:xfrm flipV="1" rot="10800000">
            <a:off x="1801080" y="3535920"/>
            <a:ext cx="427680" cy="337320"/>
          </a:xfrm>
          <a:prstGeom prst="bentConnector3">
            <a:avLst>
              <a:gd name="adj1" fmla="val 475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2" idx="1"/>
          </p:cNvCxnSpPr>
          <p:nvPr/>
        </p:nvCxnSpPr>
        <p:spPr>
          <a:xfrm flipV="1">
            <a:off x="8242200" y="5780880"/>
            <a:ext cx="254880" cy="491400"/>
          </a:xfrm>
          <a:prstGeom prst="bentConnector3">
            <a:avLst>
              <a:gd name="adj1" fmla="val 493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47" idx="4"/>
            <a:endCxn id="444" idx="0"/>
          </p:cNvCxnSpPr>
          <p:nvPr/>
        </p:nvCxnSpPr>
        <p:spPr>
          <a:xfrm flipH="1">
            <a:off x="4988880" y="2364840"/>
            <a:ext cx="3960" cy="407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47" idx="6"/>
            <a:endCxn id="448" idx="3"/>
          </p:cNvCxnSpPr>
          <p:nvPr/>
        </p:nvCxnSpPr>
        <p:spPr>
          <a:xfrm rot="10800000">
            <a:off x="3996720" y="1399320"/>
            <a:ext cx="373680" cy="364320"/>
          </a:xfrm>
          <a:prstGeom prst="bentConnector3">
            <a:avLst>
              <a:gd name="adj1" fmla="val 476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47" idx="6"/>
            <a:endCxn id="449" idx="3"/>
          </p:cNvCxnSpPr>
          <p:nvPr/>
        </p:nvCxnSpPr>
        <p:spPr>
          <a:xfrm rot="10800000">
            <a:off x="3990240" y="1761480"/>
            <a:ext cx="380160" cy="2160"/>
          </a:xfrm>
          <a:prstGeom prst="bentConnector3">
            <a:avLst>
              <a:gd name="adj1" fmla="val 476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47" idx="6"/>
            <a:endCxn id="450" idx="3"/>
          </p:cNvCxnSpPr>
          <p:nvPr/>
        </p:nvCxnSpPr>
        <p:spPr>
          <a:xfrm flipV="1" rot="10800000">
            <a:off x="4007880" y="1762560"/>
            <a:ext cx="362520" cy="322920"/>
          </a:xfrm>
          <a:prstGeom prst="bentConnector3">
            <a:avLst>
              <a:gd name="adj1" fmla="val 477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51" idx="0"/>
            <a:endCxn id="444" idx="4"/>
          </p:cNvCxnSpPr>
          <p:nvPr/>
        </p:nvCxnSpPr>
        <p:spPr>
          <a:xfrm flipV="1">
            <a:off x="4984560" y="4317480"/>
            <a:ext cx="5400" cy="578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9322920" y="190440"/>
            <a:ext cx="4039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2" name=""/>
          <p:cNvSpPr/>
          <p:nvPr/>
        </p:nvSpPr>
        <p:spPr>
          <a:xfrm>
            <a:off x="6591240" y="3000240"/>
            <a:ext cx="1079640" cy="10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ชาติไทย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73" name=""/>
          <p:cNvCxnSpPr>
            <a:stCxn id="472" idx="2"/>
            <a:endCxn id="444" idx="6"/>
          </p:cNvCxnSpPr>
          <p:nvPr/>
        </p:nvCxnSpPr>
        <p:spPr>
          <a:xfrm flipH="1">
            <a:off x="5749560" y="3539880"/>
            <a:ext cx="822960" cy="5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825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"/>
          <p:cNvSpPr/>
          <p:nvPr/>
        </p:nvSpPr>
        <p:spPr>
          <a:xfrm>
            <a:off x="9320040" y="190440"/>
            <a:ext cx="4132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๐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11920" y="182520"/>
            <a:ext cx="7461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ธรรม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-88200" y="747720"/>
            <a:ext cx="9960120" cy="6224760"/>
            <a:chOff x="-88200" y="747720"/>
            <a:chExt cx="9960120" cy="6224760"/>
          </a:xfrm>
        </p:grpSpPr>
        <p:sp>
          <p:nvSpPr>
            <p:cNvPr id="479" name=""/>
            <p:cNvSpPr/>
            <p:nvPr/>
          </p:nvSpPr>
          <p:spPr>
            <a:xfrm>
              <a:off x="3924360" y="2881080"/>
              <a:ext cx="1600200" cy="15890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</a:rPr>
                <a:t>พระธรรม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65560" y="4979880"/>
              <a:ext cx="1120680" cy="1101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ไตรปิฎ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78000" y="6310080"/>
              <a:ext cx="167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แนะนำ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90720" y="6297480"/>
              <a:ext cx="21567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เรื่องน่ารู้จาก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0680" y="6678360"/>
              <a:ext cx="17208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พระสารีบุตรโปรดมารด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71880" y="3109680"/>
              <a:ext cx="1143000" cy="112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พุทธศาสน</a:t>
              </a: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สุภาษิต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9040" y="3109680"/>
              <a:ext cx="1295640" cy="8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อตฺตา  หิ  อตฺตโน  นาโถ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ตนแลเป็นที่พึ่งของต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88200" y="3719520"/>
              <a:ext cx="2095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มาตา  มิตฺตํ  สเก  ฆเร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มารดาเป็นมิตรในเรือนของต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53240" y="4862520"/>
              <a:ext cx="65700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สมณะ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30200" y="4405320"/>
              <a:ext cx="8323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ะภิกษุ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360" y="5319720"/>
              <a:ext cx="8978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าหมณ์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67440" y="3128760"/>
              <a:ext cx="1209600" cy="1123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ศัพท์ทา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พุทธศาสนา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75560" y="5776920"/>
              <a:ext cx="4939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ฤๅษี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469560" y="988920"/>
              <a:ext cx="8690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เบญจศีล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8047080" y="747720"/>
              <a:ext cx="10472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เบญจธรรม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8056080" y="1052280"/>
              <a:ext cx="11156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500" spc="-1" strike="noStrike">
                  <a:solidFill>
                    <a:srgbClr val="000000"/>
                  </a:solidFill>
                  <a:latin typeface="Angsana New"/>
                </a:rPr>
                <a:t>สังคหวัตถุ ๔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986240" y="1357200"/>
              <a:ext cx="13244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ตัญญูกตเวที 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ต่อพ่อ </a:t>
              </a:r>
              <a:r>
                <a:rPr b="0" lang="en-US" sz="15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แม่ 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และครอบครัว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152960" y="1204920"/>
              <a:ext cx="1147680" cy="1143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โอวาท ๓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36960" y="976320"/>
              <a:ext cx="838440" cy="339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</a:rPr>
                <a:t>ไม่ทำชั่ว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699880" y="1509480"/>
              <a:ext cx="993960" cy="339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</a:rPr>
                <a:t>ทำความดี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637240" y="2043000"/>
              <a:ext cx="1451160" cy="339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</a:rPr>
                <a:t>ทำจิตให้บริสุทธิ์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8092440" y="1944360"/>
              <a:ext cx="9025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มงคล ๓๘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77000" y="2195280"/>
              <a:ext cx="6480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ทำตัวดี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580240" y="2403360"/>
              <a:ext cx="5929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ว่าง่าย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568360" y="2609640"/>
              <a:ext cx="9115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รับใช้พ่อแม่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621920" y="3400200"/>
              <a:ext cx="18518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วดมนต์และแผ่เมตต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597440" y="3643200"/>
              <a:ext cx="227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รู้ความหมายและประโยชน์ของ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542720" y="3897000"/>
              <a:ext cx="22406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ฟังเพลงและร้องเพลงอย่างมี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647840" y="4149720"/>
              <a:ext cx="17514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ล่นและทำงานอย่างมี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886160" y="4476600"/>
              <a:ext cx="1523880" cy="8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ให้มีสติในการฟัง การอ่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คิด  การถาม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เขีย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และการทำง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34120" y="2576520"/>
              <a:ext cx="1285920" cy="685800"/>
            </a:xfrm>
            <a:prstGeom prst="hexagon">
              <a:avLst>
                <a:gd name="adj" fmla="val 4687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การบริหารจิต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ละเจริญปัญญ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10" name=""/>
            <p:cNvCxnSpPr>
              <a:stCxn id="496" idx="2"/>
              <a:endCxn id="497" idx="1"/>
            </p:cNvCxnSpPr>
            <p:nvPr/>
          </p:nvCxnSpPr>
          <p:spPr>
            <a:xfrm flipV="1">
              <a:off x="5321160" y="1150200"/>
              <a:ext cx="510480" cy="626040"/>
            </a:xfrm>
            <a:prstGeom prst="bentConnector3">
              <a:avLst>
                <a:gd name="adj1" fmla="val 479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1" name=""/>
            <p:cNvCxnSpPr>
              <a:stCxn id="496" idx="2"/>
              <a:endCxn id="498" idx="1"/>
            </p:cNvCxnSpPr>
            <p:nvPr/>
          </p:nvCxnSpPr>
          <p:spPr>
            <a:xfrm flipV="1">
              <a:off x="5321160" y="1683720"/>
              <a:ext cx="510480" cy="92880"/>
            </a:xfrm>
            <a:prstGeom prst="bentConnector3">
              <a:avLst>
                <a:gd name="adj1" fmla="val 479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2" name=""/>
            <p:cNvCxnSpPr>
              <a:stCxn id="496" idx="2"/>
              <a:endCxn id="499" idx="1"/>
            </p:cNvCxnSpPr>
            <p:nvPr/>
          </p:nvCxnSpPr>
          <p:spPr>
            <a:xfrm>
              <a:off x="5321160" y="1776240"/>
              <a:ext cx="510480" cy="442080"/>
            </a:xfrm>
            <a:prstGeom prst="bentConnector3">
              <a:avLst>
                <a:gd name="adj1" fmla="val 476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3" name=""/>
            <p:cNvCxnSpPr>
              <a:stCxn id="497" idx="3"/>
              <a:endCxn id="492" idx="1"/>
            </p:cNvCxnSpPr>
            <p:nvPr/>
          </p:nvCxnSpPr>
          <p:spPr>
            <a:xfrm>
              <a:off x="6481800" y="1150560"/>
              <a:ext cx="1101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4" name=""/>
            <p:cNvCxnSpPr>
              <a:stCxn id="498" idx="3"/>
              <a:endCxn id="493" idx="1"/>
            </p:cNvCxnSpPr>
            <p:nvPr/>
          </p:nvCxnSpPr>
          <p:spPr>
            <a:xfrm flipV="1">
              <a:off x="6564240" y="909000"/>
              <a:ext cx="1627920" cy="775440"/>
            </a:xfrm>
            <a:prstGeom prst="bentConnector3">
              <a:avLst>
                <a:gd name="adj1" fmla="val 864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498" idx="3"/>
              <a:endCxn id="494" idx="1"/>
            </p:cNvCxnSpPr>
            <p:nvPr/>
          </p:nvCxnSpPr>
          <p:spPr>
            <a:xfrm flipV="1">
              <a:off x="6563880" y="1213560"/>
              <a:ext cx="1629720" cy="470520"/>
            </a:xfrm>
            <a:prstGeom prst="bentConnector3">
              <a:avLst>
                <a:gd name="adj1" fmla="val 8643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stCxn id="498" idx="3"/>
              <a:endCxn id="495" idx="1"/>
            </p:cNvCxnSpPr>
            <p:nvPr/>
          </p:nvCxnSpPr>
          <p:spPr>
            <a:xfrm flipV="1">
              <a:off x="6564240" y="1677240"/>
              <a:ext cx="1627920" cy="6840"/>
            </a:xfrm>
            <a:prstGeom prst="bentConnector3">
              <a:avLst>
                <a:gd name="adj1" fmla="val 4994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7" name=""/>
            <p:cNvCxnSpPr>
              <a:stCxn id="498" idx="3"/>
              <a:endCxn id="500" idx="1"/>
            </p:cNvCxnSpPr>
            <p:nvPr/>
          </p:nvCxnSpPr>
          <p:spPr>
            <a:xfrm>
              <a:off x="6564240" y="1683720"/>
              <a:ext cx="1627920" cy="423000"/>
            </a:xfrm>
            <a:prstGeom prst="bentConnector3">
              <a:avLst>
                <a:gd name="adj1" fmla="val 866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8" name=""/>
            <p:cNvCxnSpPr>
              <a:stCxn id="499" idx="2"/>
              <a:endCxn id="509" idx="1"/>
            </p:cNvCxnSpPr>
            <p:nvPr/>
          </p:nvCxnSpPr>
          <p:spPr>
            <a:xfrm flipH="1" rot="16200000">
              <a:off x="6485760" y="2270520"/>
              <a:ext cx="527760" cy="770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09" idx="2"/>
              <a:endCxn id="505" idx="1"/>
            </p:cNvCxnSpPr>
            <p:nvPr/>
          </p:nvCxnSpPr>
          <p:spPr>
            <a:xfrm flipH="1" rot="16200000">
              <a:off x="7568280" y="3470040"/>
              <a:ext cx="527760" cy="11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09" idx="2"/>
              <a:endCxn id="504" idx="1"/>
            </p:cNvCxnSpPr>
            <p:nvPr/>
          </p:nvCxnSpPr>
          <p:spPr>
            <a:xfrm flipH="1" rot="16200000">
              <a:off x="7689960" y="3348000"/>
              <a:ext cx="284400" cy="11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509" idx="2"/>
              <a:endCxn id="506" idx="1"/>
            </p:cNvCxnSpPr>
            <p:nvPr/>
          </p:nvCxnSpPr>
          <p:spPr>
            <a:xfrm flipH="1" rot="16200000">
              <a:off x="7440480" y="3597480"/>
              <a:ext cx="781560" cy="11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9" idx="2"/>
              <a:endCxn id="507" idx="1"/>
            </p:cNvCxnSpPr>
            <p:nvPr/>
          </p:nvCxnSpPr>
          <p:spPr>
            <a:xfrm flipH="1" rot="16200000">
              <a:off x="7315200" y="3723120"/>
              <a:ext cx="1033560" cy="11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9" idx="2"/>
              <a:endCxn id="508" idx="1"/>
            </p:cNvCxnSpPr>
            <p:nvPr/>
          </p:nvCxnSpPr>
          <p:spPr>
            <a:xfrm flipH="1" rot="16200000">
              <a:off x="7080840" y="3957120"/>
              <a:ext cx="1500840" cy="11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490" idx="4"/>
              <a:endCxn id="488" idx="1"/>
            </p:cNvCxnSpPr>
            <p:nvPr/>
          </p:nvCxnSpPr>
          <p:spPr>
            <a:xfrm flipH="1" rot="16200000">
              <a:off x="6609240" y="4334040"/>
              <a:ext cx="2739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490" idx="4"/>
              <a:endCxn id="487" idx="1"/>
            </p:cNvCxnSpPr>
            <p:nvPr/>
          </p:nvCxnSpPr>
          <p:spPr>
            <a:xfrm flipH="1" rot="16200000">
              <a:off x="6380640" y="4562640"/>
              <a:ext cx="7311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490" idx="4"/>
              <a:endCxn id="489" idx="1"/>
            </p:cNvCxnSpPr>
            <p:nvPr/>
          </p:nvCxnSpPr>
          <p:spPr>
            <a:xfrm flipH="1" rot="16200000">
              <a:off x="6152040" y="4791240"/>
              <a:ext cx="11883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490" idx="4"/>
              <a:endCxn id="491" idx="1"/>
            </p:cNvCxnSpPr>
            <p:nvPr/>
          </p:nvCxnSpPr>
          <p:spPr>
            <a:xfrm flipH="1" rot="16200000">
              <a:off x="5923440" y="5019840"/>
              <a:ext cx="16455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8" name=""/>
            <p:cNvCxnSpPr>
              <a:stCxn id="490" idx="2"/>
              <a:endCxn id="479" idx="6"/>
            </p:cNvCxnSpPr>
            <p:nvPr/>
          </p:nvCxnSpPr>
          <p:spPr>
            <a:xfrm flipH="1" flipV="1">
              <a:off x="5552640" y="3675960"/>
              <a:ext cx="496080" cy="151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480" idx="0"/>
              <a:endCxn id="479" idx="4"/>
            </p:cNvCxnSpPr>
            <p:nvPr/>
          </p:nvCxnSpPr>
          <p:spPr>
            <a:xfrm flipH="1" flipV="1">
              <a:off x="4723560" y="4498200"/>
              <a:ext cx="2520" cy="4626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484" idx="6"/>
              <a:endCxn id="479" idx="2"/>
            </p:cNvCxnSpPr>
            <p:nvPr/>
          </p:nvCxnSpPr>
          <p:spPr>
            <a:xfrm>
              <a:off x="3333240" y="3673440"/>
              <a:ext cx="562680" cy="36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1" name=""/>
            <p:cNvCxnSpPr>
              <a:stCxn id="496" idx="4"/>
              <a:endCxn id="479" idx="0"/>
            </p:cNvCxnSpPr>
            <p:nvPr/>
          </p:nvCxnSpPr>
          <p:spPr>
            <a:xfrm flipH="1">
              <a:off x="4723560" y="2366640"/>
              <a:ext cx="3960" cy="486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2" name=""/>
            <p:cNvCxnSpPr>
              <a:stCxn id="484" idx="2"/>
              <a:endCxn id="485" idx="3"/>
            </p:cNvCxnSpPr>
            <p:nvPr/>
          </p:nvCxnSpPr>
          <p:spPr>
            <a:xfrm rot="10800000">
              <a:off x="1713960" y="3355920"/>
              <a:ext cx="438840" cy="317880"/>
            </a:xfrm>
            <a:prstGeom prst="bentConnector3">
              <a:avLst>
                <a:gd name="adj1" fmla="val 4778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3" name=""/>
            <p:cNvCxnSpPr>
              <a:stCxn id="484" idx="2"/>
              <a:endCxn id="486" idx="3"/>
            </p:cNvCxnSpPr>
            <p:nvPr/>
          </p:nvCxnSpPr>
          <p:spPr>
            <a:xfrm flipV="1" rot="10800000">
              <a:off x="1723320" y="3672360"/>
              <a:ext cx="429480" cy="292680"/>
            </a:xfrm>
            <a:prstGeom prst="bentConnector3">
              <a:avLst>
                <a:gd name="adj1" fmla="val 477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4" name=""/>
            <p:cNvCxnSpPr>
              <a:stCxn id="480" idx="4"/>
              <a:endCxn id="481" idx="0"/>
            </p:cNvCxnSpPr>
            <p:nvPr/>
          </p:nvCxnSpPr>
          <p:spPr>
            <a:xfrm rot="5400000">
              <a:off x="4214880" y="5799600"/>
              <a:ext cx="210240" cy="812160"/>
            </a:xfrm>
            <a:prstGeom prst="bentConnector3">
              <a:avLst>
                <a:gd name="adj1" fmla="val 4528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5" name=""/>
            <p:cNvCxnSpPr>
              <a:stCxn id="480" idx="4"/>
              <a:endCxn id="482" idx="0"/>
            </p:cNvCxnSpPr>
            <p:nvPr/>
          </p:nvCxnSpPr>
          <p:spPr>
            <a:xfrm flipH="1" rot="16200000">
              <a:off x="5097960" y="5727240"/>
              <a:ext cx="197640" cy="943560"/>
            </a:xfrm>
            <a:prstGeom prst="bentConnector3">
              <a:avLst>
                <a:gd name="adj1" fmla="val 4507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6" name=""/>
            <p:cNvCxnSpPr>
              <a:stCxn id="482" idx="2"/>
              <a:endCxn id="483" idx="1"/>
            </p:cNvCxnSpPr>
            <p:nvPr/>
          </p:nvCxnSpPr>
          <p:spPr>
            <a:xfrm flipH="1" rot="16200000">
              <a:off x="5654880" y="6651000"/>
              <a:ext cx="189360" cy="161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7" name=""/>
            <p:cNvCxnSpPr>
              <a:stCxn id="500" idx="2"/>
              <a:endCxn id="501" idx="1"/>
            </p:cNvCxnSpPr>
            <p:nvPr/>
          </p:nvCxnSpPr>
          <p:spPr>
            <a:xfrm flipH="1" rot="16200000">
              <a:off x="8557920" y="2252880"/>
              <a:ext cx="75240" cy="105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8" name=""/>
            <p:cNvCxnSpPr>
              <a:stCxn id="500" idx="2"/>
              <a:endCxn id="502" idx="1"/>
            </p:cNvCxnSpPr>
            <p:nvPr/>
          </p:nvCxnSpPr>
          <p:spPr>
            <a:xfrm flipH="1" rot="16200000">
              <a:off x="8456400" y="2355120"/>
              <a:ext cx="281880" cy="107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9" name=""/>
            <p:cNvCxnSpPr>
              <a:stCxn id="500" idx="2"/>
              <a:endCxn id="503" idx="1"/>
            </p:cNvCxnSpPr>
            <p:nvPr/>
          </p:nvCxnSpPr>
          <p:spPr>
            <a:xfrm flipH="1" rot="16200000">
              <a:off x="8362080" y="2449800"/>
              <a:ext cx="4881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40" name=""/>
          <p:cNvSpPr/>
          <p:nvPr/>
        </p:nvSpPr>
        <p:spPr>
          <a:xfrm>
            <a:off x="932328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๑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16:34Z</dcterms:created>
  <dc:creator>amdk6</dc:creator>
  <dc:description/>
  <dc:language>en-US</dc:language>
  <cp:lastModifiedBy>Planning</cp:lastModifiedBy>
  <cp:lastPrinted>2002-07-20T08:04:35Z</cp:lastPrinted>
  <dcterms:modified xsi:type="dcterms:W3CDTF">2002-08-29T02:06:13Z</dcterms:modified>
  <cp:revision>921</cp:revision>
  <dc:subject/>
  <dc:title>ไม่มีชื่อเรื่องภาพนิ่ง</dc:title>
</cp:coreProperties>
</file>